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BC89-DC8E-452A-A76B-152B8A29666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 -mitja setm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2 -2 setmanes i mit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47 per setm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E2E1-D187-47CE-8D4B-987F7F060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903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9405-ED9F-4EC0-883F-921CB8F8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903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168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424A-F9C0-4760-8947-DA087D6E5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1540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44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9036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1540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44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77D5-98B1-4379-BD0E-C942EE75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5029-C8AF-495C-95F5-2D0F1069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154A-8B8C-4B8D-8CDA-D2D72BE2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2643-5AA7-4C40-B2D4-68ED885C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6E6C-B9DE-4A05-AA69-02D5B5DD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133720" y="228240"/>
            <a:ext cx="63244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F697-7BCD-477D-AE3C-8EE59397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94EB-8848-45CE-902E-A1223511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168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2CE4-38A5-4170-B21F-14C870B1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4B55-E1E0-44E4-AD40-AF7C6265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FECB-7C64-4C5A-B7EA-BFAE589AB115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95600" y="977760"/>
            <a:ext cx="29880" cy="24120"/>
          </a:xfrm>
          <a:custGeom>
            <a:avLst/>
            <a:gdLst/>
            <a:ahLst/>
            <a:rect l="l" t="t" r="r" b="b"/>
            <a:pathLst>
              <a:path w="74" h="61">
                <a:moveTo>
                  <a:pt x="74" y="33"/>
                </a:moveTo>
                <a:lnTo>
                  <a:pt x="74" y="33"/>
                </a:lnTo>
                <a:lnTo>
                  <a:pt x="60" y="0"/>
                </a:lnTo>
                <a:lnTo>
                  <a:pt x="0" y="61"/>
                </a:lnTo>
                <a:lnTo>
                  <a:pt x="30" y="30"/>
                </a:lnTo>
                <a:lnTo>
                  <a:pt x="74" y="3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95600" y="977760"/>
            <a:ext cx="23760" cy="2412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1"/>
                </a:moveTo>
                <a:lnTo>
                  <a:pt x="61" y="0"/>
                </a:lnTo>
                <a:lnTo>
                  <a:pt x="0" y="61"/>
                </a:lnTo>
                <a:lnTo>
                  <a:pt x="2" y="62"/>
                </a:lnTo>
                <a:lnTo>
                  <a:pt x="62" y="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695600" y="977760"/>
            <a:ext cx="23760" cy="24120"/>
          </a:xfrm>
          <a:custGeom>
            <a:avLst/>
            <a:gdLst/>
            <a:ahLst/>
            <a:rect l="l" t="t" r="r" b="b"/>
            <a:pathLst>
              <a:path w="62" h="61">
                <a:moveTo>
                  <a:pt x="0" y="60"/>
                </a:moveTo>
                <a:lnTo>
                  <a:pt x="2" y="61"/>
                </a:lnTo>
                <a:lnTo>
                  <a:pt x="32" y="30"/>
                </a:lnTo>
                <a:lnTo>
                  <a:pt x="62" y="0"/>
                </a:lnTo>
                <a:lnTo>
                  <a:pt x="2" y="61"/>
                </a:lnTo>
                <a:lnTo>
                  <a:pt x="0" y="6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695600" y="988920"/>
            <a:ext cx="29880" cy="12960"/>
          </a:xfrm>
          <a:custGeom>
            <a:avLst/>
            <a:gdLst/>
            <a:ahLst/>
            <a:rect l="l" t="t" r="r" b="b"/>
            <a:pathLst>
              <a:path w="74" h="33">
                <a:moveTo>
                  <a:pt x="0" y="33"/>
                </a:moveTo>
                <a:lnTo>
                  <a:pt x="0" y="33"/>
                </a:lnTo>
                <a:lnTo>
                  <a:pt x="74" y="0"/>
                </a:lnTo>
                <a:lnTo>
                  <a:pt x="30" y="2"/>
                </a:lnTo>
                <a:lnTo>
                  <a:pt x="0" y="3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841200" y="1843200"/>
            <a:ext cx="60480" cy="48960"/>
          </a:xfrm>
          <a:custGeom>
            <a:avLst/>
            <a:gdLst/>
            <a:ahLst/>
            <a:rect l="l" t="t" r="r" b="b"/>
            <a:pathLst>
              <a:path w="76" h="63">
                <a:moveTo>
                  <a:pt x="76" y="34"/>
                </a:moveTo>
                <a:lnTo>
                  <a:pt x="76" y="34"/>
                </a:lnTo>
                <a:lnTo>
                  <a:pt x="62" y="0"/>
                </a:lnTo>
                <a:lnTo>
                  <a:pt x="0" y="63"/>
                </a:lnTo>
                <a:lnTo>
                  <a:pt x="31" y="31"/>
                </a:lnTo>
                <a:lnTo>
                  <a:pt x="76" y="3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2839760" y="1841400"/>
            <a:ext cx="50760" cy="50760"/>
          </a:xfrm>
          <a:custGeom>
            <a:avLst/>
            <a:gdLst/>
            <a:ahLst/>
            <a:rect l="l" t="t" r="r" b="b"/>
            <a:pathLst>
              <a:path w="63" h="64">
                <a:moveTo>
                  <a:pt x="63" y="1"/>
                </a:moveTo>
                <a:lnTo>
                  <a:pt x="62" y="0"/>
                </a:lnTo>
                <a:lnTo>
                  <a:pt x="0" y="62"/>
                </a:lnTo>
                <a:lnTo>
                  <a:pt x="1" y="64"/>
                </a:lnTo>
                <a:lnTo>
                  <a:pt x="63" y="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2839760" y="1843200"/>
            <a:ext cx="50760" cy="48960"/>
          </a:xfrm>
          <a:custGeom>
            <a:avLst/>
            <a:gdLst/>
            <a:ahLst/>
            <a:rect l="l" t="t" r="r" b="b"/>
            <a:pathLst>
              <a:path w="63" h="63">
                <a:moveTo>
                  <a:pt x="0" y="61"/>
                </a:moveTo>
                <a:lnTo>
                  <a:pt x="1" y="63"/>
                </a:lnTo>
                <a:lnTo>
                  <a:pt x="32" y="31"/>
                </a:lnTo>
                <a:lnTo>
                  <a:pt x="63" y="0"/>
                </a:lnTo>
                <a:lnTo>
                  <a:pt x="1" y="63"/>
                </a:lnTo>
                <a:lnTo>
                  <a:pt x="0" y="6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2841200" y="1865160"/>
            <a:ext cx="60480" cy="27000"/>
          </a:xfrm>
          <a:custGeom>
            <a:avLst/>
            <a:gdLst/>
            <a:ahLst/>
            <a:rect l="l" t="t" r="r" b="b"/>
            <a:pathLst>
              <a:path w="76" h="34">
                <a:moveTo>
                  <a:pt x="0" y="34"/>
                </a:moveTo>
                <a:lnTo>
                  <a:pt x="0" y="34"/>
                </a:lnTo>
                <a:lnTo>
                  <a:pt x="76" y="0"/>
                </a:lnTo>
                <a:lnTo>
                  <a:pt x="31" y="2"/>
                </a:lnTo>
                <a:lnTo>
                  <a:pt x="0" y="3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ogramación de Computadoras I</a:t>
            </a:r>
            <a:br>
              <a:rPr sz="4400"/>
            </a:b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ema 3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ent-Ramon Palasí Lal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ADC3-259E-44D7-86C1-68E39D6136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Notación tradicional o notación exponencial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write(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&lt;expresión entera&gt;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) escribe siempre la notación exponen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: write(0.5) escribe 5E-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la notación tradicional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write(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&lt;expresión entera&gt;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0: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&lt;decimales&gt;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: x:=78.2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x:0:1)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7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x:0:2)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78.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x:0:0)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89680" y="4994280"/>
            <a:ext cx="367344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ENCIÓN CON EL REDONDE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3127-690A-4BC0-9428-A9BC8A9531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plicar qué produce por pantalla, el siguiente progra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gram real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ero: re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ero:=30.28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El numero es ‘,  numer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5*numero:0: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3.285:0: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3.285:0: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3.285:0: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9274-48DA-4D74-9A46-894C6667F4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2133720"/>
            <a:ext cx="3429000" cy="190476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7056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7080" y="4572000"/>
            <a:ext cx="33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30.285 por 5 es 151.425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12600" y="2098800"/>
            <a:ext cx="319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número es 3.0285E0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2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28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DB8A-6747-4557-8798-1FA13F3268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peraciones del tipo de datos real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eraciones con reales que dan resultado r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ma: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ta: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ducto: 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visión: 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confundir con div y m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4200" y="2784600"/>
            <a:ext cx="54385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LERTA: LA DIVISIÓN POR CERO E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CORREC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1C2F-CCA3-4FC8-93F4-A9375E0B48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pongamos una expresión con tipos enteros y reales a la ve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1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2: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1:=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2:=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num1*4+num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De qué tipo es la expresió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6814-F3F0-4C79-AE65-8DB0837D70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Respues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. Siempre que en una expresión haya  enteros y reales, la expresión es r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lógico. Por ejemplo, la expresión anterior da 9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fuera entera, tendríamos que redondear a 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es real, es 9.5. Esto parece más conven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B87D-2B58-49E0-B284-09213F0CA7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rden de preferenci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Qué calcula la expresión “2+3*4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+3=5, 5*4 =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*4=12, 2+12=14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iferencia está en el orden en que se calculan las oper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el primer caso, la suma se calcula primero, el producto despué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el segundo caso, el producto primero, la suma despu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Qué orden sigue Pascal al calcular las operac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114A-294A-431F-B942-D5D8E7B58E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rden de preferencia de Pascal para operaciones numérica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imero, operaciones entre parénte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pués, menos unita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pués, *,/, div, m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pués, +,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son dos operaciones de la misma preferencia, se calcula primero la que esté más a la izquier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0E28-C225-40BB-8914-D36B0EDD7B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plicando las reglas de  preferenci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í, 2+3*4 sería 3*4=12 y 2+12=1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 queremos que se calcule 1º la suma, usamos los paréntesis: (2+3)*4 =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EFC8-7F6D-49B0-87E1-FF50BA5E18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resultado dan las siguientes expresiones? ¿Por qué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+2*3+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+4 div 2+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1+2)*3+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1+2)*(3+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+(2*3)+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+((2+3)*(4+5))+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8085-3904-4755-BC47-3B1E5A6D6A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ema 3: Tipos de dato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6A70-1CC0-4256-BDD5-AD5B724CCC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onclus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paréntesis sirven para cuando queramos que las operaciones se ejecuten en un orden de preferencia distinto del habitu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í, 2+3*4 sería 3*4=12 y 2+12=1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queremos que se calcule 1º la suma, usamos los paréntesis: (2+3)*4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paréntesis más interiores tienen preferencia sobre las exteri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EC3E-4A88-4BA6-9EA2-B315E6C393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ipo de datos carácter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tipo de datos carácter comprende los caracteres (letras, dígitos o símbolos del teclado): ‘a’,...,’z’, ‘A’,...,’Z’,’0’,..., ‘9’,’?’,’!’,’*’,’=‘, ‘&amp;’,’%’,’$’,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valores de tipo carácter van encerrados entre comill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declarar variables tipo carácte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nombrevariable&gt;: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09D9-CACC-4E3E-9562-B6A56A62BB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Un ejemplo de programa con el tipo carácter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trivia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racter: ch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Escribe un carácter ‘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caráct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l carácter repetido 3 veces es ‘, caracter, caracter, carac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637A-FC22-4E3D-8A7B-1A72B90B79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Resultado de este program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133720"/>
            <a:ext cx="5105520" cy="243828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59840" y="2098800"/>
            <a:ext cx="48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cribe un carácter 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carácter repetido tres veces es BB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D270-20BB-43B4-9632-B65872E8D9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Tipo de datos boolean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prende los dos valores de la lógica tradicional (verdadero, falso): TRUE, FA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declarar una variable booleana: &lt;nombrevariable&gt;: boo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rve para hacer comparaciones entre da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9BF2-21EB-4D89-B1A5-2906545BD4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Operaciones que dan resultado boolean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eraciones con enteros, reales o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ractere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que dan resultado booleano: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=, &lt;, &gt;,&lt;=,&gt;=, &lt;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eraciones con booleanos que dan resultado booleano: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“y” lógi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“o lógico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“no” lógi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072F-2E9E-4C70-9E4F-F4565B52BF6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peraciones lógica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ot TRUE es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ot FALSE es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RUE and TRUE es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RUE and FALSE es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ALSE and TRUE es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ALSE and FALSE es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RUE or TRUE es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RUE or FALSE es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ALSE or TRUE es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ALSE or FALSE es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F98F-D603-4052-9CA2-30A73E2023F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un programa que te pida un booleano y que escriba su contrario por pantalla. El contrario de TRUE es FALSE y vicever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441F-10A8-4A7D-BEC8-B2AB2C5568F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contrari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Booleano: boolea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scribe un booleano ‘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ValorBoolean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l contario es ‘, not ValorBoolea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979F-97CE-4A01-8363-ECA67DB9124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Qué hubiera pasado si cuando nos pide el valor por el “readln” hubieramos introducido “verdadero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F7F6-9132-4BDB-B0ED-4932AA6A0FC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Repaso de variabl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s: “cajitas que guardan dato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y variables de diferentes tipos como hay cajitas de diferentes tip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cada tipo de variables “cabe” sólo un tipo de da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828800" y="5562360"/>
            <a:ext cx="1066680" cy="914760"/>
            <a:chOff x="1828800" y="5562360"/>
            <a:chExt cx="1066680" cy="914760"/>
          </a:xfrm>
        </p:grpSpPr>
        <p:sp>
          <p:nvSpPr>
            <p:cNvPr id="62" name=""/>
            <p:cNvSpPr/>
            <p:nvPr/>
          </p:nvSpPr>
          <p:spPr>
            <a:xfrm>
              <a:off x="1828800" y="5791320"/>
              <a:ext cx="76212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1828800" y="5562360"/>
              <a:ext cx="45720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590920" y="5562360"/>
              <a:ext cx="30456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2590920" y="6171840"/>
              <a:ext cx="304560" cy="304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86000" y="5562720"/>
              <a:ext cx="609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95480" y="5562720"/>
              <a:ext cx="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4114800" y="5562720"/>
            <a:ext cx="1143000" cy="914400"/>
            <a:chOff x="4114800" y="5562720"/>
            <a:chExt cx="1143000" cy="914400"/>
          </a:xfrm>
        </p:grpSpPr>
        <p:sp>
          <p:nvSpPr>
            <p:cNvPr id="69" name=""/>
            <p:cNvSpPr/>
            <p:nvPr/>
          </p:nvSpPr>
          <p:spPr>
            <a:xfrm flipH="1">
              <a:off x="4114800" y="5715360"/>
              <a:ext cx="380880" cy="7617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14800" y="6477120"/>
              <a:ext cx="7621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95680" y="5715360"/>
              <a:ext cx="381240" cy="7617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4495680" y="5562720"/>
              <a:ext cx="381240" cy="152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876920" y="6324480"/>
              <a:ext cx="380880" cy="1522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00600" y="5562720"/>
              <a:ext cx="380880" cy="8384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CA02-5C65-4DAA-8A9A-C638FD9F1A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Respues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programa se hubiera detenido y hubiera mostrado un mensaje de error, ya que “verdadero” no es un valor boole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n general, en readln(&lt;nombrevariable&gt;) si no introducimos un valor del mismo tipo de la variable, da err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44B1-F6C2-4512-8777-8EA54FA9D62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a que dados dos números escriba TRUE si el primero es menor o igual que el segundo o FALSE en caso contra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8A32-6AA6-4A1C-83AE-76FBEE01B83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MenorOIgua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1,numero2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ntra el primer número ‘); readln(numero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ntra el segundo número ‘); readln(numero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numero1&lt;=numero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770D-94F5-4873-B09B-85E165005C0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a que dadas dos letras nos diga  TRUE si la primera está delante de la segunda en el alfabeto o FALSE en caso contra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835D-4F64-4D86-9050-946D4617023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OrdenAlfabet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tra1,letra2: ch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ntra la primera letra ‘); readln(letra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ntra la segunda letra ‘); readln(letra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letra1&lt; letra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FA56-2191-4F80-9E32-E760A0FDD61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Orden de preferencia para operaciones con resultado boolean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imero, operaciones entre parénte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pués, n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pués, 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pués, or, x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pués, &lt;, &gt;, &lt;=, &gt;=, &lt;&gt;, =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son dos operaciones de la misma preferencia, se calcula primero la que esté más a la izquier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9266-151B-43ED-B466-521E4A2A93B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resultado dan las siguientes expresiones? ¿Por qué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RUE and FALSE or TRUE and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RUE or FALSE and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TRUE or FALSE) and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2303-94F4-4B59-8ACA-86CEFB0A958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dvertenci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iones incorrect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’ AND FALSE (and necesita dos operadores boolean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*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iones correct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‘a’=‘$’) AND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&lt;4) AND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9909-8FD0-48AB-855C-D5E5586D979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Necesidad de las constantes (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eces, dentro de un programa hay “valores” FIJOS que significan al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A:=0.13*precio_sin_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unferencia:=2*3.1415*ra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los casos anteri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13 no es cualquier 0.13, sino el porcentaje del 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1415 no es cualquier 3.1415 sino el valor d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A85B-C17E-4EDE-A9B1-6653C34748F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Necesidad de las constantes (I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vital que el papel que juegan estos valores quede clar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o hace más legible el progra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yuda a modificar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ría lograrse por medio de com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unferencia:=2*3.1415*ra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Aquí 3.1415 es el valor de pi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o sería muy laborioso hacerlo cada vez que aparec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 un cálcu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94FE-C133-43DD-B947-E2B0B7E3E53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ipos de dato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datos en la computadora pueden ser de diferente tipo: enteros, reales, carácter, etc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 variable entera sólo puede guardar un entero. Una variable de carácter sólo puede guardar un carác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tipo de datos que acepta una variable, se le llama “tipo” de la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31FD-0C43-41F8-8C6C-7C3ABA3A0F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Necesidad de las constantes (II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tra forma mejor es definir const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i=3.141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centajeIVA=0.1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Y después, escribir las expresiones de la siguiente man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ircunferencia:=2*pi*ra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VA:=porcentajeIVA*precio_sin_IV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C483-38EE-4396-A3F0-F725276C45D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Ventajas de este métod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expresiones resultan más legi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e pueden producir errores de tipografía (por ejemplo, 0.15 en vez de 0.13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uno de los valores fijos varía, simplemente hay que hacer un único cambio en el progr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ida en el precio del impuesto: IVA=0.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itamos más precisión en los cálculos: pi=3.1415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26BA-FCD7-4E9F-BAC6-DE92C33295E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onstant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ores fijos (no cambian durante la ejecución del programa) a los que damos un nombre para poder manejarlos mej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cen el programa más legible y más fácil de modific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F3BA-E4F8-4ACB-BF6B-FA8CDCA5C6B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structura de un programa con constant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&lt;nombre programa&gt;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&lt;declaración de constante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&lt;declaración de variable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&lt;instruccione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BBDF-2FE2-4BF6-8DEC-EB098E2A7E8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Declaración de constant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&lt;nombre de constante1&gt;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&lt;valor1&gt;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&lt;nombre de constante2&gt;=&lt;valor2&gt;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sí, por ej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trosPorYarda=0.914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centajeIVA=0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i=3.14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jémonos que este valor es fijo durante la ejecución del progra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D089-8499-431C-9658-5742FFC738D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Constantes vrs. variabl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nombre lo dice: las constantes no varían durante la ejecución del programa y las variables sí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 lo tanto, “pi” si es una constante, no se puede hacer “pi:= lo-que-sea”. Las variables se asignan, las constantes no. Sólo se declara su val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constantes no hace falta declarar sus tipos (el compilador de Pascal lo deduce automáticame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constantes no ocupan espacio en memoria, las variables sí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409B-A434-46C9-BBF0-CCDF75FFE45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: Usar las variables como constant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Y si hubiéramos declarado “pi:real” y después al principio del programa pi:=3.1415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tajas de usar constan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ocupamos memo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tenemos peligro de equivocarnos alterando el valor de una const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da claro que ese valor es fijo (programa más legi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E51E-0494-4AEE-83C4-475CCF2E938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cer un programa que pida una longitud en yardas y la transforme en una longitud en metros, USANDO CONSTANTES (cada yarda tiene 0.9144 metr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2884-F1EA-47A2-943D-BF439079B29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gram conversió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etrosPorYarda= 0.914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ardas, metros: re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Transforma yardas a metros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Este programa transforma una longitud de yardas a metros’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(‘Escribe una longitud en Yardas ’); readln(yarda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etros:=MetrosPorYarda*yard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(‘Esta longitud en metros es ‘, metros:0: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323E-47B8-46B0-B120-1E7A2F6DE66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programa que pida el radio de una circunferencia y calcule el área del círculo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radio al cuadrad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9F37-086E-48FC-8A7D-4F6F0662740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: el tipo de datos enter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tipo de datos entero comprende los números enteros (números sin decimales). Ejemplo: 2, 5, 1567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variables de tipo entero se declaran “&lt;nombrevariable&gt;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Turbo Pascal, los enteros van de -32,768 a 32,76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5809-03BE-460B-A7BA-0CE6F8A031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gram circul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i= 3.141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adio, area: re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Calcula el área de un círculo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Este programa calcula el área de un círculo a partir del radio’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(‘Escribe el valor del radio ’); readln(radi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rea:=pi*radio*radi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(‘El área del círculo es ‘, area:0:4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1D92-21EB-4ECD-A9D8-095120314BB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bserva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ambién hubiéramos podido poner pi*sqr(radi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función “sqr” saca el cuadrado de un número “squar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afortunadamente, no hay un sistema para lograr la exponenciación general “x elevado a 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ED6C-9BC1-4FF1-AA1C-516B560D0B4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peraciones del tipo de datos enter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eraciones con enteros que dan resultado ent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ma: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ta: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ducto: 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 div b -&gt; Es el cociente de dividir a por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 mod b-&gt; Es el resto de dividir a por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sí “15 div 2” es 7 y “15 mod 2” es 1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66760" y="2708280"/>
            <a:ext cx="507096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LERTA: DIV 0 ES INCORREC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OD 0 ES INCORREC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F992-21B6-4BB9-B53B-237F7C6185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Por qué no incluimos la división entre las operaciones de los enter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uesta: porque puede dar resultados no ente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/2=2.5 y no es un resultado ent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DCEB-E3CB-4A98-A7AC-C327DBFD6A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l tipo de datos real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tipo de datos real comprende los números reales (números con decimales). Ejemplo: 2.3, 5.0, 4.265E+02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variables de tipo real se declaran “&lt;nombrevariable&gt;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Turbo Pascal, los reales van de 2.9E-39 a -1.7E3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D3EF-23A3-4B05-A30B-7CFCA4E76A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Dos formas de escribir los real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ción tradicional: 2.3, 4.5, &lt;parte entera&gt;.&lt;parte decimal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distinguir el real 2 del entero 2, se escribe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ción exponencial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5E4, quiere decir “2.5*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que quiere decir 2*1000, es decir 2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5E-4 quiere decir “2.5*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que quiere decir 2.5 * 0.0001, es decir, 0.000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BB53-7745-4907-A2DD-5C67A2D1C6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6T17:19:17Z</dcterms:created>
  <dc:creator>BLANCA CECILIA</dc:creator>
  <dc:description/>
  <dc:language>en-US</dc:language>
  <cp:lastModifiedBy> </cp:lastModifiedBy>
  <cp:lastPrinted>1999-05-07T23:11:25Z</cp:lastPrinted>
  <dcterms:modified xsi:type="dcterms:W3CDTF">2008-02-10T09:37:01Z</dcterms:modified>
  <cp:revision>86</cp:revision>
  <dc:subject/>
  <dc:title>Sin título de diapositiva</dc:title>
</cp:coreProperties>
</file>