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44D-0900-45F0-B4DC-377273F3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4A5-42A1-4CD1-B238-9C61F5A4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AFA-2B6B-4936-9DBB-0FCF3879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332-F0EC-49C4-A783-5B6C47CE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3BC-C412-442D-A868-2705E64F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7E3-D40F-47DB-8F5C-B7E7CFFB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5D8-3F0F-40D3-B196-2ED35221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285-CACA-4598-8539-67C0C218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324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AC5-A771-4E91-8F51-5526C16C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C61-D363-46B3-A8A2-0093633A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F06-D30A-47A3-98E7-F4DACD7F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C68-5747-40F5-8283-D939BD05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01B9-3FFC-4B50-A7A6-940EFE0F1ED1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841200" y="1843200"/>
            <a:ext cx="60480" cy="48960"/>
          </a:xfrm>
          <a:custGeom>
            <a:avLst/>
            <a:gdLst/>
            <a:ahLst/>
            <a:rect l="l" t="t" r="r" b="b"/>
            <a:pathLst>
              <a:path w="76" h="63">
                <a:moveTo>
                  <a:pt x="76" y="34"/>
                </a:moveTo>
                <a:lnTo>
                  <a:pt x="76" y="34"/>
                </a:lnTo>
                <a:lnTo>
                  <a:pt x="62" y="0"/>
                </a:lnTo>
                <a:lnTo>
                  <a:pt x="0" y="63"/>
                </a:lnTo>
                <a:lnTo>
                  <a:pt x="31" y="31"/>
                </a:lnTo>
                <a:lnTo>
                  <a:pt x="76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839760" y="1841400"/>
            <a:ext cx="50760" cy="50760"/>
          </a:xfrm>
          <a:custGeom>
            <a:avLst/>
            <a:gdLst/>
            <a:ahLst/>
            <a:rect l="l" t="t" r="r" b="b"/>
            <a:pathLst>
              <a:path w="63" h="64">
                <a:moveTo>
                  <a:pt x="63" y="1"/>
                </a:moveTo>
                <a:lnTo>
                  <a:pt x="62" y="0"/>
                </a:lnTo>
                <a:lnTo>
                  <a:pt x="0" y="62"/>
                </a:lnTo>
                <a:lnTo>
                  <a:pt x="1" y="64"/>
                </a:lnTo>
                <a:lnTo>
                  <a:pt x="63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839760" y="1843200"/>
            <a:ext cx="50760" cy="489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61"/>
                </a:moveTo>
                <a:lnTo>
                  <a:pt x="1" y="63"/>
                </a:lnTo>
                <a:lnTo>
                  <a:pt x="32" y="31"/>
                </a:lnTo>
                <a:lnTo>
                  <a:pt x="63" y="0"/>
                </a:lnTo>
                <a:lnTo>
                  <a:pt x="1" y="63"/>
                </a:lnTo>
                <a:lnTo>
                  <a:pt x="0" y="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841200" y="1865160"/>
            <a:ext cx="60480" cy="27000"/>
          </a:xfrm>
          <a:custGeom>
            <a:avLst/>
            <a:gdLst/>
            <a:ahLst/>
            <a:rect l="l" t="t" r="r" b="b"/>
            <a:pathLst>
              <a:path w="76" h="34">
                <a:moveTo>
                  <a:pt x="0" y="34"/>
                </a:moveTo>
                <a:lnTo>
                  <a:pt x="0" y="34"/>
                </a:lnTo>
                <a:lnTo>
                  <a:pt x="76" y="0"/>
                </a:lnTo>
                <a:lnTo>
                  <a:pt x="31" y="2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ción de Computadoras I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ma 4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Vicent-Ramon Palasí Lal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E4D-1326-42EA-9895-23703A5C97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tax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&lt;condición&gt;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1&gt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2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nde “condición” es una expresión que da resultado booleano e “instrucciones1” e “instrucciones2” son dos listas de instruc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59600" y="2133720"/>
            <a:ext cx="44539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LANTE DEL ELSE NUNC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 PUNTO Y CO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74D-010A-4FB2-8BAF-4F18BEE053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el año es 0 porque no hemos empezado a acumular intereses. El capital acumulado es 10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Se acabará cuando el capital acumulado sea mayor de 1000. Por lo tanto, se repite mientras sea menor o igual que 1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Debe escribirse los años y el capital acumu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F05-60B2-4A34-B267-629648F0F2A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Banc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yos: integer; CapitalAcumulado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yos:=0; CapitalAcumulado:=1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CapitalAcumulado&lt;=20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Acumulado:=CapitalAcumulado+CapitalAcumulado*0.0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yos:=Anyos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 ‘, Anyos, ‘ años se han acumulado’, CapitalAcumulado, ‘ colones:0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00800" y="1371600"/>
            <a:ext cx="24382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235-D146-4710-BBD0-5AC664A6843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ificar el anterior programa, par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vez de ser siempre 1000 colones el capital inicial, que se nos pida el capital inicial por pant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bucle acabe cuando se haya conseguido el doble del capital inicial, sea este el qu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2A4-3898-4D9C-86E0-E524EF80690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Banc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yos: integer; CapitalAcumulado, CapitalInicial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capital inicial ‘); readln(CapitalInici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yos:=0; CapitalAcumulado:=CapitalIni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CapitalAcumulado&lt;=2* CapitalInicial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Acumulado:=CapitalAcumulado+CapitalAcumulado*0.0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yos:=Anyos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n ‘, Anyos, ‘ años se han acumulado’, CapitalAcumulado, ‘ colone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380880"/>
            <a:ext cx="24382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5CC-F59F-4716-A3A2-E8C6FE0C3DF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pida números enteros por teclado hasta que se le introduzca un 0. Después el programa debe escribir la suma de los números que se le entra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7E6-94E5-4B1F-822B-D2868E1B215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ntran números con read, uno detrás de o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para cuando se le entra un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, se escribe la suma de los núm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ide un nu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ide otro y se suma al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ide otro y se suma a la suma acu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ide otro y se suma a la suma acu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pite esto hasta que introduzcamos un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onces se escribe la suma acu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C88-F934-45F5-AB6A-472AAEA56BA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numero que se en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uma acu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ide el nu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suma a la suma acumu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pite hasta que sea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scribe la suma acumu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.Se eligen las variables en que se guardara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maAcumulada, Numero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732-2ECB-475F-9998-681C6463943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tiene que hacer tareas que se repiten, se hará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me un numero a la suma acumu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da otro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sta que sea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l bucle, escribir la suma acumu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rata un elemento-&gt; sumándolo a la suma acumu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cede al elemento siguiente -&gt; Pidiendo un número por tec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531-418D-444E-AE2C-6767A0A52BB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um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 SumaAcumulad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o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(Num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 fin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FFC-8F72-450F-8742-814D2B918A3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la SumaAcumulada es 0. Tenemos que pedir un número para poder sumarlo en la primera iteración, así que haremos readln(nume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Se acabará cuando el numero sea cero. Es decir se repetirá mientras sea diferente de cero (Numero&lt;&gt;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Debe escribirse la suma acumu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A05-6572-4A9C-8E09-CEA757D7A73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dea intuitiva del If-then-els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tax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&lt;condición&gt;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1&gt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2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gn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la condición se cumple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es decir, evalúa a TRUE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tonces se ejecutan “instrucciones1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no se cumple (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valúa a FALS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entonces se ejecutan “instrucciones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840" y="1752480"/>
            <a:ext cx="4358160" cy="301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be leers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 &lt;condición&gt; entonces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&lt;instrucciones1&gt;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 no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&lt;instrucciones2&gt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DFA-69FE-4B9B-8B81-F25912D80D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Sum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 SumaAcumulad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maAcumulada:=0; read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Numero&lt;&gt;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Acumulada:=SumaAcumulada+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(Num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suma es ‘, SumaAcumul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B24-E7C0-44C5-88BB-4D350620F19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valor cero lo utilizamos cuando queremos acabar la introducción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cir, si queremos sumar un conjunto de números, tenemos que entrar esos números y después un c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ero le dice a la computadora “Ya no quiero sumar má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24C-B7A8-4A6E-9964-37AF8C957AA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muy típico introducir un valor especial por teclado (en este caso, cero) p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r que no queremos entrar má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decir, para salir de un bu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ste valor se le llama CENTINELA y hay que escogerlo con cuidado (explicar que hubiera pasado si hubiera sido 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8C0-37B7-4A62-B3DA-17F55DD9D71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ucles como control de datos de entrad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bucles se utilizan para controlar que los datos que nos entra el usuario sean corre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‘Escribe la nota de un alumno ‘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dln(no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ile (nota&lt;0) or (nota&gt;10)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cribe una nota entre 0 y 10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dln(n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LO SIEMPRE EN PROGRAMAS DE LA VIDA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FC5-FBE2-4F22-A1C3-361816F75C3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tras instrucciones para bucles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3581280"/>
            <a:ext cx="42670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 i:=&lt;valor inicial&gt; to &lt;valor final&gt; do  &lt;instruccio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505320"/>
            <a:ext cx="41911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:=&lt;valor inicial&gt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hile i&lt;=&lt;valor final&gt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ón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280" y="175248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. Se puede utilizar cuando sabemos el número exacto de veces que se ejecuta el bucle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00400" y="3124080"/>
            <a:ext cx="533520" cy="4572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3124080"/>
            <a:ext cx="21333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3124080"/>
            <a:ext cx="76212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62520" y="304812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quival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20A-223C-4971-B04F-DFDE88FADBE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tras instrucciones para bucles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3581280"/>
            <a:ext cx="42670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til &lt;condición&gt;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505320"/>
            <a:ext cx="41911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hile not &lt;condicion&gt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175248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eat. Se puede utilizar cuando sabemos que el bucle se ejecuta una vez como mínim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200400" y="3124080"/>
            <a:ext cx="533520" cy="4572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3124080"/>
            <a:ext cx="21333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3124080"/>
            <a:ext cx="76212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304812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quival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210-C618-4777-B5E7-05AE04DD6CA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o estudiaremos estas instruccion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nque a veces son útiles, no son necesarias: con while se pueden resolver todos los probl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arlas sería enredar las ideas, ya que lo que nos interesa es aprender el concepto de bucle (común a todos los lenguajes imperativ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alguien comprende el bucle bien (con while) puede aprender fácilmente las otras a partir de un lib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113-BF1D-49B0-A40E-B93068209D6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Dentro de un bucle puede haber cualquier cosa.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ntro del while pueden ha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ign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while (se llama bucles anidad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general, cualquier c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43F-D7C0-4B1A-A45C-65A56979C34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escriba la suma de los números pares que hay entre el 1 y el 100 y escriba la suma de los números impares que hay entre el 1 y el 1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B86-4ABC-4049-9FB1-27A05010316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que sumar todos los números pares entre 1 y 100 y escribir las su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mismo con los i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omienza con el número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es par, se suma a la suma de los pares y si es impar se suma a la suma de los imp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rementa el número y se repite la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caba cuando llegamos al 100 y se escriben las su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2A9-6CE1-4183-9E1B-56F024E8C306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edad &gt;=18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‘Mayor de edad’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‘Menor de edad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gn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se cumple que edad &gt;=18 (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 decir, evalúa a TRU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entonces se escribe “Mayor de e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no se cumple entonces se escribe “Menor de e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0800" y="1752480"/>
            <a:ext cx="4656960" cy="301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be leers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 edad&gt;=18 entonces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scribe “Mayor de edad”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 no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scribe “Menor de edad”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5EF-47C5-4A63-A07A-04D63B8611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numero que estamos trat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uma de los pares, la suma de lo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l numero es par, se suma a la suma de los 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s impar, a la suma de los imp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etir esto para cada número entre el 1 y el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ués escribir las s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Se eligen las variables en que se guardaran los datos. SumaPares, SumaImpares, Numero: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559-691A-44A0-B03D-FA89A742ED5B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repiten tareas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un número es par, lo sume a la suma de los 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s impar, lo sume a la suma de lo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remente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l bucle, imprimir las su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rata un elemento-&gt; decidiendo si es par o impar (if-the-else) y sumándolo a la suma correspond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cede al elemento siguiente -&gt; Incrementando el núm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8ED-B88E-4F96-AAB2-4EF0EDCE2EE4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ParesEImpar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-150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 SumaPares, SumaImpares: intege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-150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-150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ones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588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5756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f Numero mod 2 =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5756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Pares:=SumaPares+Num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5756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5756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Impares:=SumaImpares+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5756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Numero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5880" indent="-150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-150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 fin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2438280"/>
            <a:ext cx="24382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314-F8F4-42DB-A933-8C96F14C3FD5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el numero es 1, las dos sumas son 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Cuando el numero sea 100. (Numero&lt;=1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Debe escribirse las dos su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6DC-A083-4737-ADE7-428CCD134798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ParesEImpar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 SumaPares, SumaImpares: intege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=1; SumaPares:=0; SumaImpares: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Numero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f Numero mod 2 =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Pares:=SumaPares+Num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Impares:=SumaImpares+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Numero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suma de los pares es ‘, SumaPares, ‘ y de los impares es ‘, SumaImpa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2895480"/>
            <a:ext cx="24386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AB6-4039-41AB-AFE2-D598AF3D861D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íjense que dentro del “while” hay un “if-then-els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general, como dijimos, dentro de un while puede haber cualquier cosa (incluso un “while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998-6F18-45AD-85CA-F2E419B5B3EF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DVERT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han seguido las clases hasta ahora, no saben utilizar el while. Sólo tienen una id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llo, hace falta práctica lo que requiere tiempo no dispon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ello, es imprescindible que hagan ejercicios por su cuenta en su casa (pág 94-106 del libro “Pascal y Turbo Pascal. Un enfoque práctic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A35-4740-44E9-917C-BA0B75257F70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GUNDA SESION DE LABORATOR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r los programas con estructuras alternativas y re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47E-388B-45D7-9F68-5820DBF59D13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“If-then-els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dad:=19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edad &gt;=18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‘Mayor de edad’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‘Menor de edad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752480"/>
            <a:ext cx="52578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valúa la expresión edad &gt;=18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o se reduce a 19&gt;=18, TRU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onces, se ejecuta write (‘Mayor de edad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o ven, esto coincide con la idea intuitiv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A01-1B92-4692-980C-20209BD2C7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l “If-then-els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dad:=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edad &gt;=18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‘Mayor de edad’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rite(‘Menor de edad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1752480"/>
            <a:ext cx="52578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valúa la expresión edad &gt;=18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o se reduce a 3&gt;=18, FALS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onces, se ejecuta write (‘Menor de edad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o ven, esto coincide con la idea intuitiv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5EE-E1A7-4D7B-A098-11595D746D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del problema anterio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exame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nota del alumno’); readln(no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nota&gt;=5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APROBADO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REPROBADO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87E-2F8A-4A9B-85FF-27724448F6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ongamos que un aspirante a policía entra en la PNC si su altura es mayor de 160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pida la altura en centímetros de un aspirante y escriba si puede entrar en la PNC o 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E9C-C74B-4D60-95FC-8409EA3E96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 del problema anterio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NC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ur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altura del aspirante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altur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altura&gt;=160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Puedes entrar en la PNC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No puedes entrar en la PNC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A5D-AE79-4BF2-B9C1-2EF8C9C305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Modificación del problema anterio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ongamos que un aspirante a policía entra en la PNC si su altura es mayor de 160cm y menor de 210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r el programa para que recoja esta última condi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A24-B5DD-4AC3-A5E3-9D82202977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NC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ura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altura del aspirante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altur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altura&gt;=160 and altura&lt;=210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Puedes entrar en la PNC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No puedes entrar en la PNC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08B-5D5E-400D-80E7-AD81C3C127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gramas que hemos visto hasta ahor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asiado 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una secuencia de instru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se ejecutan una después de otra sin ninguna var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empre hacen lo mismo, independientemente de los datos que les entráb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6E8-E39B-464C-9822-F9AE8C4977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Modificación del problema anterio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ongamos que un aspirante a policía entra en la PNC si su altura es mayor de 160cm y menor de 210cm. Esto se cumple siempre, excepto si el aspirante tiene “cuello” en cuyo caso entra directamente independientemente de su al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ificar el programa para que recoja esta última condición. Para ello, el programa debe pedir con un readln si el aspirante tiene cue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148-4876-4FD5-A63F-5ED923D2F0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NC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ura: integer; cuello: boole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altura del aspirante’); readln(altur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Tiene cuello?’); readln(cuell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(altura&gt;=160 and altura&lt;=210) or cuello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Puedes entrar en la PNC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No puedes entrar en la PNC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AF9-50F9-4D47-849D-5C570D0F02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ongamos que compras una cierta cantidad en el super. El super te hace un descuento del 10% si compras más de 5000 col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un programa que dado el monto de la compra te escriba lo que realmente vas a pag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25D-197F-4E68-A5C3-E10D61C368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descuen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AntesDescuento, PrecioDespuesDescuento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precio antes del descuento’); readln(PrecioAntesDescuent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PrecioAntesDescuento&gt;=5000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DespuesDescuento:=PrecioAntesDescuento- 0.1* PrecioAntesDescu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DespuesDescuento:=PrecioAntesDescu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precio después del descuento’, PrecioDespuesDescuento:0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BAD-4661-4349-A935-AD02801AEA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a que pida un entero y escriba por pantalla si el número es par o 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NOTA: Un numero es par si el residuo de la division por 2 es 0 y es impar en caso contrario. La funcion para calcular residuos en Pascal es “mod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6CF-B9FB-4E7C-BF18-CA0BCA54AC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pa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numero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numero mod 2=0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l numero es par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(‘El numero es impar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7EF-548B-4A79-89D8-CA06A4453A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f-the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y veces en que nos interes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se cumple una condición se haga al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no se cumple no se haga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ll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&lt;condición&gt;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la condición evalúa a TRUE se ejecutan las instru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evalua a FALSE no se ejecuta 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A79-795F-4CAB-8569-ABD9E27755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 que calcula el valor absoluto de un nú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valor absoluto es el número sin el sig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í, el valor absoluto de 5 es 5 y el valor absoluto de -5 es -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BB6-2D0F-412D-BDA8-0FB5DF8C33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ValorAbsolu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numero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numero &lt;0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-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valor absoluto es ‘, nu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45B-8D23-4DF7-BC81-55D40376A5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an un programa que pida un entero y le sume 1 si es impar y no le haga nada si es par. Que imprima el resultado por panta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4CE-53AA-44B0-A7E6-9FE783DAEE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 veces, nos interes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el programa responda diferentemente dependiendo de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ello, debemos poder hacer que se ejecuten diferentes instrucciones dependiendo de los da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C25-EEB1-404D-ABC5-E51E85A676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onvertirEnPa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numero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numero mod 2 = 1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numero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resultado es ‘, nu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D95-E4FD-4315-898F-F5FB617C99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pasa cuando hay más de una instrucción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hay más varias instrucciones después del “then” o del “else” se encierran entre “begin” y “end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701-B748-4A1E-A6C2-9307FE2860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precio&gt;500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uento:=precio*0.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rechoAPromoción: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uento: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F12-F74C-4654-A356-E1163E8902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s camisas se venden en 100 colones cada una si se compran más de tres y en 120 en caso contrario. Escribir un programa que pida la cantidad de camisas a comprar e imprima el costo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5A0-0751-456F-95B3-0C703DFFB4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amis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isas, cost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cantidad de camisas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camis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camisas &gt;3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:=camisas*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:=camisas*1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costo total es ‘, cos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C78-A5C8-4895-BDB2-2DC87E9B7A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sto de matriculación de la Universidad Mathies Delgado es de 100 colones por materia pero con un máximo de 600 col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an un programa que pida el número de materias a cursar y de el costo de matr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AA8-01DC-4D61-A3A0-963C3177A7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matricul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s, cost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número de materias  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dln(materi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:=materias*1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costo &gt; 600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:= 6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El costo total es ‘, cos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AF3-E7EB-4EC3-96FE-F30AAB687C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lección múltip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-then-else distinguen entre dos alternativ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se cumple la con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no se cumple la con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pueden distinguir más de dos alternativas combinando varios if-then-else. A esto se le llama selección múlt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5E7-B388-426E-B32E-A901446D91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intaxis de la selección múltip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&lt;condicion1&gt;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1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if &lt;condicion2&gt;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2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if &lt;condicion3&gt;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3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els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2819520"/>
            <a:ext cx="441936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AMA “ELSE” ES OPCIONAL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EDE ESTAR o 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54040" y="5105520"/>
            <a:ext cx="237528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CION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2AD-63A8-49FA-9ECE-3464827AFF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mántica de la selección múltip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&lt;condicion1&gt;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1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if &lt;condicion2&gt;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2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if &lt;condicion3&gt;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3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els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1676520"/>
            <a:ext cx="441936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mira si se cumple la condición1 (si evalua a TRUE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lo hace, se ejecutan las instrucciones1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no se mira, la condicion2 y así sucesivamen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aso de no cumplirse ninguna condición se ejecuta “instruccioneselse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3ED-8C87-49E7-AE61-D96FC23D47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pida la nota de un alumno por pantalla y escriba si está aprobado o re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2F7-6F7D-4C5A-9B1E-DB67F0580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 de la selección múltip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f x&gt;y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‘x es mayor que y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if x&lt;y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‘x es menor que y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riteln(‘x es igual a y’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897-AE5A-4F43-895C-82D28AA1531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gan un programa que pida un entero y escriba “uno” si el entero es 1, “dos” si el entero es 2, “tres” si el entero es 3 y “ni uno ni dos ni tres” si el entero es superior a t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76F-7041-443E-ACDB-24F86079ADE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NumerosALetr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número  ’); readln(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numero =1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7840" indent="-1666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uno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 if numero=2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7840" indent="-1666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dos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 if numero=3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7840" indent="-1666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tres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7840" indent="-1666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´ni uno ni dos ni tres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761-46EE-4FC8-9951-B98E1E00FFB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hubiera pasado si hubiéramos quitado la rama “else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uesta, si el número fuera diferente de uno, de dos o de tres, no escribiría n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B06-662C-4F82-87DC-77BD6F5BD97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na empresa se trabaja 8 horas los lunes y martes. 7 horas los miércoles, jueves y viernes. 4 horas el sábado y 0 horas el domin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mos los números por caracteres: ‘l’ es lunes, ‘m’ martes, ‘x’ miércoles, ‘j’ es jueves, ‘v’ viernes, ‘s’ sábado y ‘d’ es domin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4AB-3A4F-49F6-9DC8-4C1CFFCE231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dado un cará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carácter corresponde a un día nos diga las horas que se tra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carácter no corresponde a un día escriba “esto no es un día váli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A31-35AE-40B6-94F9-A211A95392E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HorasTrabaj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: ch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día  ’); readln(di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dia =‘l’ or dia=’m’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s horas de trabajo son 8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 if dia=’x’ or dia=‘j’ or dia=‘v’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s horas de trabajo son 7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 if dia=‘s’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Las horas de trabajo son 4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 if dia =‘d’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No se trabaja en domingo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ste no es un día válido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9760" y="3048120"/>
            <a:ext cx="214956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IRAR 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AMA EL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 ERRO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2DA-6AFE-4393-8EE8-88A383C1BFF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Universidad Matías Cholotón, los estudiantes normales (se llaman de tipo 1) pagan 120 colones por cada materia y los poetas (se llaman estudiantes de tipo 2) 100 ¢ por mat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a un programa que pida el tipo de estudiante y las asignaturas y que escriba si es normal o poeta y el importe de la matr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178-1AC7-4610-A2D8-3D61F3BD8C0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 matricul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s, tipo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(‘Escribe el tipo de estudiante ‘); readln(tip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el número de materias  ’); readln(materi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f tipo=1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l estudiante es normal y el costo de la matrícula es’, materias*1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 if tipo=2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El estudiante es poeta y el costo de la matrícula es’, materias*1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No existe este tipo de estudiant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A61-C841-40D6-8B62-28EE85A261D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DVERTENCI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recomienda que hagan ejercicios por su cuenta en su casa (pág 69-85 del libro “Pascal y Turbo Pascal. Un enfoque práctic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53E-578C-4551-8A35-636BDF8FA3A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Un primer intent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exame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nota del alumno’); readln(no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APROBAD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11E-B3B4-4472-BE9B-1F3F0B3A00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tructuras repetitiv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Escribir un programa que escriba cien veces el número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DF6-B911-49BB-9486-2F302483308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1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1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1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4D8-03D5-42F5-B7EA-89A203B9D32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ble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que escribir muc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 problema es general. Imaginen escribir la planilla de mil empleados de un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que nos gustaría sería que en la computadora hubiera una forma de repetir una instrucción o una tarea muchas ve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5AB-00CC-469E-B2D0-C08807E6A84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pitiendo tare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isten tres tipos de estructuras que permiten repetir una misma tarea muchas ve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ADE-93C6-4520-8F58-04F07B87DCA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intaxis de “whil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hile &lt;condición&gt; do &lt;instruccion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condición&gt; es una expresión que da de resultado boole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lt;instrucciones&gt; es una serie de instrucciones. Si son más de una,  están encerradas entre begin y end (com en el if-then-el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98C-D767-4348-8985-A7C1D935498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emántica de “whil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hile &lt;condición&gt; do &lt;instruccion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entras se cumpla la condición, se repiten las instruccione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4EF-FF8E-428A-9334-E408111717D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de “while”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hile &lt;condición&gt; do &lt;instruccion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el programa llega al “while”, evalua la condi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evalúa a FALSE, se salta la estructura “while”. Si evalúa a TRUE, ejecuta las instrucciones y vuelve a evaluar la condi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evalúa a FALSE, se salta la estructura “while”. Si evalúa a TRUE, ejecuta las instrucciones y vuelve a evaluar la condición y ASÍ SUCESIV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DA0-A4FA-4C47-9EA2-2C35BCEF616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SinEsfuerz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F25-EC8B-471C-9F62-F255A722CF4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jecución (ayudarse diapo anterior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1447920"/>
            <a:ext cx="510552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principi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1, TRUE, se escribe 1, i se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2, TRUE, se escribe 1, i se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3, TRUE, se escribe 1, i se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99, TRUE, se escribe 1, i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100, TRUE, se escribe 1, i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101, FALSE, se salta el “while”, se acaba el progra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D83-B132-4D3F-B14D-CAC49FD5A4F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rminologí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990720"/>
            <a:ext cx="5410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la estructura “while” se le llama “bucle” o “ciclo”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cada vez que las instrucciones se ejecutan se le llama “vuelta del bucle”, “pasada del bucle” o “iteración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ndo el bucle deja de ejecutarse porque no se cumple la condición, se dice que el programa “sale” del buc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la condición se le llama “condición del bucle” o “condición de salida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B5E7-82D4-44C0-B5D7-FA0B3D53A8C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¿Qué pasa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blema es que siempre se escribe “APROBADO” independientemente de la nota que entre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mismo pasaría si pusiéramos “REPROBADO” o las 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985-78E6-4732-BFF5-D321A08A83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cciones de la ejec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1447920"/>
            <a:ext cx="510552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variable “i” sirve para contar las veces que se repite la estructura (ciclo, bucle), las veces que se escribe “1”.  Se le puede llamar “contador”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íjense que el contador se incrementa cada vez en una vuelta del bucle. ¿Qué pasaría si esto no fuera así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0B1-3CAC-4A34-9274-D7D0ECB7642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i no se incrementa el contador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1447920"/>
            <a:ext cx="510552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rincipi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=1, TRUE, se escribe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=1, TRUE, se escribe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=1, TRUE, se escribe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ue así siempr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bucle no acaba nunc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esto se le lla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cle infinit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grama se ha “colgado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02C-449E-410D-9689-82E6F8A6087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ucle infinit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un programa no “sale” nunca de un bucle, se dice que es un “bucle infinito”. El programa se queda col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pasa porque la condición del bucle nunca evalúa a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que diseñar los bucles con cuidado para que no pase e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D34-CF7D-42EF-BBB4-35360A6407B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artes de un buc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ienUn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‘1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3733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ICIALIZ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63360" y="419112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DICIÓN DEL BU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8440" y="502920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UERPO DEL BU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68440" y="2403360"/>
            <a:ext cx="44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: se evalua a cada vuelta y decide 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i el bucle se ejecuta una vuelta má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505320" y="5257800"/>
            <a:ext cx="7617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B79-AB21-4F60-ABA8-EF1794D2347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artes de un buc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CIALIZACIÓN: Son las asignaciones que le dan un valor inicial a las variables que intervienen en el bu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CIÓN DEL BUCLE: Se evalúa a cada vuelta y decide si el bucle se ejecuta una vuelta má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RPO DEL BUCLE: Las instrucciones que se ejecutan a cada vuelta del bu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AD0-A50F-48E0-8EC9-B4F903D9555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haría el siguiente program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que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D18-4F82-4BA7-B9D0-65546960939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cución (dibujar una pantalla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que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1447920"/>
            <a:ext cx="510552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principi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1, TRUE, se escribe 1, i se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2, TRUE, se escribe 2, i se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3, TRUE, se escribe 3, i se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99, TRUE, se escribe 99, i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100, TRUE, escribe 100, i inc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=101, FALSE, se salta el “while”, se acaba el progra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3A0-12D8-4ABE-93E6-A1287241354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que hace ese programa es escribir los números del 1 al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50F-C307-423F-AEEB-F4E06004FC5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quema de un buc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5486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aliza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condición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tar ele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ceder a elemento sigu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finales (opc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50F-8E75-4E22-930A-E87A9BAB983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squema de un buc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3200400"/>
            <a:ext cx="44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alización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condición) 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tar elemento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ceder a elemento sigui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final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905120" y="3505320"/>
            <a:ext cx="3200400" cy="533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504960" y="3886200"/>
            <a:ext cx="160020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200400" y="4724280"/>
            <a:ext cx="274320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895480" y="5105520"/>
            <a:ext cx="320040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600200" y="6095880"/>
            <a:ext cx="3276720" cy="228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quees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 integer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:=1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i&lt;=100) 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i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42B-DDA6-49B9-808B-E1751437F5F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l problem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blema es que cualquier “write” que pongamos se escribe siempre. (Cualquier instrucción se ejecuta siemp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otros querríamos que se escribiera “APROBADO” sólo en unos ciertos casos y “REPROBADO” en los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541-756F-41FB-8915-E1B1201236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33720" y="1600200"/>
            <a:ext cx="236196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131200" y="3809880"/>
            <a:ext cx="2364480" cy="1143000"/>
            <a:chOff x="2131200" y="3809880"/>
            <a:chExt cx="2364480" cy="1143000"/>
          </a:xfrm>
        </p:grpSpPr>
        <p:sp>
          <p:nvSpPr>
            <p:cNvPr id="211" name=""/>
            <p:cNvSpPr/>
            <p:nvPr/>
          </p:nvSpPr>
          <p:spPr>
            <a:xfrm>
              <a:off x="2133720" y="3809880"/>
              <a:ext cx="236196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31200" y="3962520"/>
              <a:ext cx="234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a e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enguaje máquin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276720" y="274320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7200" y="30481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il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152280"/>
            <a:ext cx="2743200" cy="762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6520" y="5257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9528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6019920"/>
            <a:ext cx="2743200" cy="761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914400"/>
            <a:ext cx="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7920" y="9907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4040" y="3049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que escriba “Hola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99160" y="1447920"/>
            <a:ext cx="242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ogram hola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‘hola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62520" y="36990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01000101 1100110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10001110  0010110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5715000"/>
            <a:ext cx="1752480" cy="914400"/>
          </a:xfrm>
          <a:prstGeom prst="flowChartAlternateProcess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14440" y="5756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2743200"/>
            <a:ext cx="22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Ciclo de vid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de un 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en 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9D7-77B3-4116-A7DA-6C1AC1F6947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33720" y="1600200"/>
            <a:ext cx="236196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152280"/>
            <a:ext cx="2743200" cy="762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914400"/>
            <a:ext cx="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37920" y="9907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4040" y="3049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a que escriba “Hola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99160" y="1447920"/>
            <a:ext cx="242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rogram hola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write(‘hola’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0481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</a:rPr>
              <a:t>La especificación define el problema que queremos resolv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</a:rPr>
              <a:t>La programación transforma un problema en un program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Como cada vez los problemas se hacen más complicados, cada vez la programación es más complicad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Esto nos obliga a utilizar un método de programació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</a:rPr>
              <a:t>El método que proponemos se basa en dos part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</a:rPr>
              <a:t>Análisis del problema. En él entendemos el problema y como resolverl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CommonBullet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</a:rPr>
              <a:t>Construcción del programa. En él traducimos la solución del programa a Pasc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A1E-6B56-4C1E-B0A7-99A570D2425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struir programas con un bucle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Se eligen las variables en que se guardara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ig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334120"/>
            <a:ext cx="8763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88240" y="3394080"/>
            <a:ext cx="4153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NÁLISIS DEL PROBL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6019920"/>
            <a:ext cx="5334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STRUCCIÓN DEL 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6AA-C605-48A0-B1C9-BB00E4C758A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struir programas con un bucle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 para despu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caso de un bucle, se decide como se trata un elemento y se accede al elemento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bucle, condiciones, inicializaciones, instr. fina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6235560"/>
            <a:ext cx="5333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STRUCCIÓN DEL 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902-22AA-4A5A-A40F-937A67A0FC1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escriba los números impares del 1 al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F9A-4208-4F70-BC82-2003B8581B5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mpl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ribir por pantalla 1, 3, 5, 7, 9, 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blema se resuelve empezando por el número 1 y sumando 2 cada vez y escribiendo los números que resul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AA8-A198-438E-8C5A-985889652BB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mpl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número que se escri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marle dos varias veces (repetidame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Se eligen las variables en que se guardara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dimos que será NumeroImpar: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441-7A0D-46AA-AF48-52477DE8DA7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mpl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tiene que sumar repetidamente 2, se hará un BUCLE que sume 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rata un elemento-&gt; Escribiendolo por pant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cede al elemento siguiente -&gt; Sumando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A7B4-F5B7-44E4-84DC-F778AD89012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mpl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impa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Impar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ó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NumeroImp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Impar:=NumeroImpar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 fin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230-0DB5-4DD2-AE86-5783D435640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mpl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el número a escribir es el 1 y, por lo tanto, NumeroImpar debe recibir el valor uno. (NumeroImpar:=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El bucle escribe un numero. Debe escribir hasta el 11. Por lo tanto, el bucle debe repetirse mientras el número sea menor o igual que 11. (NumeroImpar&lt;=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No h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565-00F5-4207-AD52-E06866089D6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 que querríam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exame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: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 (‘Escribe la nota del alumno’); readln(no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nota&gt;=5 entonces escribe “APROBAD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no, escribe “REPROBAD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835-D910-40D1-A43C-2A3EB096F3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impa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Impar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Impar: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(NumeroImpar&lt;=11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riteln(NumeroImp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Impar:=NumeroImpar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2057400"/>
            <a:ext cx="27432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60B-93D1-44D7-8E61-D3B6D7E8D11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ribir un programa que sume los 20 primeros cuad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... +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53F-DCA4-42B2-A04E-E5528CF014A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r la suma de los 20 primeros cuadrados 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... +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s decir, 1+4+9+16+...+40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ribir esa suma por pant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blema se resuelve empezando por el númer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ndo el cuadrado del num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y sumando 2 cada vez y escribiendo los números que resul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26B-8889-464C-91C7-E5A0B3018D1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empieza por el númer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alcula su cuadrado  (1*1=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incrementa el número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alcula su cuadrado (2*2=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suma al cuadrado anterior (1+4=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incrementa el número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alcula su cuadrado (3*3=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suma a la suma de cuadrados anterior (5+9=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64F-2709-4A10-A800-565E30B1C04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alcula el cuadrado del número y se suma a la suma de cuad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incrementa el núm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pite varias v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007-F6DD-424F-B7ED-8E7300182A3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uadrado del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uma de cuad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r el cuadrado del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rlo a la suma de cuad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rle uno al nu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rlo varias ve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final, escribir la suma de cuad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DD8-BF51-469E-9D20-1B82ADC70F2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5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Se eligen las variables en que se guardara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dimos que será Numero: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bién SumaCuadrados: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podría haber una variable “cuadrado” pero lo consideramos innecesario porque dado un número se calcula fácilmente su cuadr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74F-4A1E-4E54-B7BE-1E0A1B555C3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6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tiene que hacer tareas que se repiten, se hará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e el cuadrado del nu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 sume a la suma de cuad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rata un elemento-&gt; calculando su cuadrado y sumándolo a la suma de cuad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cede al elemento siguiente -&gt; Sumando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3F2-B5EC-4229-83D1-BFC707C3F68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7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uadr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SumaCuadrado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ó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Cuadrados:=SumaCuadrados+Numero*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Numero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tratamiento fin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5E5-34AC-43FF-B2D7-22FF4D53A9C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8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. Se afinan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izaciones. Al principio, el número a escribir es el 1 y, por lo tanto, Numero debe recibir el valor uno. (Numero:=1). La suma de cuadrados es cero, poruqe no hemos sumado 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ón de salida. El bucle suma los 20 primeros cuadrados (Numero&lt;=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ones finales. Debe escribirse la suma de cuad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2B1-700D-4832-8B4D-9A3C1E72031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 que querríam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queremos es que Pascal nos deje decidir entre varias alternativas dependiendo de la si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ecesitaríamos una instrucción que nos permitiera escribir algo parecido al “si” que hemos vi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instrucción existe. Es el if-then-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FCD-3576-45B4-925D-C9167A224E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uadr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SumaCuadrado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=1; SumaCuadrados: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Numero&lt;=2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Cuadrados:=SumaCuadrados+Numero*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Numero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suma de cuadrados es ‘, SumaCuadr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3048120"/>
            <a:ext cx="27432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297-AE93-4482-9D34-3399CF25B0D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egun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r el programa anterior par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vez de sumar los 20 primeros cuad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e los primeros cuadrados hasta que la suma sea mayor o igual que 1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77B-A892-4D18-A322-F8FF377CD82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Respuest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nálisis del problema es el mismo, excepto la condición de sal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hora en vez de Numero&lt;=20 sería que SumaCuadrados&lt;=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íjense que la condición de salida nos indica hasta donde llegamos, hasta donde repetimos el bu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6DC-97B1-4E5B-9BA4-F4279D8AA57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cuadr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,SumaCuadrados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mero:=1; SumaCuadrados: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SumaCuadrados&lt;=10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Cuadrados:=SumaCuadrados+Numero*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:=Numero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riteln(‘La suma de cuadrados es ‘, SumaCuadr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3048120"/>
            <a:ext cx="27432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9EE-939E-44A6-8703-42F56CA7547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bserv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íjense que en este caso no sabemos cuantas vueltas da el bucle, sólo sabemos que se parará cuando la suma sea mayor de 1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D12-C5C2-467F-8D0A-4A0DCC30013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ositamos 1000 colones en el Banco Agrícola Demencial al 6% de interés anual, de forma que los intereses se suman al capital y devengan intereses. Queremos retirar el dinero cuando supere los 2000 col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un programa que calcule y escriba por pantalla cuantos años harán falta para esto y cuál será el dinero obten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F75-4B66-4103-ABC4-AF2524FB6C6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1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 comprende cuál es el probl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invierten 1000 ¢ al 6%, al término del primer año, se tienen 1000 + 6% de 1000, es decir, 106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término del  segundo año, se tiene 1060+ el 6% de 1060, es decir, 1123.6 y así sucesiv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 comprende como se resuelve el problema “a ma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omienza con un capital de 1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año se saca el 6% del capital y el resultado se suma al capital (se acumul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rementa el año y se repite la operación para el nuevo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caba cuando el capital acumulado sea mayor de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onces, hay que escribir los años y el capital acumulado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667-06A5-42A0-9841-9760D58BDF3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2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Se averig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les s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apital acumu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operaciones se hacen con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ar el 6% y sumarlo a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rementar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etir esto hasta que el capital acumulado sea d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ués escribir los años y el capital acumu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Se eligen las variables en que se guardaran los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Acumulado: real y Anyos: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880-14E3-4E5D-87F3-FDC5742891E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3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Se eligen los procesos que se harán con las variables (bucle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e tiene que hacer tareas que se repiten, se hará un B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e el 6% del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 sume al capital acumu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remente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l bucle, imprimir los datos obtenidos en é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Se escriben dichos procesos dejando los det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rata un elemento-&gt; sumándole el 6% al capital acumu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cede al elemento siguiente -&gt; Incrementando e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314-7FED-4082-93C9-5989931A27C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álisis del ejercicio (4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 Banc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yos: integer; CapitalAcumulado: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icializacion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le &lt;condición&gt;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Acumulado:=CapitalAcumulado+CapitalAcumulado*0.0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yos:=Anyos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instrucciones final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3048120"/>
            <a:ext cx="27432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ACER EJECUCIÓN EN PIZA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2A3-E0A6-4477-878E-F7B61D2EC5E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20:18:55Z</dcterms:created>
  <dc:creator>BLANCA CECILIA</dc:creator>
  <dc:description/>
  <dc:language>en-US</dc:language>
  <cp:lastModifiedBy> </cp:lastModifiedBy>
  <cp:lastPrinted>1999-05-12T20:12:47Z</cp:lastPrinted>
  <dcterms:modified xsi:type="dcterms:W3CDTF">2008-02-10T09:36:55Z</dcterms:modified>
  <cp:revision>160</cp:revision>
  <dc:subject/>
  <dc:title>Programación de computadoras</dc:title>
</cp:coreProperties>
</file>