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0FD-BF80-4A39-BAF2-62D708B6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46F-2D4D-48C7-AE22-E464BB44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DB5-8863-4E87-9DA0-D137A61D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7C3-4B90-42CD-A2FE-D6C5840E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656-F62D-478B-9579-2AFCCFFC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086-948D-49F0-84F0-89169B41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C7A-FFE9-42AA-A78C-64931643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BBB-6A25-4ECB-BE0F-91E085E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257-5744-413C-94A5-4E93261F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037-A9ED-4B27-B237-6F2C0704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9D9-DCAE-4994-B304-CD790AC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DB6-9F0A-4933-A0E6-D9CDFEE7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D526-6B0F-43B4-A060-3E24EA44DDC8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5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8AE-E58D-4E74-9BCB-07EB97CEE6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a variable de tipo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ongamos que la variable de tipo tabla tiene de nombre “preci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onces cada “cajita” o elemento podría llamarse as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83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95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130680" y="415620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 primer elemento de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2240" y="411480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 segundo elemento de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0440" y="472428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 tercer elemento de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160" y="4648320"/>
            <a:ext cx="15238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371240" y="4495680"/>
            <a:ext cx="25146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81080" y="5029200"/>
            <a:ext cx="182880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6DC-9E12-4733-996B-F896C5926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7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usca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string; posicion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string ‘); readln(caden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adena[posicion]&lt;&gt;’A’) or (posicion&lt;=length(cadena)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&lt;tratar element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ontin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67C-7EE1-48B2-BE17-1C03148D4C9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8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&lt;encontrada ‘A’&gt;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Se encontró una A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o se encontró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encontrada A&gt; es posicion&gt;length(cade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PLICAR-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plicar porque no hace falta tratar el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17E-315B-48DD-92B1-2FB3DBCCAE6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7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usca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string; posicion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tra string ‘); readln(caden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adena[posicion]&lt;&gt;’A’) or (posicion&lt;=length(cadena)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ontin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2BA-90A6-4320-B249-E899E919CAB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8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posicion&gt;length(cadena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Se encontró una A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o se encontró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ejemplo del esquema de búsqu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610-21E5-4868-B392-DD038089CEF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quema de búsqued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904760" y="2514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liza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no encontrado and no fi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88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r ele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ceder a elemento sigu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88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 encontrado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88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miento encon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880" indent="-171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miento no encon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2160" y="1717560"/>
            <a:ext cx="84211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o particular de bucle cuando se quiere buscar un dato dentro d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a estructur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700-0F70-4E01-B988-32905604BC9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ta ahora las tablas nos habían servido para tener listas de elementos (disposiciones lineales de da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a veces, necesitamos matrices (disposiciones rectangulares de da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152280" y="3657600"/>
            <a:ext cx="8686800" cy="457200"/>
            <a:chOff x="152280" y="3657600"/>
            <a:chExt cx="8686800" cy="457200"/>
          </a:xfrm>
        </p:grpSpPr>
        <p:grpSp>
          <p:nvGrpSpPr>
            <p:cNvPr id="860" name=""/>
            <p:cNvGrpSpPr/>
            <p:nvPr/>
          </p:nvGrpSpPr>
          <p:grpSpPr>
            <a:xfrm>
              <a:off x="152280" y="3657600"/>
              <a:ext cx="5790960" cy="457200"/>
              <a:chOff x="152280" y="3657600"/>
              <a:chExt cx="5790960" cy="457200"/>
            </a:xfrm>
          </p:grpSpPr>
          <p:grpSp>
            <p:nvGrpSpPr>
              <p:cNvPr id="861" name=""/>
              <p:cNvGrpSpPr/>
              <p:nvPr/>
            </p:nvGrpSpPr>
            <p:grpSpPr>
              <a:xfrm>
                <a:off x="152280" y="3657600"/>
                <a:ext cx="2895480" cy="457200"/>
                <a:chOff x="152280" y="3657600"/>
                <a:chExt cx="2895480" cy="457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52280" y="365760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3772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59984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28564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3047760" y="3657600"/>
                <a:ext cx="2895480" cy="457200"/>
                <a:chOff x="3047760" y="3657600"/>
                <a:chExt cx="2895480" cy="45720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3047760" y="365760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73320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49532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181120" y="36576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1" name=""/>
            <p:cNvGrpSpPr/>
            <p:nvPr/>
          </p:nvGrpSpPr>
          <p:grpSpPr>
            <a:xfrm>
              <a:off x="5943600" y="3657600"/>
              <a:ext cx="2895480" cy="457200"/>
              <a:chOff x="5943600" y="3657600"/>
              <a:chExt cx="2895480" cy="457200"/>
            </a:xfrm>
          </p:grpSpPr>
          <p:sp>
            <p:nvSpPr>
              <p:cNvPr id="872" name=""/>
              <p:cNvSpPr/>
              <p:nvPr/>
            </p:nvSpPr>
            <p:spPr>
              <a:xfrm>
                <a:off x="5943600" y="365760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629040" y="365760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391160" y="365760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076960" y="365760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6" name=""/>
          <p:cNvSpPr/>
          <p:nvPr/>
        </p:nvSpPr>
        <p:spPr>
          <a:xfrm>
            <a:off x="290520" y="320040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71800" y="5486400"/>
            <a:ext cx="114300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5486400"/>
            <a:ext cx="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29000" y="5486400"/>
            <a:ext cx="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57600" y="5486400"/>
            <a:ext cx="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5486400"/>
            <a:ext cx="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971800" y="5715000"/>
            <a:ext cx="1143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971800" y="5943600"/>
            <a:ext cx="1143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971800" y="6172200"/>
            <a:ext cx="1143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562-A617-4155-AAF1-6B71063F264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compañía tiene 4 sucursales y queremos almacenar los gastos de cada sucursal en cada uno de los 12 meses del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7EE-64AE-4DA8-B2C1-CDA6156D659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57200" y="2133720"/>
            <a:ext cx="8686800" cy="457200"/>
            <a:chOff x="457200" y="2133720"/>
            <a:chExt cx="8686800" cy="457200"/>
          </a:xfrm>
        </p:grpSpPr>
        <p:grpSp>
          <p:nvGrpSpPr>
            <p:cNvPr id="889" name=""/>
            <p:cNvGrpSpPr/>
            <p:nvPr/>
          </p:nvGrpSpPr>
          <p:grpSpPr>
            <a:xfrm>
              <a:off x="457200" y="2133720"/>
              <a:ext cx="5790960" cy="457200"/>
              <a:chOff x="457200" y="2133720"/>
              <a:chExt cx="5790960" cy="45720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457200" y="2133720"/>
                <a:ext cx="2895480" cy="457200"/>
                <a:chOff x="457200" y="2133720"/>
                <a:chExt cx="2895480" cy="45720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45720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1426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9047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5905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3352680" y="2133720"/>
                <a:ext cx="2895480" cy="457200"/>
                <a:chOff x="3352680" y="2133720"/>
                <a:chExt cx="2895480" cy="4572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335268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03812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8002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4860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0" name=""/>
            <p:cNvGrpSpPr/>
            <p:nvPr/>
          </p:nvGrpSpPr>
          <p:grpSpPr>
            <a:xfrm>
              <a:off x="6248520" y="2133720"/>
              <a:ext cx="2895480" cy="457200"/>
              <a:chOff x="6248520" y="2133720"/>
              <a:chExt cx="2895480" cy="457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248520" y="21337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93396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960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3818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" name=""/>
          <p:cNvSpPr/>
          <p:nvPr/>
        </p:nvSpPr>
        <p:spPr>
          <a:xfrm>
            <a:off x="595440" y="167652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44956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forma de solucionarlo sería con 5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o, ¿si fueran 200 sucurs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hace difícil obtener reultados de diferentes arrays (por ejemplo, los resultados del mes de junio) Muchos 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453960" y="2590920"/>
            <a:ext cx="8686800" cy="457200"/>
            <a:chOff x="453960" y="2590920"/>
            <a:chExt cx="8686800" cy="457200"/>
          </a:xfrm>
        </p:grpSpPr>
        <p:grpSp>
          <p:nvGrpSpPr>
            <p:cNvPr id="908" name=""/>
            <p:cNvGrpSpPr/>
            <p:nvPr/>
          </p:nvGrpSpPr>
          <p:grpSpPr>
            <a:xfrm>
              <a:off x="453960" y="2590920"/>
              <a:ext cx="5790960" cy="457200"/>
              <a:chOff x="453960" y="2590920"/>
              <a:chExt cx="5790960" cy="45720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453960" y="2590920"/>
                <a:ext cx="2895480" cy="457200"/>
                <a:chOff x="453960" y="2590920"/>
                <a:chExt cx="2895480" cy="45720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45396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65   79   40   64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1394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9015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25873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3349440" y="2590920"/>
                <a:ext cx="2895480" cy="457200"/>
                <a:chOff x="3349440" y="2590920"/>
                <a:chExt cx="2895480" cy="45720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334944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6   81   19   7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03488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970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4828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"/>
            <p:cNvGrpSpPr/>
            <p:nvPr/>
          </p:nvGrpSpPr>
          <p:grpSpPr>
            <a:xfrm>
              <a:off x="6245280" y="2590920"/>
              <a:ext cx="2895480" cy="457200"/>
              <a:chOff x="6245280" y="2590920"/>
              <a:chExt cx="2895480" cy="457200"/>
            </a:xfrm>
          </p:grpSpPr>
          <p:sp>
            <p:nvSpPr>
              <p:cNvPr id="920" name=""/>
              <p:cNvSpPr/>
              <p:nvPr/>
            </p:nvSpPr>
            <p:spPr>
              <a:xfrm>
                <a:off x="6245280" y="2590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   57   1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93072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928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3786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453960" y="3048120"/>
            <a:ext cx="8686800" cy="457200"/>
            <a:chOff x="453960" y="3048120"/>
            <a:chExt cx="8686800" cy="457200"/>
          </a:xfrm>
        </p:grpSpPr>
        <p:grpSp>
          <p:nvGrpSpPr>
            <p:cNvPr id="925" name=""/>
            <p:cNvGrpSpPr/>
            <p:nvPr/>
          </p:nvGrpSpPr>
          <p:grpSpPr>
            <a:xfrm>
              <a:off x="453960" y="3048120"/>
              <a:ext cx="5790960" cy="457200"/>
              <a:chOff x="453960" y="3048120"/>
              <a:chExt cx="5790960" cy="45720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453960" y="3048120"/>
                <a:ext cx="2895480" cy="457200"/>
                <a:chOff x="453960" y="3048120"/>
                <a:chExt cx="2895480" cy="45720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45396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11394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19015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5873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3349440" y="3048120"/>
                <a:ext cx="2895480" cy="457200"/>
                <a:chOff x="3349440" y="3048120"/>
                <a:chExt cx="2895480" cy="45720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334944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03488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7970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4828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6" name=""/>
            <p:cNvGrpSpPr/>
            <p:nvPr/>
          </p:nvGrpSpPr>
          <p:grpSpPr>
            <a:xfrm>
              <a:off x="6245280" y="3048120"/>
              <a:ext cx="2895480" cy="457200"/>
              <a:chOff x="6245280" y="3048120"/>
              <a:chExt cx="2895480" cy="457200"/>
            </a:xfrm>
          </p:grpSpPr>
          <p:sp>
            <p:nvSpPr>
              <p:cNvPr id="937" name=""/>
              <p:cNvSpPr/>
              <p:nvPr/>
            </p:nvSpPr>
            <p:spPr>
              <a:xfrm>
                <a:off x="6245280" y="30481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3072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928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3786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1" name=""/>
          <p:cNvGrpSpPr/>
          <p:nvPr/>
        </p:nvGrpSpPr>
        <p:grpSpPr>
          <a:xfrm>
            <a:off x="453960" y="3962520"/>
            <a:ext cx="8686800" cy="457200"/>
            <a:chOff x="453960" y="3962520"/>
            <a:chExt cx="8686800" cy="457200"/>
          </a:xfrm>
        </p:grpSpPr>
        <p:grpSp>
          <p:nvGrpSpPr>
            <p:cNvPr id="942" name=""/>
            <p:cNvGrpSpPr/>
            <p:nvPr/>
          </p:nvGrpSpPr>
          <p:grpSpPr>
            <a:xfrm>
              <a:off x="453960" y="3962520"/>
              <a:ext cx="5790960" cy="457200"/>
              <a:chOff x="453960" y="3962520"/>
              <a:chExt cx="5790960" cy="45720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453960" y="3962520"/>
                <a:ext cx="2895480" cy="457200"/>
                <a:chOff x="453960" y="3962520"/>
                <a:chExt cx="2895480" cy="45720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45396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1394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9015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5873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3349440" y="3962520"/>
                <a:ext cx="2895480" cy="457200"/>
                <a:chOff x="3349440" y="3962520"/>
                <a:chExt cx="2895480" cy="45720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34944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03488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7970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4828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3" name=""/>
            <p:cNvGrpSpPr/>
            <p:nvPr/>
          </p:nvGrpSpPr>
          <p:grpSpPr>
            <a:xfrm>
              <a:off x="6245280" y="3962520"/>
              <a:ext cx="2895480" cy="457200"/>
              <a:chOff x="6245280" y="3962520"/>
              <a:chExt cx="2895480" cy="457200"/>
            </a:xfrm>
          </p:grpSpPr>
          <p:sp>
            <p:nvSpPr>
              <p:cNvPr id="954" name=""/>
              <p:cNvSpPr/>
              <p:nvPr/>
            </p:nvSpPr>
            <p:spPr>
              <a:xfrm>
                <a:off x="6245280" y="39625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93072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928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3786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453960" y="3505320"/>
            <a:ext cx="8686800" cy="457200"/>
            <a:chOff x="453960" y="3505320"/>
            <a:chExt cx="8686800" cy="457200"/>
          </a:xfrm>
        </p:grpSpPr>
        <p:grpSp>
          <p:nvGrpSpPr>
            <p:cNvPr id="959" name=""/>
            <p:cNvGrpSpPr/>
            <p:nvPr/>
          </p:nvGrpSpPr>
          <p:grpSpPr>
            <a:xfrm>
              <a:off x="453960" y="3505320"/>
              <a:ext cx="5790960" cy="457200"/>
              <a:chOff x="453960" y="3505320"/>
              <a:chExt cx="5790960" cy="457200"/>
            </a:xfrm>
          </p:grpSpPr>
          <p:grpSp>
            <p:nvGrpSpPr>
              <p:cNvPr id="960" name=""/>
              <p:cNvGrpSpPr/>
              <p:nvPr/>
            </p:nvGrpSpPr>
            <p:grpSpPr>
              <a:xfrm>
                <a:off x="453960" y="3505320"/>
                <a:ext cx="2895480" cy="457200"/>
                <a:chOff x="453960" y="3505320"/>
                <a:chExt cx="2895480" cy="45720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5396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1394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015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5873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3349440" y="3505320"/>
                <a:ext cx="2895480" cy="457200"/>
                <a:chOff x="3349440" y="3505320"/>
                <a:chExt cx="2895480" cy="45720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334944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03488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7970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4828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0" name=""/>
            <p:cNvGrpSpPr/>
            <p:nvPr/>
          </p:nvGrpSpPr>
          <p:grpSpPr>
            <a:xfrm>
              <a:off x="6245280" y="3505320"/>
              <a:ext cx="2895480" cy="457200"/>
              <a:chOff x="6245280" y="3505320"/>
              <a:chExt cx="2895480" cy="457200"/>
            </a:xfrm>
          </p:grpSpPr>
          <p:sp>
            <p:nvSpPr>
              <p:cNvPr id="971" name=""/>
              <p:cNvSpPr/>
              <p:nvPr/>
            </p:nvSpPr>
            <p:spPr>
              <a:xfrm>
                <a:off x="6245280" y="3505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3072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928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3786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"/>
          <p:cNvSpPr/>
          <p:nvPr/>
        </p:nvSpPr>
        <p:spPr>
          <a:xfrm>
            <a:off x="18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-298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DC6-E0C8-4BA1-B0F9-7DBC2E3137D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457200" y="2133720"/>
            <a:ext cx="8686800" cy="457200"/>
            <a:chOff x="457200" y="2133720"/>
            <a:chExt cx="8686800" cy="457200"/>
          </a:xfrm>
        </p:grpSpPr>
        <p:grpSp>
          <p:nvGrpSpPr>
            <p:cNvPr id="982" name=""/>
            <p:cNvGrpSpPr/>
            <p:nvPr/>
          </p:nvGrpSpPr>
          <p:grpSpPr>
            <a:xfrm>
              <a:off x="457200" y="2133720"/>
              <a:ext cx="5790960" cy="457200"/>
              <a:chOff x="457200" y="2133720"/>
              <a:chExt cx="5790960" cy="45720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457200" y="2133720"/>
                <a:ext cx="2895480" cy="457200"/>
                <a:chOff x="457200" y="2133720"/>
                <a:chExt cx="2895480" cy="45720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45720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1426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9047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5905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3352680" y="2133720"/>
                <a:ext cx="2895480" cy="457200"/>
                <a:chOff x="3352680" y="2133720"/>
                <a:chExt cx="2895480" cy="45720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335268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03812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8002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4860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3" name=""/>
            <p:cNvGrpSpPr/>
            <p:nvPr/>
          </p:nvGrpSpPr>
          <p:grpSpPr>
            <a:xfrm>
              <a:off x="6248520" y="2133720"/>
              <a:ext cx="2895480" cy="457200"/>
              <a:chOff x="6248520" y="2133720"/>
              <a:chExt cx="2895480" cy="457200"/>
            </a:xfrm>
          </p:grpSpPr>
          <p:sp>
            <p:nvSpPr>
              <p:cNvPr id="994" name=""/>
              <p:cNvSpPr/>
              <p:nvPr/>
            </p:nvSpPr>
            <p:spPr>
              <a:xfrm>
                <a:off x="6248520" y="21337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396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6960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3818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8" name=""/>
          <p:cNvSpPr/>
          <p:nvPr/>
        </p:nvSpPr>
        <p:spPr>
          <a:xfrm>
            <a:off x="595440" y="167652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28240" y="44956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manera mejor es defin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: array[1..4,1..12] of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imer número indica la sucursal, el segundo el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llama tabla con dos índices o dos dimen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453960" y="2590920"/>
            <a:ext cx="8686800" cy="457200"/>
            <a:chOff x="453960" y="2590920"/>
            <a:chExt cx="8686800" cy="457200"/>
          </a:xfrm>
        </p:grpSpPr>
        <p:grpSp>
          <p:nvGrpSpPr>
            <p:cNvPr id="1001" name=""/>
            <p:cNvGrpSpPr/>
            <p:nvPr/>
          </p:nvGrpSpPr>
          <p:grpSpPr>
            <a:xfrm>
              <a:off x="453960" y="2590920"/>
              <a:ext cx="5790960" cy="457200"/>
              <a:chOff x="453960" y="2590920"/>
              <a:chExt cx="5790960" cy="457200"/>
            </a:xfrm>
          </p:grpSpPr>
          <p:grpSp>
            <p:nvGrpSpPr>
              <p:cNvPr id="1002" name=""/>
              <p:cNvGrpSpPr/>
              <p:nvPr/>
            </p:nvGrpSpPr>
            <p:grpSpPr>
              <a:xfrm>
                <a:off x="453960" y="2590920"/>
                <a:ext cx="2895480" cy="457200"/>
                <a:chOff x="453960" y="2590920"/>
                <a:chExt cx="2895480" cy="4572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5396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65   79   40   64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1394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9015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25873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3349440" y="2590920"/>
                <a:ext cx="2895480" cy="457200"/>
                <a:chOff x="3349440" y="2590920"/>
                <a:chExt cx="2895480" cy="45720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334944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6   81   19   7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3488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7970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4828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2" name=""/>
            <p:cNvGrpSpPr/>
            <p:nvPr/>
          </p:nvGrpSpPr>
          <p:grpSpPr>
            <a:xfrm>
              <a:off x="6245280" y="2590920"/>
              <a:ext cx="2895480" cy="457200"/>
              <a:chOff x="6245280" y="2590920"/>
              <a:chExt cx="2895480" cy="457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6245280" y="2590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   57   1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93072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928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3786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453960" y="3048120"/>
            <a:ext cx="8686800" cy="457200"/>
            <a:chOff x="453960" y="3048120"/>
            <a:chExt cx="8686800" cy="457200"/>
          </a:xfrm>
        </p:grpSpPr>
        <p:grpSp>
          <p:nvGrpSpPr>
            <p:cNvPr id="1018" name=""/>
            <p:cNvGrpSpPr/>
            <p:nvPr/>
          </p:nvGrpSpPr>
          <p:grpSpPr>
            <a:xfrm>
              <a:off x="453960" y="3048120"/>
              <a:ext cx="5790960" cy="457200"/>
              <a:chOff x="453960" y="3048120"/>
              <a:chExt cx="5790960" cy="45720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453960" y="3048120"/>
                <a:ext cx="2895480" cy="457200"/>
                <a:chOff x="453960" y="3048120"/>
                <a:chExt cx="2895480" cy="45720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45396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1394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9015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5873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3349440" y="3048120"/>
                <a:ext cx="2895480" cy="457200"/>
                <a:chOff x="3349440" y="3048120"/>
                <a:chExt cx="2895480" cy="45720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334944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03488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7970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4828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"/>
            <p:cNvGrpSpPr/>
            <p:nvPr/>
          </p:nvGrpSpPr>
          <p:grpSpPr>
            <a:xfrm>
              <a:off x="6245280" y="3048120"/>
              <a:ext cx="2895480" cy="457200"/>
              <a:chOff x="6245280" y="3048120"/>
              <a:chExt cx="2895480" cy="457200"/>
            </a:xfrm>
          </p:grpSpPr>
          <p:sp>
            <p:nvSpPr>
              <p:cNvPr id="1030" name=""/>
              <p:cNvSpPr/>
              <p:nvPr/>
            </p:nvSpPr>
            <p:spPr>
              <a:xfrm>
                <a:off x="6245280" y="30481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93072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928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3786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4" name=""/>
          <p:cNvGrpSpPr/>
          <p:nvPr/>
        </p:nvGrpSpPr>
        <p:grpSpPr>
          <a:xfrm>
            <a:off x="453960" y="3962520"/>
            <a:ext cx="8686800" cy="457200"/>
            <a:chOff x="453960" y="3962520"/>
            <a:chExt cx="8686800" cy="457200"/>
          </a:xfrm>
        </p:grpSpPr>
        <p:grpSp>
          <p:nvGrpSpPr>
            <p:cNvPr id="1035" name=""/>
            <p:cNvGrpSpPr/>
            <p:nvPr/>
          </p:nvGrpSpPr>
          <p:grpSpPr>
            <a:xfrm>
              <a:off x="453960" y="3962520"/>
              <a:ext cx="5790960" cy="457200"/>
              <a:chOff x="453960" y="3962520"/>
              <a:chExt cx="5790960" cy="45720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453960" y="3962520"/>
                <a:ext cx="2895480" cy="457200"/>
                <a:chOff x="453960" y="3962520"/>
                <a:chExt cx="2895480" cy="45720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45396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1394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19015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5873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3349440" y="3962520"/>
                <a:ext cx="2895480" cy="457200"/>
                <a:chOff x="3349440" y="3962520"/>
                <a:chExt cx="2895480" cy="4572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334944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03488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7970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4828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6" name=""/>
            <p:cNvGrpSpPr/>
            <p:nvPr/>
          </p:nvGrpSpPr>
          <p:grpSpPr>
            <a:xfrm>
              <a:off x="6245280" y="3962520"/>
              <a:ext cx="2895480" cy="457200"/>
              <a:chOff x="6245280" y="3962520"/>
              <a:chExt cx="2895480" cy="457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6245280" y="39625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93072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928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786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1" name=""/>
          <p:cNvGrpSpPr/>
          <p:nvPr/>
        </p:nvGrpSpPr>
        <p:grpSpPr>
          <a:xfrm>
            <a:off x="453960" y="3505320"/>
            <a:ext cx="8686800" cy="457200"/>
            <a:chOff x="453960" y="3505320"/>
            <a:chExt cx="8686800" cy="457200"/>
          </a:xfrm>
        </p:grpSpPr>
        <p:grpSp>
          <p:nvGrpSpPr>
            <p:cNvPr id="1052" name=""/>
            <p:cNvGrpSpPr/>
            <p:nvPr/>
          </p:nvGrpSpPr>
          <p:grpSpPr>
            <a:xfrm>
              <a:off x="453960" y="3505320"/>
              <a:ext cx="5790960" cy="457200"/>
              <a:chOff x="453960" y="3505320"/>
              <a:chExt cx="5790960" cy="45720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453960" y="3505320"/>
                <a:ext cx="2895480" cy="457200"/>
                <a:chOff x="453960" y="3505320"/>
                <a:chExt cx="2895480" cy="4572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45396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11394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9015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5873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3349440" y="3505320"/>
                <a:ext cx="2895480" cy="457200"/>
                <a:chOff x="3349440" y="3505320"/>
                <a:chExt cx="2895480" cy="4572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334944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03488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7970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4828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"/>
            <p:cNvGrpSpPr/>
            <p:nvPr/>
          </p:nvGrpSpPr>
          <p:grpSpPr>
            <a:xfrm>
              <a:off x="6245280" y="3505320"/>
              <a:ext cx="2895480" cy="457200"/>
              <a:chOff x="6245280" y="3505320"/>
              <a:chExt cx="2895480" cy="457200"/>
            </a:xfrm>
          </p:grpSpPr>
          <p:sp>
            <p:nvSpPr>
              <p:cNvPr id="1064" name=""/>
              <p:cNvSpPr/>
              <p:nvPr/>
            </p:nvSpPr>
            <p:spPr>
              <a:xfrm>
                <a:off x="6245280" y="3505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93072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928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786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8" name=""/>
          <p:cNvSpPr/>
          <p:nvPr/>
        </p:nvSpPr>
        <p:spPr>
          <a:xfrm>
            <a:off x="18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-298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8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B6F-8F24-44DC-A491-54BDFCC68BB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457200" y="2133720"/>
            <a:ext cx="8686800" cy="457200"/>
            <a:chOff x="457200" y="2133720"/>
            <a:chExt cx="8686800" cy="457200"/>
          </a:xfrm>
        </p:grpSpPr>
        <p:grpSp>
          <p:nvGrpSpPr>
            <p:cNvPr id="1075" name=""/>
            <p:cNvGrpSpPr/>
            <p:nvPr/>
          </p:nvGrpSpPr>
          <p:grpSpPr>
            <a:xfrm>
              <a:off x="457200" y="2133720"/>
              <a:ext cx="5790960" cy="457200"/>
              <a:chOff x="457200" y="2133720"/>
              <a:chExt cx="5790960" cy="45720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457200" y="2133720"/>
                <a:ext cx="2895480" cy="457200"/>
                <a:chOff x="457200" y="2133720"/>
                <a:chExt cx="2895480" cy="4572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5720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1426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9047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25905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3352680" y="2133720"/>
                <a:ext cx="2895480" cy="457200"/>
                <a:chOff x="3352680" y="2133720"/>
                <a:chExt cx="2895480" cy="45720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335268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03812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8002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4860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6" name=""/>
            <p:cNvGrpSpPr/>
            <p:nvPr/>
          </p:nvGrpSpPr>
          <p:grpSpPr>
            <a:xfrm>
              <a:off x="6248520" y="2133720"/>
              <a:ext cx="2895480" cy="457200"/>
              <a:chOff x="6248520" y="2133720"/>
              <a:chExt cx="2895480" cy="457200"/>
            </a:xfrm>
          </p:grpSpPr>
          <p:sp>
            <p:nvSpPr>
              <p:cNvPr id="1087" name=""/>
              <p:cNvSpPr/>
              <p:nvPr/>
            </p:nvSpPr>
            <p:spPr>
              <a:xfrm>
                <a:off x="6248520" y="21337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93396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960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3818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1" name=""/>
          <p:cNvSpPr/>
          <p:nvPr/>
        </p:nvSpPr>
        <p:spPr>
          <a:xfrm>
            <a:off x="595440" y="167652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28240" y="44956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manera mejor es defin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: array[1..4,1..12] of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[2,12] son los gastos de la segunda sucursal el mes de diciembre. gastos[4,3] cuarta sucursal, marz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453960" y="2590920"/>
            <a:ext cx="8686800" cy="457200"/>
            <a:chOff x="453960" y="2590920"/>
            <a:chExt cx="8686800" cy="457200"/>
          </a:xfrm>
        </p:grpSpPr>
        <p:grpSp>
          <p:nvGrpSpPr>
            <p:cNvPr id="1094" name=""/>
            <p:cNvGrpSpPr/>
            <p:nvPr/>
          </p:nvGrpSpPr>
          <p:grpSpPr>
            <a:xfrm>
              <a:off x="453960" y="2590920"/>
              <a:ext cx="5790960" cy="457200"/>
              <a:chOff x="453960" y="2590920"/>
              <a:chExt cx="5790960" cy="45720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453960" y="2590920"/>
                <a:ext cx="2895480" cy="457200"/>
                <a:chOff x="453960" y="2590920"/>
                <a:chExt cx="2895480" cy="4572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396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65   79   40   64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11394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9015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5873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3349440" y="2590920"/>
                <a:ext cx="2895480" cy="457200"/>
                <a:chOff x="3349440" y="2590920"/>
                <a:chExt cx="2895480" cy="45720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334944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6   81   19   7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03488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7970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4828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5" name=""/>
            <p:cNvGrpSpPr/>
            <p:nvPr/>
          </p:nvGrpSpPr>
          <p:grpSpPr>
            <a:xfrm>
              <a:off x="6245280" y="2590920"/>
              <a:ext cx="2895480" cy="457200"/>
              <a:chOff x="6245280" y="2590920"/>
              <a:chExt cx="2895480" cy="457200"/>
            </a:xfrm>
          </p:grpSpPr>
          <p:sp>
            <p:nvSpPr>
              <p:cNvPr id="1106" name=""/>
              <p:cNvSpPr/>
              <p:nvPr/>
            </p:nvSpPr>
            <p:spPr>
              <a:xfrm>
                <a:off x="6245280" y="2590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   57   1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93072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928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3786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453960" y="3048120"/>
            <a:ext cx="8686800" cy="457200"/>
            <a:chOff x="453960" y="3048120"/>
            <a:chExt cx="8686800" cy="457200"/>
          </a:xfrm>
        </p:grpSpPr>
        <p:grpSp>
          <p:nvGrpSpPr>
            <p:cNvPr id="1111" name=""/>
            <p:cNvGrpSpPr/>
            <p:nvPr/>
          </p:nvGrpSpPr>
          <p:grpSpPr>
            <a:xfrm>
              <a:off x="453960" y="3048120"/>
              <a:ext cx="5790960" cy="457200"/>
              <a:chOff x="453960" y="3048120"/>
              <a:chExt cx="5790960" cy="45720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453960" y="3048120"/>
                <a:ext cx="2895480" cy="457200"/>
                <a:chOff x="453960" y="3048120"/>
                <a:chExt cx="2895480" cy="457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45396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11394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9015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25873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3349440" y="3048120"/>
                <a:ext cx="2895480" cy="457200"/>
                <a:chOff x="3349440" y="3048120"/>
                <a:chExt cx="2895480" cy="4572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334944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03488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7970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4828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2" name=""/>
            <p:cNvGrpSpPr/>
            <p:nvPr/>
          </p:nvGrpSpPr>
          <p:grpSpPr>
            <a:xfrm>
              <a:off x="6245280" y="3048120"/>
              <a:ext cx="2895480" cy="457200"/>
              <a:chOff x="6245280" y="3048120"/>
              <a:chExt cx="2895480" cy="457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6245280" y="30481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93072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928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3786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7" name=""/>
          <p:cNvGrpSpPr/>
          <p:nvPr/>
        </p:nvGrpSpPr>
        <p:grpSpPr>
          <a:xfrm>
            <a:off x="453960" y="3962520"/>
            <a:ext cx="8686800" cy="457200"/>
            <a:chOff x="453960" y="3962520"/>
            <a:chExt cx="8686800" cy="457200"/>
          </a:xfrm>
        </p:grpSpPr>
        <p:grpSp>
          <p:nvGrpSpPr>
            <p:cNvPr id="1128" name=""/>
            <p:cNvGrpSpPr/>
            <p:nvPr/>
          </p:nvGrpSpPr>
          <p:grpSpPr>
            <a:xfrm>
              <a:off x="453960" y="3962520"/>
              <a:ext cx="5790960" cy="457200"/>
              <a:chOff x="453960" y="3962520"/>
              <a:chExt cx="5790960" cy="457200"/>
            </a:xfrm>
          </p:grpSpPr>
          <p:grpSp>
            <p:nvGrpSpPr>
              <p:cNvPr id="1129" name=""/>
              <p:cNvGrpSpPr/>
              <p:nvPr/>
            </p:nvGrpSpPr>
            <p:grpSpPr>
              <a:xfrm>
                <a:off x="453960" y="3962520"/>
                <a:ext cx="2895480" cy="457200"/>
                <a:chOff x="453960" y="3962520"/>
                <a:chExt cx="2895480" cy="45720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45396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1394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9015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5873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349440" y="3962520"/>
                <a:ext cx="2895480" cy="457200"/>
                <a:chOff x="3349440" y="3962520"/>
                <a:chExt cx="2895480" cy="4572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34944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03488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7970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4828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9" name=""/>
            <p:cNvGrpSpPr/>
            <p:nvPr/>
          </p:nvGrpSpPr>
          <p:grpSpPr>
            <a:xfrm>
              <a:off x="6245280" y="3962520"/>
              <a:ext cx="2895480" cy="457200"/>
              <a:chOff x="6245280" y="3962520"/>
              <a:chExt cx="2895480" cy="457200"/>
            </a:xfrm>
          </p:grpSpPr>
          <p:sp>
            <p:nvSpPr>
              <p:cNvPr id="1140" name=""/>
              <p:cNvSpPr/>
              <p:nvPr/>
            </p:nvSpPr>
            <p:spPr>
              <a:xfrm>
                <a:off x="6245280" y="39625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93072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928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3786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4" name=""/>
          <p:cNvGrpSpPr/>
          <p:nvPr/>
        </p:nvGrpSpPr>
        <p:grpSpPr>
          <a:xfrm>
            <a:off x="453960" y="3505320"/>
            <a:ext cx="8686800" cy="457200"/>
            <a:chOff x="453960" y="3505320"/>
            <a:chExt cx="8686800" cy="457200"/>
          </a:xfrm>
        </p:grpSpPr>
        <p:grpSp>
          <p:nvGrpSpPr>
            <p:cNvPr id="1145" name=""/>
            <p:cNvGrpSpPr/>
            <p:nvPr/>
          </p:nvGrpSpPr>
          <p:grpSpPr>
            <a:xfrm>
              <a:off x="453960" y="3505320"/>
              <a:ext cx="5790960" cy="457200"/>
              <a:chOff x="453960" y="3505320"/>
              <a:chExt cx="5790960" cy="457200"/>
            </a:xfrm>
          </p:grpSpPr>
          <p:grpSp>
            <p:nvGrpSpPr>
              <p:cNvPr id="1146" name=""/>
              <p:cNvGrpSpPr/>
              <p:nvPr/>
            </p:nvGrpSpPr>
            <p:grpSpPr>
              <a:xfrm>
                <a:off x="453960" y="3505320"/>
                <a:ext cx="2895480" cy="457200"/>
                <a:chOff x="453960" y="3505320"/>
                <a:chExt cx="2895480" cy="4572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5396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1394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9015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5873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3349440" y="3505320"/>
                <a:ext cx="2895480" cy="457200"/>
                <a:chOff x="3349440" y="3505320"/>
                <a:chExt cx="2895480" cy="4572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34944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03488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7970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4828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6" name=""/>
            <p:cNvGrpSpPr/>
            <p:nvPr/>
          </p:nvGrpSpPr>
          <p:grpSpPr>
            <a:xfrm>
              <a:off x="6245280" y="3505320"/>
              <a:ext cx="2895480" cy="457200"/>
              <a:chOff x="6245280" y="3505320"/>
              <a:chExt cx="2895480" cy="457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6245280" y="3505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93072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928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3786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1" name=""/>
          <p:cNvSpPr/>
          <p:nvPr/>
        </p:nvSpPr>
        <p:spPr>
          <a:xfrm>
            <a:off x="18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-298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83A-80EC-4D3F-913B-5201811031D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a variable de tipo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esto es muy largo de escrib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vez de eso, cada “cajita” o elemento se llama as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109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33840" y="3962520"/>
            <a:ext cx="569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quiere decir, el tercer elemento de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es decir, el elemento de precio de la tercer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osició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D37-EB92-48C4-98BF-B13BFBC59A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blas multidimension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7200" y="2133720"/>
            <a:ext cx="8686800" cy="457200"/>
            <a:chOff x="457200" y="2133720"/>
            <a:chExt cx="8686800" cy="457200"/>
          </a:xfrm>
        </p:grpSpPr>
        <p:grpSp>
          <p:nvGrpSpPr>
            <p:cNvPr id="1168" name=""/>
            <p:cNvGrpSpPr/>
            <p:nvPr/>
          </p:nvGrpSpPr>
          <p:grpSpPr>
            <a:xfrm>
              <a:off x="457200" y="2133720"/>
              <a:ext cx="5790960" cy="457200"/>
              <a:chOff x="457200" y="2133720"/>
              <a:chExt cx="5790960" cy="457200"/>
            </a:xfrm>
          </p:grpSpPr>
          <p:grpSp>
            <p:nvGrpSpPr>
              <p:cNvPr id="1169" name=""/>
              <p:cNvGrpSpPr/>
              <p:nvPr/>
            </p:nvGrpSpPr>
            <p:grpSpPr>
              <a:xfrm>
                <a:off x="457200" y="2133720"/>
                <a:ext cx="2895480" cy="457200"/>
                <a:chOff x="457200" y="2133720"/>
                <a:chExt cx="2895480" cy="45720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45720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1426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9047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59056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4" name=""/>
              <p:cNvGrpSpPr/>
              <p:nvPr/>
            </p:nvGrpSpPr>
            <p:grpSpPr>
              <a:xfrm>
                <a:off x="3352680" y="2133720"/>
                <a:ext cx="2895480" cy="457200"/>
                <a:chOff x="3352680" y="2133720"/>
                <a:chExt cx="2895480" cy="45720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3352680" y="21337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03812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8002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486040" y="2133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9" name=""/>
            <p:cNvGrpSpPr/>
            <p:nvPr/>
          </p:nvGrpSpPr>
          <p:grpSpPr>
            <a:xfrm>
              <a:off x="6248520" y="2133720"/>
              <a:ext cx="2895480" cy="457200"/>
              <a:chOff x="6248520" y="2133720"/>
              <a:chExt cx="2895480" cy="4572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248520" y="21337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93396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960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381880" y="21337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4" name=""/>
          <p:cNvSpPr/>
          <p:nvPr/>
        </p:nvSpPr>
        <p:spPr>
          <a:xfrm>
            <a:off x="595440" y="167652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       2       3        4        5        6       7       8       9       10      11   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28240" y="44956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manera mejor es defin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: array[1..4,1..12] of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[3] es una tabla con los gastos de la 3 sucur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453960" y="2590920"/>
            <a:ext cx="8686800" cy="457200"/>
            <a:chOff x="453960" y="2590920"/>
            <a:chExt cx="8686800" cy="457200"/>
          </a:xfrm>
        </p:grpSpPr>
        <p:grpSp>
          <p:nvGrpSpPr>
            <p:cNvPr id="1187" name=""/>
            <p:cNvGrpSpPr/>
            <p:nvPr/>
          </p:nvGrpSpPr>
          <p:grpSpPr>
            <a:xfrm>
              <a:off x="453960" y="2590920"/>
              <a:ext cx="5790960" cy="457200"/>
              <a:chOff x="453960" y="2590920"/>
              <a:chExt cx="5790960" cy="457200"/>
            </a:xfrm>
          </p:grpSpPr>
          <p:grpSp>
            <p:nvGrpSpPr>
              <p:cNvPr id="1188" name=""/>
              <p:cNvGrpSpPr/>
              <p:nvPr/>
            </p:nvGrpSpPr>
            <p:grpSpPr>
              <a:xfrm>
                <a:off x="453960" y="2590920"/>
                <a:ext cx="2895480" cy="457200"/>
                <a:chOff x="453960" y="2590920"/>
                <a:chExt cx="2895480" cy="45720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45396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65   79   40   64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1394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9015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58732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349440" y="2590920"/>
                <a:ext cx="2895480" cy="457200"/>
                <a:chOff x="3349440" y="2590920"/>
                <a:chExt cx="2895480" cy="4572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349440" y="2590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6   81   19   7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03488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7970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5482800" y="2590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"/>
            <p:cNvGrpSpPr/>
            <p:nvPr/>
          </p:nvGrpSpPr>
          <p:grpSpPr>
            <a:xfrm>
              <a:off x="6245280" y="2590920"/>
              <a:ext cx="2895480" cy="457200"/>
              <a:chOff x="6245280" y="2590920"/>
              <a:chExt cx="2895480" cy="457200"/>
            </a:xfrm>
          </p:grpSpPr>
          <p:sp>
            <p:nvSpPr>
              <p:cNvPr id="1199" name=""/>
              <p:cNvSpPr/>
              <p:nvPr/>
            </p:nvSpPr>
            <p:spPr>
              <a:xfrm>
                <a:off x="6245280" y="2590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   57   1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93072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928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378640" y="2590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3" name=""/>
          <p:cNvGrpSpPr/>
          <p:nvPr/>
        </p:nvGrpSpPr>
        <p:grpSpPr>
          <a:xfrm>
            <a:off x="453960" y="3048120"/>
            <a:ext cx="8686800" cy="457200"/>
            <a:chOff x="453960" y="3048120"/>
            <a:chExt cx="8686800" cy="457200"/>
          </a:xfrm>
        </p:grpSpPr>
        <p:grpSp>
          <p:nvGrpSpPr>
            <p:cNvPr id="1204" name=""/>
            <p:cNvGrpSpPr/>
            <p:nvPr/>
          </p:nvGrpSpPr>
          <p:grpSpPr>
            <a:xfrm>
              <a:off x="453960" y="3048120"/>
              <a:ext cx="5790960" cy="457200"/>
              <a:chOff x="453960" y="3048120"/>
              <a:chExt cx="5790960" cy="457200"/>
            </a:xfrm>
          </p:grpSpPr>
          <p:grpSp>
            <p:nvGrpSpPr>
              <p:cNvPr id="1205" name=""/>
              <p:cNvGrpSpPr/>
              <p:nvPr/>
            </p:nvGrpSpPr>
            <p:grpSpPr>
              <a:xfrm>
                <a:off x="453960" y="3048120"/>
                <a:ext cx="2895480" cy="457200"/>
                <a:chOff x="453960" y="3048120"/>
                <a:chExt cx="2895480" cy="45720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45396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1394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9015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58732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3349440" y="3048120"/>
                <a:ext cx="2895480" cy="457200"/>
                <a:chOff x="3349440" y="3048120"/>
                <a:chExt cx="2895480" cy="45720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3349440" y="30481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03488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7970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5482800" y="30481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5" name=""/>
            <p:cNvGrpSpPr/>
            <p:nvPr/>
          </p:nvGrpSpPr>
          <p:grpSpPr>
            <a:xfrm>
              <a:off x="6245280" y="3048120"/>
              <a:ext cx="2895480" cy="457200"/>
              <a:chOff x="6245280" y="3048120"/>
              <a:chExt cx="289548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6245280" y="30481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072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6928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78640" y="30481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53960" y="3962520"/>
            <a:ext cx="8686800" cy="457200"/>
            <a:chOff x="453960" y="3962520"/>
            <a:chExt cx="8686800" cy="457200"/>
          </a:xfrm>
        </p:grpSpPr>
        <p:grpSp>
          <p:nvGrpSpPr>
            <p:cNvPr id="1221" name=""/>
            <p:cNvGrpSpPr/>
            <p:nvPr/>
          </p:nvGrpSpPr>
          <p:grpSpPr>
            <a:xfrm>
              <a:off x="453960" y="3962520"/>
              <a:ext cx="5790960" cy="457200"/>
              <a:chOff x="453960" y="3962520"/>
              <a:chExt cx="5790960" cy="45720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453960" y="3962520"/>
                <a:ext cx="2895480" cy="457200"/>
                <a:chOff x="453960" y="3962520"/>
                <a:chExt cx="2895480" cy="45720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45396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11394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9015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58732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3349440" y="3962520"/>
                <a:ext cx="2895480" cy="457200"/>
                <a:chOff x="3349440" y="3962520"/>
                <a:chExt cx="2895480" cy="45720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3349440" y="39625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03488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7970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482800" y="39625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2" name=""/>
            <p:cNvGrpSpPr/>
            <p:nvPr/>
          </p:nvGrpSpPr>
          <p:grpSpPr>
            <a:xfrm>
              <a:off x="6245280" y="3962520"/>
              <a:ext cx="2895480" cy="457200"/>
              <a:chOff x="6245280" y="3962520"/>
              <a:chExt cx="2895480" cy="457200"/>
            </a:xfrm>
          </p:grpSpPr>
          <p:sp>
            <p:nvSpPr>
              <p:cNvPr id="1233" name=""/>
              <p:cNvSpPr/>
              <p:nvPr/>
            </p:nvSpPr>
            <p:spPr>
              <a:xfrm>
                <a:off x="6245280" y="39625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93072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928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378640" y="39625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7" name=""/>
          <p:cNvGrpSpPr/>
          <p:nvPr/>
        </p:nvGrpSpPr>
        <p:grpSpPr>
          <a:xfrm>
            <a:off x="453960" y="3505320"/>
            <a:ext cx="8686800" cy="457200"/>
            <a:chOff x="453960" y="3505320"/>
            <a:chExt cx="8686800" cy="457200"/>
          </a:xfrm>
        </p:grpSpPr>
        <p:grpSp>
          <p:nvGrpSpPr>
            <p:cNvPr id="1238" name=""/>
            <p:cNvGrpSpPr/>
            <p:nvPr/>
          </p:nvGrpSpPr>
          <p:grpSpPr>
            <a:xfrm>
              <a:off x="453960" y="3505320"/>
              <a:ext cx="5790960" cy="457200"/>
              <a:chOff x="453960" y="3505320"/>
              <a:chExt cx="5790960" cy="457200"/>
            </a:xfrm>
          </p:grpSpPr>
          <p:grpSp>
            <p:nvGrpSpPr>
              <p:cNvPr id="1239" name=""/>
              <p:cNvGrpSpPr/>
              <p:nvPr/>
            </p:nvGrpSpPr>
            <p:grpSpPr>
              <a:xfrm>
                <a:off x="453960" y="3505320"/>
                <a:ext cx="2895480" cy="457200"/>
                <a:chOff x="453960" y="3505320"/>
                <a:chExt cx="2895480" cy="45720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45396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11394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19015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8732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3349440" y="3505320"/>
                <a:ext cx="2895480" cy="457200"/>
                <a:chOff x="3349440" y="3505320"/>
                <a:chExt cx="2895480" cy="45720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3349440" y="3505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03488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7970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482800" y="3505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9" name=""/>
            <p:cNvGrpSpPr/>
            <p:nvPr/>
          </p:nvGrpSpPr>
          <p:grpSpPr>
            <a:xfrm>
              <a:off x="6245280" y="3505320"/>
              <a:ext cx="2895480" cy="457200"/>
              <a:chOff x="6245280" y="3505320"/>
              <a:chExt cx="2895480" cy="457200"/>
            </a:xfrm>
          </p:grpSpPr>
          <p:sp>
            <p:nvSpPr>
              <p:cNvPr id="1250" name=""/>
              <p:cNvSpPr/>
              <p:nvPr/>
            </p:nvSpPr>
            <p:spPr>
              <a:xfrm>
                <a:off x="6245280" y="3505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93072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928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378640" y="3505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4" name=""/>
          <p:cNvSpPr/>
          <p:nvPr/>
        </p:nvSpPr>
        <p:spPr>
          <a:xfrm>
            <a:off x="18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-298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8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B29-0439-4F67-B6B0-AF96D88FDD2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blas de más dimens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aginemos que queremos los gastos de cada sucursal, en cada día de cada 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dríamos hac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: array[1..4,1..12,1..31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 gastos [3,2,5] son los gastos de la tercera sucursal el 5 de febr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PODEMOS TENER TANTOS ÍNDICES COMO QUERA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664-147B-4DA6-AE45-A51B0710518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s elementos de una variable de tipo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la variable de tipo tabla se llama “nombr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7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[1] es el primer elemento de “nomb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7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bre[2 ] es el segundo elemento de “nombre” y as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s números 1, 2... se les llama 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136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148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6483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14720" y="3962520"/>
            <a:ext cx="55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quiere decir, el tercer elemento de nombr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3600" y="6248520"/>
            <a:ext cx="267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790-2CAA-47C3-8973-60E26AE784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tación de los elementos de una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uno de los elementos se comporta como una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ueden hacer asignaciones con é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uede hacer un write o un read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163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175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6483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3600" y="6248520"/>
            <a:ext cx="267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92880" y="39625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E42-FD41-4814-B46D-BB4AA9FCBE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tación de la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una tabla como la de abajo se puede decir que es una tabla de números enteros que va desde la posición 1 a la posición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o en Pascal es array [1..12] of inte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191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962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6483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3600" y="6248520"/>
            <a:ext cx="267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92880" y="39625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mbre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BC1-0D07-465A-BBD5-EFDADAEAE7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epto de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tabla es un tipo de datos que permite guardar una colección ordenada de datos del mismo t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orde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datos deben ser todos del mismo t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un tamañ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219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31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EB6-2F1A-4043-B067-C6627F3090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se puede hacer con las variables de tipo  tabla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cualquier otra variable, con las tablas se pueden hacer dos co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ar valores en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r los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ribir los valor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238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50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2CE-1E76-45DB-8838-2E0E8FD676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y dos formas de declarar las tablas. La 1ª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nombre&gt;:array[&lt;primeraposición&gt;..&lt;ultimaposicion&gt;] of &lt;tipodelos elemento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257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69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70A-16A3-44FA-B4CA-D3F9A339BF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si la tabla de abajo fuera se llamara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cio:array[1..12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285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297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AF5-B1AF-4253-AC9C-CB9CF6BDDD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tención: una tabla no tiene porque comenzar por 1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nque suele ser lo más habi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cio:array[100..111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313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325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-360" y="3962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00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99840" y="3962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0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440" y="46483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0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92520" y="3962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1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8BD-20A7-4936-B1B5-CCB0416A79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problema sencil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por teclado el salario por horas y las horas de trabajo al mes de un empleado. Debe escribir por pantalla el salario mensual del emple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A48-8E8A-4659-A8CE-D7C9303090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2ª manera de declarar tablas, es definiendo un “tipo tabla” en la parte “type” del progra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341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353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E0D-2894-4908-B140-53484EBAF4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 de un programa con “typ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nombre programa&gt;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constant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tipos definidos por el usuario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declaración de variabl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1DA-1CB7-4AD4-921B-52FA521016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7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TipoTabla&gt;=array[&lt;primeraposición&gt;..&lt;ultimaposicion&gt;] of &lt;tipodelos elemento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-7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nombre&gt;:&lt;TipoTabl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7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371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383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C0B-A478-463E-9AFB-4BA5B35A66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clarar las tabl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blaDeDoce=array[1..12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cio:TablaDeDoce; gastos: TablaDeDo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399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411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-36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3372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51055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99840" y="3962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440" y="4648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63600" y="6248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92520" y="3962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1880" y="44956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287-C967-4379-9B52-0F7B267E59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ipos definidos por el usuar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blaDeDoce=array[1..12] of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cio:TablaDeDoce; gastos: TablaDeDo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TABLADEDOCE ES UN TIPO DE DATOS COMO CUALQUIER OTRO (entero, booleano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cal nos deja definir nuestros tipos de datos en la sección “type”, pero no hablaremos de ese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A6D-FDAE-485B-B883-4F07715340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minologí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s tablas que se han declarado sin usar “type” se les llama tablas de tipos anónimos o declaradas en forma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s que se han declarado usando “type” se les llama tablas de tipos no anónimos o declaradas en forma no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distinción será importante cuando hablemos de procedimientos y fun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0BE-D11E-4408-9B64-9B71D61B56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larar las siguientes tabl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tabla de reales que vaya de la posición 1000 a la 2000 en forma anónima que se llame “tabla1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misma tabla en forma no anón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tabla de booleanos que vaya de la posición 1 a la 20, en forma anónima que se llame “vot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tabla de caracteres que vaya de la posición 1 a la 100, en forma no anónima y que se llame “apelli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4EB-C88D-4D05-9609-E8087C69AB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soluciones son la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tabla1: array [1000..2000] of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 MuchosReales: array [1000..2000] of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tabla1: Muchos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votos: array[1..20] of boo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ype TablaCaracter: array[1..100] of boo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 apellido: TablaC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1BE-830E-4560-A037-1760543E2C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minología de las tabla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52280" y="3581280"/>
            <a:ext cx="8686800" cy="457200"/>
            <a:chOff x="152280" y="3581280"/>
            <a:chExt cx="8686800" cy="457200"/>
          </a:xfrm>
        </p:grpSpPr>
        <p:grpSp>
          <p:nvGrpSpPr>
            <p:cNvPr id="434" name=""/>
            <p:cNvGrpSpPr/>
            <p:nvPr/>
          </p:nvGrpSpPr>
          <p:grpSpPr>
            <a:xfrm>
              <a:off x="152280" y="3581280"/>
              <a:ext cx="5790960" cy="457200"/>
              <a:chOff x="152280" y="3581280"/>
              <a:chExt cx="5790960" cy="45720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152280" y="3581280"/>
                <a:ext cx="2895480" cy="457200"/>
                <a:chOff x="152280" y="3581280"/>
                <a:chExt cx="2895480" cy="4572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52280" y="35812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377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59984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28564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047760" y="3581280"/>
                <a:ext cx="2895480" cy="457200"/>
                <a:chOff x="3047760" y="3581280"/>
                <a:chExt cx="2895480" cy="4572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047760" y="35812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73320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4953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1811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5943600" y="3581280"/>
              <a:ext cx="2895480" cy="457200"/>
              <a:chOff x="5943600" y="3581280"/>
              <a:chExt cx="2895480" cy="457200"/>
            </a:xfrm>
          </p:grpSpPr>
          <p:sp>
            <p:nvSpPr>
              <p:cNvPr id="446" name=""/>
              <p:cNvSpPr/>
              <p:nvPr/>
            </p:nvSpPr>
            <p:spPr>
              <a:xfrm>
                <a:off x="5943600" y="35812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2904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39116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07696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-360" y="1905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30481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99840" y="1905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440" y="2590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7520" y="2819520"/>
            <a:ext cx="2487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92520" y="19051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8188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5400" y="4343400"/>
            <a:ext cx="85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cada elemento, se le puede llamar “elemento”, “casilla” o “celda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su contenido se le llama “contenido” o “valor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la posición dentro de la tabla que ocupa se le llama “posición”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y es un númer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sí, en precio[2], es la casilla de la posición 2 y tiene el valor 1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 el segundo elemento y su contenido es 1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CCA-36ED-4C53-A26F-849545619A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minología de las tabla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52280" y="3581280"/>
            <a:ext cx="8686800" cy="457200"/>
            <a:chOff x="152280" y="3581280"/>
            <a:chExt cx="8686800" cy="457200"/>
          </a:xfrm>
        </p:grpSpPr>
        <p:grpSp>
          <p:nvGrpSpPr>
            <p:cNvPr id="462" name=""/>
            <p:cNvGrpSpPr/>
            <p:nvPr/>
          </p:nvGrpSpPr>
          <p:grpSpPr>
            <a:xfrm>
              <a:off x="152280" y="3581280"/>
              <a:ext cx="5790960" cy="457200"/>
              <a:chOff x="152280" y="3581280"/>
              <a:chExt cx="5790960" cy="4572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52280" y="3581280"/>
                <a:ext cx="2895480" cy="457200"/>
                <a:chOff x="152280" y="3581280"/>
                <a:chExt cx="2895480" cy="457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52280" y="35812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377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59984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28564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047760" y="3581280"/>
                <a:ext cx="2895480" cy="457200"/>
                <a:chOff x="3047760" y="3581280"/>
                <a:chExt cx="2895480" cy="4572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047760" y="35812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73320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4953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81120" y="35812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5943600" y="3581280"/>
              <a:ext cx="2895480" cy="457200"/>
              <a:chOff x="5943600" y="3581280"/>
              <a:chExt cx="2895480" cy="457200"/>
            </a:xfrm>
          </p:grpSpPr>
          <p:sp>
            <p:nvSpPr>
              <p:cNvPr id="474" name=""/>
              <p:cNvSpPr/>
              <p:nvPr/>
            </p:nvSpPr>
            <p:spPr>
              <a:xfrm>
                <a:off x="5943600" y="35812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2904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39116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076960" y="35812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>
            <a:off x="-360" y="1905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43000" y="30481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99840" y="1905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440" y="2590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74200" y="1371600"/>
            <a:ext cx="54338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: ARRAY[1..12] OF INTEG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92520" y="19051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2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81880" y="24382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43434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 rango de valores de la tabla se le llama ÍNDICE o RANG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 número de elementos, se le llama TAMAÑO DE LA TABL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sí precio tiene un tamaño de 12 elementos. El índice va de 1 a 1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592-A229-485F-9F5C-A898AE97A7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programa sencil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alar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, HorasPorMes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el costo por hora’); readln(CostoPorHor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las horas por mes’); readln(HorasPor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salario mensual es de ‘, CostoPorHora*HorasPorMes:0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79B-AC34-439A-BAC0-BE865E8909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se puede hacer con las variables de tipo  tabla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cualquier otra variable, con las tablas se pueden hacer dos co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rlas (YA LO HEMOS V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ardar valores en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uperar los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ribir los valor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491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503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016-4C51-44AB-B932-105E97BC3B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sar las variables de tipo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ntenido o valor de las variables enteras, booleanas, reales y caracteres se podían manipular de una sola 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una única operación podíamos asignar TODO el contenido, escribir TODO el contenido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no es cierto con las variables ta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puede manipular el contenido de una v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manipularse el contenido de cada elemento por sepa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9ED-9147-4598-8315-D1FC10C8C9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escribir una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867280" y="3276720"/>
            <a:ext cx="2133720" cy="457200"/>
            <a:chOff x="5867280" y="3276720"/>
            <a:chExt cx="2133720" cy="457200"/>
          </a:xfrm>
        </p:grpSpPr>
        <p:sp>
          <p:nvSpPr>
            <p:cNvPr id="511" name=""/>
            <p:cNvSpPr/>
            <p:nvPr/>
          </p:nvSpPr>
          <p:spPr>
            <a:xfrm>
              <a:off x="5867280" y="3276720"/>
              <a:ext cx="213372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cc"/>
                  </a:solidFill>
                  <a:latin typeface="Garamond"/>
                </a:rPr>
                <a:t>30  57   99</a:t>
              </a:r>
              <a:endParaRPr b="0" lang="en-US" sz="3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767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5200" y="32767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01000" y="32767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497920" y="190512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ecio: array [1..3] of integ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6080" y="1946160"/>
            <a:ext cx="18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gasto: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GAS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7960" y="3352680"/>
            <a:ext cx="761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Garamond"/>
              </a:rPr>
              <a:t>44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39720" y="335268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35200" y="25909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200" y="4267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gast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8480" y="419112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preci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552720" y="3962520"/>
            <a:ext cx="838440" cy="838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77120" y="4038480"/>
            <a:ext cx="914400" cy="762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05520" y="441972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6280" y="4191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43600" y="4724280"/>
            <a:ext cx="212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precio[1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precio[2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precio[3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533412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45200" y="5105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4280" y="594360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BEN ESCRIBIRSE LOS ELEMENTOS UNO POR U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C37-F76F-43BA-82D7-B82E71EBB2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: asignar una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019920" y="5334120"/>
            <a:ext cx="2133360" cy="457200"/>
            <a:chOff x="6019920" y="5334120"/>
            <a:chExt cx="2133360" cy="457200"/>
          </a:xfrm>
        </p:grpSpPr>
        <p:sp>
          <p:nvSpPr>
            <p:cNvPr id="532" name=""/>
            <p:cNvSpPr/>
            <p:nvPr/>
          </p:nvSpPr>
          <p:spPr>
            <a:xfrm>
              <a:off x="6019920" y="5334120"/>
              <a:ext cx="213336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cc"/>
                  </a:solidFill>
                  <a:latin typeface="Garamond"/>
                </a:rPr>
                <a:t>30  57   99</a:t>
              </a:r>
              <a:endParaRPr b="0" lang="en-US" sz="3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05360" y="53341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67480" y="53341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497920" y="190512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ecio: array [1..3] of integ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6080" y="1946160"/>
            <a:ext cx="18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gasto: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7960" y="4343400"/>
            <a:ext cx="76176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Garamond"/>
              </a:rPr>
              <a:t>44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39720" y="434340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87480" y="46483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4200" y="5257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gast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247800" y="2590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:=30,57,9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705720" y="2438280"/>
            <a:ext cx="838080" cy="838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2514600"/>
            <a:ext cx="914400" cy="762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281952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4880" y="25909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253200" y="3476520"/>
            <a:ext cx="258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1]:=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2]:=5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cio[3]:=9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9800" y="408636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59480" y="3857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3920" y="5943600"/>
            <a:ext cx="79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BEN ASIGNARSE LOS ELEMENTOS UNO POR U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5320" y="3733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AS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2971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asto:= 4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CA8-041B-4DD7-9FBF-208E831E56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: Usar una tabl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tabla no puede ser manipulada globa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n de ser manipulados individualmente su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elemento t[1], t[2], t[3] ... se comporta exactamente como un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t[1]), read(t[1000]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[5]:=100; t[12]:=t[12] + 1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610-47C7-4F00-813A-0BE0B0145D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lea tres caracteres de teclado y los guarde en una tabla de tres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4F3-AC50-470E-8DC3-1AE3D3C1F6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ablaCaracte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 [1..3] of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primer carácter ‘); read(tabla [1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segundo carácter ‘); read(tabla [2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tercer carácter ‘); read(tabla [3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8AC-C07E-44A6-9D12-8631E77840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ider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asaría si quisiéramos hacer el mismo programa con una tabla de 1000 caracte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odríamos escribir 1000 instruccione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ríamos que usar un bucle para hace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por eso que las tablas van relacionadas con los b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programa que tiene tab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muy probable que tenga un bu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E70-B552-4C92-87BF-A0DED0CDDD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lea mil caracteres del teclado y los guarde en una tabla de mil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92E-4D4D-4235-A5BC-A0BBF9E6E7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que pedir 1000 caracteres por el teclado y ponerlos en una tabla de caracte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imer carácter se pone en la primera posición de la tab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egundo carácter en la segunda posición y así sucesiv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0A2-3A2D-4330-8193-F679A88863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asaría si quisiéramos calcular lo mismo para los mil empleados de una fábr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A0C-2C77-44B8-A3D3-68E7C8A6BF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omienza con la posición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cupera un carácter del teclado y se guarda en dich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la pos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cupera otro carácter del teclado y se guarda en dicha posición y así suces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caba cuando se llega a 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4F9-BE0D-4CD9-804E-3F5EC53C7F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osición que estamos acced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onsigue un carácter por teclado y se guarda en l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ncrementa l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hasta que se llega a la posición 1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Se eligen las variables en que se guardaran los datos. tabla: array [1..100] of char y posicion: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52D-A8AB-4917-80EA-8852A19720A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 un carácter por teclado y lo ponga en la posición de la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e l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un elemento-&gt; leyendo el número por teclado y lo coloque en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D88-C675-4934-9495-DA5EE243EE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ablagra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char; posicion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scribe el elemento numero ‘ posicion); read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DD1-9ACD-4694-8691-245D81EE0E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posicion es la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Ha de repetirse mientras la posición sea menor o igual que 1000 (posicion&lt;=1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No hay en este 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485-E870-4242-A7FA-F8060F8901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ablagra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char; posicion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posicion&lt;=1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scribe el elemento numero ‘ posicion); read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9840" y="1413000"/>
            <a:ext cx="3368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POR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26B-C8B9-4CE7-AA26-25FC75BF7C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lea 1000 números del teclado y los escriba después en orden inverso (PISTA: Es necesario usar una tab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BF3-A988-46F2-BFF6-8C6F232382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que pedir 1000 caracteres por el teclado e imprimirlos en orden inve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imer carácter que se entre se escribirá el último, el segundo el penúltimo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grama fuera sólo para 4 caracteres y entraríamos ‘c’, ‘a’, ‘b’, ‘e’, se habría de escribir ‘e’, ‘b’, ‘a’, ‘c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42E-1604-4BA0-8284-38E63A1195B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 se entran todos los caracteres por el teclado y se guardan en una tabla para poder recordarlos. Como este problema ya lo hemos solucionado en el ejercicio anterior, no entraremos con deta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omienza con la posición 1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mprime el contenido de dich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ecrementa la pos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mprime el contenido de dich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ecrementa la posición y así sucesivamente hasta que lleguemos a la posición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8E8-717E-4493-B0DB-052211B121A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osición que estamos acced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omienza con la posición 1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cribe el contenido de esta posición y se decrementa la posi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hasta que se llega a la posición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Se eligen las variables en que se guardaran los datos. tabla: array [1..100] of char y posicion: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49760" y="1066680"/>
            <a:ext cx="49464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ÓLO NOS PREOCUPAMOS DE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RTE QUE NO ESTÁ RESUEL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1BF-428D-499B-AC2C-AD9EBC45883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: un programa tedios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alar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1, HorasPorMes1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2, HorasPorMes2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3, HorasPorMes3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PorHora1000, HorasPorMes1000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0B0-F9C9-4D43-86F6-F947D6179D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a el contenido que hay en la posición de la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remente l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escribiendo el contenido de la posición de la tab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Decrementando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21160" y="1222200"/>
            <a:ext cx="49464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ÓLO NOS PREOCUPAMOS DE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RTE QUE NO ESTÁ RESUEL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9C0-BC94-4917-AB13-EE5C23CD6A7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parcial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OrdenInver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char; posicion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posicion&lt;=1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scribe el elemento numero ‘ posicion); read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sig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D9E-B21E-4813-8F19-25794F4BB05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parcial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o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l elemento numero ‘ posicion, ‘es ‘, 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605-C850-42FC-AFA3-0C5BA6B30BA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posicion es la 10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Ha de repetirse mientras la posición sea mayor o igual que 1 (posicion&gt;=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No hay en este 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D69-B853-43ED-BA1E-A8219134FDC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final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OrdenInver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char; posicion: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posicion&lt;=1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scribe el elemento numero ‘ posicion); read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sig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18288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 (sólo parte nuev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4C0-5D97-4BC9-BF34-0CB673F63AF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final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posicion&gt;=1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 (‘El elemento numero ‘ posicion, ‘es ‘, 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0D0-2996-4659-A684-2E539DC6894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pasaría si quisiéramos modificar el programa anterior para que el número de caracteres no tenga porque ser exactamente 1000, sino que sea menor o igual que 10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ramente, esto nos dejaría parte de la tabla desocupada, ya que la tabla tiene 1000 ele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nos lleva al problema de la bas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D18-E4EB-42F6-B148-D07F0AA4CAE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se declara una tabla, Pascal la llena automáticamente de datos inútiles al azar, es decir, de “basur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606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x’   ‘$’   ‘á’   ‘n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%’   ‘l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618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ués nosotros la llenamos de información útil, pero las posiciones no utilizadas siguen llenas de “basura”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2280" y="5791320"/>
            <a:ext cx="8686800" cy="457200"/>
            <a:chOff x="152280" y="5791320"/>
            <a:chExt cx="8686800" cy="457200"/>
          </a:xfrm>
        </p:grpSpPr>
        <p:grpSp>
          <p:nvGrpSpPr>
            <p:cNvPr id="624" name=""/>
            <p:cNvGrpSpPr/>
            <p:nvPr/>
          </p:nvGrpSpPr>
          <p:grpSpPr>
            <a:xfrm>
              <a:off x="152280" y="5791320"/>
              <a:ext cx="5790960" cy="457200"/>
              <a:chOff x="152280" y="5791320"/>
              <a:chExt cx="5790960" cy="4572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152280" y="5791320"/>
                <a:ext cx="2895480" cy="457200"/>
                <a:chOff x="152280" y="5791320"/>
                <a:chExt cx="2895480" cy="45720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52280" y="5791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3772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59984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28564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3047760" y="5791320"/>
                <a:ext cx="2895480" cy="457200"/>
                <a:chOff x="3047760" y="5791320"/>
                <a:chExt cx="2895480" cy="457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3047760" y="57913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73320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49532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181120" y="5791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5" name=""/>
            <p:cNvGrpSpPr/>
            <p:nvPr/>
          </p:nvGrpSpPr>
          <p:grpSpPr>
            <a:xfrm>
              <a:off x="5943600" y="5791320"/>
              <a:ext cx="2895480" cy="457200"/>
              <a:chOff x="5943600" y="5791320"/>
              <a:chExt cx="2895480" cy="457200"/>
            </a:xfrm>
          </p:grpSpPr>
          <p:sp>
            <p:nvSpPr>
              <p:cNvPr id="636" name=""/>
              <p:cNvSpPr/>
              <p:nvPr/>
            </p:nvSpPr>
            <p:spPr>
              <a:xfrm>
                <a:off x="5943600" y="57913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629040" y="5791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91160" y="5791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076960" y="57913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"/>
          <p:cNvSpPr/>
          <p:nvPr/>
        </p:nvSpPr>
        <p:spPr>
          <a:xfrm>
            <a:off x="228600" y="6477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62940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73480" y="628956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298520" y="632448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90F-1119-4ECA-990C-936D2C301F4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utilizamos una tabla, tenemos que distinguir entre la información útil y la basura. Sólo tenemos que tratar la información ú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44956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í, si queremos imprimir por pantall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emos que imprimir la información útil “Matías”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a “basura”: “`SR=ñq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648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9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660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4" name=""/>
          <p:cNvSpPr/>
          <p:nvPr/>
        </p:nvSpPr>
        <p:spPr>
          <a:xfrm>
            <a:off x="228600" y="403848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191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973480" y="3851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8520" y="38862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265-9A06-45AA-8622-D1B61E1D1DD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eso, es vital sa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ta que posición hay la información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r de que posición está la ba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44956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se suele hacer usando una variable entera por cada tabla que nos indica la última posición úti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672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684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228600" y="403848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4191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73480" y="3851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8520" y="38862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C4B-D3C3-4421-AFA6-62040DE861B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o no es práctic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muy tedioso escribir tant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ún es más tedioso tener que programar con e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48E-9F09-4A85-8611-B01688F74A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, supongamos que tenemos una variable UltimaNombres que nos indica las posiciones usadas (es decir, con información útil de la tabla precio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43434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forma qu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UltimaNombres tiene el valor 3, eso quiere decir que las 3 primeras posiciones son útiles y todas las otras tienen basur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ste caso, UltimaNombres tiene el valor 5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696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7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708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"/>
          <p:cNvSpPr/>
          <p:nvPr/>
        </p:nvSpPr>
        <p:spPr>
          <a:xfrm>
            <a:off x="228600" y="403848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0" y="4191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73480" y="3851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98520" y="38862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89240" y="42321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7FD-3044-40AB-B603-DB366EEF697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 de la “basura”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ste caso, UltimaNombres e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18288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general, hay una variable entera por cada tabla que nos indica la última posición úti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52280" y="3352680"/>
            <a:ext cx="8686800" cy="457200"/>
            <a:chOff x="152280" y="3352680"/>
            <a:chExt cx="8686800" cy="457200"/>
          </a:xfrm>
        </p:grpSpPr>
        <p:grpSp>
          <p:nvGrpSpPr>
            <p:cNvPr id="721" name=""/>
            <p:cNvGrpSpPr/>
            <p:nvPr/>
          </p:nvGrpSpPr>
          <p:grpSpPr>
            <a:xfrm>
              <a:off x="152280" y="3352680"/>
              <a:ext cx="5790960" cy="457200"/>
              <a:chOff x="152280" y="3352680"/>
              <a:chExt cx="5790960" cy="45720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152280" y="3352680"/>
                <a:ext cx="2895480" cy="457200"/>
                <a:chOff x="152280" y="3352680"/>
                <a:chExt cx="2895480" cy="4572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15228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M’   ‘a’   ‘t’   ‘í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377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5998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28564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3047760" y="3352680"/>
                <a:ext cx="2895480" cy="457200"/>
                <a:chOff x="3047760" y="3352680"/>
                <a:chExt cx="2895480" cy="4572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3047760" y="3352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a’   ‘s’   ‘`’   ‘S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73320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4953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181120" y="3352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2" name=""/>
            <p:cNvGrpSpPr/>
            <p:nvPr/>
          </p:nvGrpSpPr>
          <p:grpSpPr>
            <a:xfrm>
              <a:off x="5943600" y="3352680"/>
              <a:ext cx="2895480" cy="457200"/>
              <a:chOff x="5943600" y="3352680"/>
              <a:chExt cx="2895480" cy="457200"/>
            </a:xfrm>
          </p:grpSpPr>
          <p:sp>
            <p:nvSpPr>
              <p:cNvPr id="733" name=""/>
              <p:cNvSpPr/>
              <p:nvPr/>
            </p:nvSpPr>
            <p:spPr>
              <a:xfrm>
                <a:off x="5943600" y="3352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R’   ‘=‘  ‘ñ’  ‘q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2904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911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076960" y="3352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7" name=""/>
          <p:cNvSpPr/>
          <p:nvPr/>
        </p:nvSpPr>
        <p:spPr>
          <a:xfrm>
            <a:off x="228600" y="403848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4191120"/>
            <a:ext cx="426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73480" y="3851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U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98520" y="38862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O. ÚT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32040" y="44607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A NOMB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CDA-6CC5-4D38-90CA-CC794401016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último ejercicio, cuál era la variable que nos indicaba hasta donde llegaba la información útil de la tabla “tabl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: numcar, pues decía hasta donde llenábamos la tabla en el proceso de ent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2C2-675E-4B3A-8A5E-36C54E44F08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, a partir de una tabla de enteros que se entre por teclado, produzca otra tabla cuyas posiciones son las posiciones de la primera elevadas al cuadr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sta puede introducir cualquier cantidad de caracteres, siempre que sea menor o igual que 1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grama sabrá que ya no queremos introducir más caracteres porque le entraremos un 0. ES DECIR, UN CENTINELA (recordar de tema pasad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7C5-1C59-4F03-BBBA-96322E8C9D5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que pedir enteros por el teclado, guardarlos en una tabla y después construir la tabla de los cuadra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dos probl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introducir los números y guardarlos en una tab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struir la tabla de los c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327-58C3-453A-A347-25409D4381A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A Se comprende como se resuelve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o se entran todos los números por el teclado y se guardan en una tabla para poder recordarl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ide un num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guarda en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la posición de la tabla y se pide otro nu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pite hasta que se entra el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A Se averiguan cuales so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osición que estamos acced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abla, el nu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é operaciones (las de arrib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534520" y="3200400"/>
            <a:ext cx="0" cy="1371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165720" y="3470400"/>
            <a:ext cx="19562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PETI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BA1-80E1-4ECE-9710-75E3606DBBA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A.Se eligen las variables en que se guardaran los datos. tabla: array [1..100] of real, posicion: integer y numero:r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A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uarde el numero en una posición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da otro número e incremente la pos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8CD-B690-4660-866F-3A0932C2E1F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A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un elemento-&gt; guardando el numero en la posición tab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la posición y pidiendo otro num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75D-9849-49B6-A9D4-4FA51F5DC09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mediaaritmét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real; posicion:integer; numero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ó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bla [posicion]:=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(numer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ontinuará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156-47A8-4546-8055-B1DE963FCCC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A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posicion es la 1. Se ha de leer el primer núme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Ha de repetirse mientras no nos introduzcan un 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No hay en este 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F0C-C011-4A95-8303-A51C408DD9D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Cuál es el problema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blema es que cada variable sólo puede tener un d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es porque los tipos de datos estudiados hasta ahora sólo permiten tener un único dato por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itamos un tipo de datos que nos permita manejar gran cantidades de datos por cada variabl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poder manejar grandes cantidades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nos pide el mund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804-FC64-44F0-9E4D-07EBA89336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7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tablacuad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: array[1..1000] of real; posicion:integer; numero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cion:=1; read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numero&lt;&gt;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bla [posicion]:=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(num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ontinuará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8BE-092B-48FB-9051-57B1947E45D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8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B Se comprende como se resuelve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corre la tabla SÓLO HASTA LA ÚLTIMA POSICIÓN ÚTIL y se van generando los cuad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detal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cupera un elemento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guarda su cuadrado en la tabl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l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pite hasta que se llega a la última posición útil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A1F-4ACD-4DBB-8E1F-FFE16CC3C5A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9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B Se averiguan cuales so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osición que estamos accediendo, la última posición ú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abl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(las de la diapo anterior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B.Se eligen las variables en que se guardaran los datos. tabla, TablaCuadrados: array [1..100] of real, posicion: integer y UltimaTabla:integ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D1B-4FAB-45FA-B5FF-5837D500C11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0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B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e el numero de una posición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e el cuadrado en la sum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75F-D1C1-4116-A544-0267FB528D5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B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un elemento-&gt; recuperando el elemento de la tabla y guardando su cuadrado en la tabla de cuad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FD1-BBB3-40EA-8ADB-FD6D8371FEF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sigue del trozo de código anteri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ile &lt;condicion&gt;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blaCuadrados[posicion]:=sqr(tabla[posicio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ED0-7D64-42E4-8A11-4CFC16E5867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B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posición es la 1, la SumaAcumulada es 0. Se ha de fijar cual es el valor de la última posicion útil (que es UltimaTabla:=posicion-1, explicarl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Se ha de repetir hasta que se llegue a la última posición útil (posicion&lt;=UltimaTabl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Hay que escribir la suma dividida por el número de elementos (Que coincide con la última posición út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FDA-07FA-4C46-B892-2F55616D2EE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sigue del trozo de código anteri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ltimaTabla:=posicion-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sicion:=1; SumaAcumulada: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ile posicion&lt;=UltimaTabla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tabla[posicio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:=posicio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(‘La media aritmética es ‘, SumaAcumulada/UltimaTabla:0: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ABC-5737-44F5-94AC-DA8863CE6DA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hay un problema muy grande, mejor dividirlo en partes y programar cada subproblema por sepa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A3E-BFF5-4091-8E0A-1A4BB7C2335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tantes con tabl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uchas veces, es útil y conveniente utilizar constantes para definir las tab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jempl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XALUMNOS=10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blaNotas = array[1..MAXALUMNOS] of re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sPRC: TablaNot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00A-731A-4657-9160-B2D7CD797E5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tipo de datos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lamado también “array” o “arregl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iene una colección ordenada de datos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L MISMO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antos datos como queram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decir, en una sola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demos tener 1000 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demos tener 2000 boole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emos como esto nos simplifica las 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D0B-240F-4381-9E70-EC44FCE094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ipo de datos string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una primera aproximación, un string es una tabla de caracteres. As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 string[1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quivalente a p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 array [1..15] of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forma que todas las cosas que se pueden hacer con las cadenas de caracteres, también se pueden hacer con los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onces, ¿cuál es la diferenc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9CB-6F73-49BF-BB21-F45026D25D4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iferencia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strings se pueden hacer todo lo que se puede hacer con una cadena de cará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o también otras co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puede tratar el string GLOBAL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erlo del teclado con un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lo con un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ignarlo con un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r comparaciones globales con otros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 un string se puede hacer todo lo que puede hacerse con un entero, booleano, carácter o r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F6F-1A75-439A-B073-CD4044AAB99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on strings se pued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ena1, cadena2 : string[1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dln(cadena1); {leer cadena globalmen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cadena1); {escribirla globalmen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ena2:=‘Hola, como estamos’ {asignarla globalmen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f (cadena1&lt;&gt;cadena2) then {compararla globalmen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Son diferentes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2800" y="1600200"/>
            <a:ext cx="69962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O NO SE PUEDE CON LAS OTRAS TABLA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IENE QUE SER ELEMENTO POR ELEM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6BB-BBA4-46B1-A740-153CF7CC1DA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valores del tipo string se encierran entre comillas simples, como los caracteres ‘Hola, como v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variables de tipo string se declaran como &lt;nombre&gt;: string[&lt;tamaño&gt;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í: frase: string[50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E24-718D-4C06-A8B6-73B94BB48EA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amaño de los string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n ir desde 0 a 255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queremos declarar una variable string y no queremos preocuparnos de la longitud pod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ena:str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e es lo mismo que po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ena:string[25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C9A-3518-4C56-86F3-D2418280118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jemplo de un programa con string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aden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: string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un saludo ‘); readln(salud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saludo es ‘); readln(salud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saludo=‘Hola, mi querida computadora’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Sí, mi amor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Ya no me tratas con cariño. Seguro que tienes a otra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9B5-7AB6-421E-B6D6-7570061106D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es lo que hace el anterior progra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1DD-DF1D-474C-BD2C-5FB787B1333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jemplo de un programa con string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aludoMañaner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Jefe= ‘Hola, mi amo y señ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Empleado =“Hola, pobre hombr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Desconocido=“Mi programador me dijo que no hablara con desconoc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o:string[20]; saludo:string[5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scribe tu cargo en la empresa ‘); readln(cargo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11E-C019-441E-8AB9-912400DE9BD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jemplo de un programa con string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f cargo=“jefe”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:=SaludoJe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se cargo=“empleado”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:=SaludoEmpl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udo:=SaludoDesconoci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salud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A69-E15D-4C0E-854B-17CBF2809AD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n conclusión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strings son un tipo especial de tablas de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rven para operar con f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n hacer todo lo que se puede hacer con tab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n hacer todo lo que se puede hacer con reales, enteros, booleanos y caracte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52A-E777-4098-8E71-5F5A5B12BB8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a variable de tipo “tabla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nos imaginábamos a las variables  de tipos enteros, reales, booleanos y caracteres como “cajitas” que pueden tener un contenido (valo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hora nos podemos imaginar a las variable de tipo tabla como sucesiones de “cajitas” que pueden tener un contenido (valo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52280" y="5638680"/>
            <a:ext cx="8686800" cy="457200"/>
            <a:chOff x="152280" y="5638680"/>
            <a:chExt cx="8686800" cy="457200"/>
          </a:xfrm>
        </p:grpSpPr>
        <p:grpSp>
          <p:nvGrpSpPr>
            <p:cNvPr id="64" name=""/>
            <p:cNvGrpSpPr/>
            <p:nvPr/>
          </p:nvGrpSpPr>
          <p:grpSpPr>
            <a:xfrm>
              <a:off x="152280" y="5638680"/>
              <a:ext cx="5790960" cy="457200"/>
              <a:chOff x="152280" y="5638680"/>
              <a:chExt cx="5790960" cy="45720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152280" y="5638680"/>
                <a:ext cx="2895480" cy="457200"/>
                <a:chOff x="152280" y="5638680"/>
                <a:chExt cx="2895480" cy="4572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5228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30   12   57   9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377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5998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28564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3047760" y="5638680"/>
                <a:ext cx="2895480" cy="457200"/>
                <a:chOff x="3047760" y="5638680"/>
                <a:chExt cx="2895480" cy="457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047760" y="563868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-2   83   91   9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73320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953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181120" y="5638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" name=""/>
            <p:cNvGrpSpPr/>
            <p:nvPr/>
          </p:nvGrpSpPr>
          <p:grpSpPr>
            <a:xfrm>
              <a:off x="5943600" y="5638680"/>
              <a:ext cx="2895480" cy="457200"/>
              <a:chOff x="5943600" y="5638680"/>
              <a:chExt cx="2895480" cy="457200"/>
            </a:xfrm>
          </p:grpSpPr>
          <p:sp>
            <p:nvSpPr>
              <p:cNvPr id="76" name=""/>
              <p:cNvSpPr/>
              <p:nvPr/>
            </p:nvSpPr>
            <p:spPr>
              <a:xfrm>
                <a:off x="5943600" y="563868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cc"/>
                    </a:solidFill>
                    <a:latin typeface="Garamond"/>
                  </a:rPr>
                  <a:t>21   75   11  -3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62904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3911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076960" y="563868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358-F617-4249-9913-54C84C9EBA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 si declar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mbre:string[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hacemos nombre:=‘Juan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, el valor de nombre será ‘Jua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adapta al tamaño del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2895480" y="4952880"/>
            <a:ext cx="2133720" cy="457200"/>
            <a:chOff x="2895480" y="4952880"/>
            <a:chExt cx="2133720" cy="457200"/>
          </a:xfrm>
        </p:grpSpPr>
        <p:sp>
          <p:nvSpPr>
            <p:cNvPr id="804" name=""/>
            <p:cNvSpPr/>
            <p:nvPr/>
          </p:nvSpPr>
          <p:spPr>
            <a:xfrm>
              <a:off x="2895480" y="4952880"/>
              <a:ext cx="213372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cc"/>
                  </a:solidFill>
                  <a:latin typeface="Garamond"/>
                </a:rPr>
                <a:t>‘</a:t>
              </a:r>
              <a:r>
                <a:rPr b="1" lang="en-US" sz="3400" spc="-1" strike="noStrike">
                  <a:solidFill>
                    <a:srgbClr val="0000cc"/>
                  </a:solidFill>
                  <a:latin typeface="Garamond"/>
                </a:rPr>
                <a:t>J’   ‘u’    ‘a’</a:t>
              </a:r>
              <a:endParaRPr b="0" lang="en-US" sz="3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81280" y="4952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43400" y="4952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029200" y="4952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4993560" y="4876920"/>
            <a:ext cx="709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Garamond"/>
              </a:rPr>
              <a:t>‘</a:t>
            </a:r>
            <a:r>
              <a:rPr b="1" lang="en-US" sz="3400" spc="-1" strike="noStrike">
                <a:solidFill>
                  <a:srgbClr val="000066"/>
                </a:solidFill>
                <a:latin typeface="Garamond"/>
              </a:rPr>
              <a:t>n’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25B-36E2-41CC-9688-07CD3AB636E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pasa si declar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mbre:string[1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hacemos nombre:=‘Juan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uesta, el resto es bas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en cualquier otra tab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28600" y="4876920"/>
            <a:ext cx="8686800" cy="457200"/>
            <a:chOff x="228600" y="4876920"/>
            <a:chExt cx="8686800" cy="457200"/>
          </a:xfrm>
        </p:grpSpPr>
        <p:grpSp>
          <p:nvGrpSpPr>
            <p:cNvPr id="812" name=""/>
            <p:cNvGrpSpPr/>
            <p:nvPr/>
          </p:nvGrpSpPr>
          <p:grpSpPr>
            <a:xfrm>
              <a:off x="228600" y="4876920"/>
              <a:ext cx="5790960" cy="457200"/>
              <a:chOff x="228600" y="4876920"/>
              <a:chExt cx="5790960" cy="457200"/>
            </a:xfrm>
          </p:grpSpPr>
          <p:grpSp>
            <p:nvGrpSpPr>
              <p:cNvPr id="813" name=""/>
              <p:cNvGrpSpPr/>
              <p:nvPr/>
            </p:nvGrpSpPr>
            <p:grpSpPr>
              <a:xfrm>
                <a:off x="228600" y="4876920"/>
                <a:ext cx="2895480" cy="457200"/>
                <a:chOff x="228600" y="4876920"/>
                <a:chExt cx="2895480" cy="4572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228600" y="4876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J’   ‘u’   ‘a’    ‘n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91404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67616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36196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3124080" y="4876920"/>
                <a:ext cx="2895480" cy="457200"/>
                <a:chOff x="3124080" y="4876920"/>
                <a:chExt cx="2895480" cy="45720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3124080" y="4876920"/>
                  <a:ext cx="2895480" cy="45720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‘</a:t>
                  </a:r>
                  <a:r>
                    <a:rPr b="1" lang="en-US" sz="3400" spc="-1" strike="noStrike">
                      <a:solidFill>
                        <a:srgbClr val="0000cc"/>
                      </a:solidFill>
                      <a:latin typeface="Garamond"/>
                    </a:rPr>
                    <a:t>*’   ‘%’   ‘^’   ‘l’</a:t>
                  </a:r>
                  <a:endParaRPr b="0" lang="en-US" sz="3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80952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57164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57440" y="48769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"/>
            <p:cNvGrpSpPr/>
            <p:nvPr/>
          </p:nvGrpSpPr>
          <p:grpSpPr>
            <a:xfrm>
              <a:off x="6019920" y="4876920"/>
              <a:ext cx="2895480" cy="457200"/>
              <a:chOff x="6019920" y="4876920"/>
              <a:chExt cx="2895480" cy="457200"/>
            </a:xfrm>
          </p:grpSpPr>
          <p:sp>
            <p:nvSpPr>
              <p:cNvPr id="824" name=""/>
              <p:cNvSpPr/>
              <p:nvPr/>
            </p:nvSpPr>
            <p:spPr>
              <a:xfrm>
                <a:off x="6019920" y="4876920"/>
                <a:ext cx="2895480" cy="45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400" spc="-1" strike="noStrike">
                    <a:solidFill>
                      <a:srgbClr val="0000cc"/>
                    </a:solidFill>
                    <a:latin typeface="Garamond"/>
                  </a:rPr>
                  <a:t>‘</a:t>
                </a:r>
                <a:r>
                  <a:rPr b="1" lang="es-ES_tradnl" sz="3400" spc="-1" strike="noStrike">
                    <a:solidFill>
                      <a:srgbClr val="0000cc"/>
                    </a:solidFill>
                    <a:latin typeface="Garamond"/>
                  </a:rPr>
                  <a:t>s’   ‘t’   ‘o’  ‘p’ </a:t>
                </a:r>
                <a:endParaRPr b="0" lang="en-US" sz="3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705360" y="4876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467480" y="4876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53280" y="4876920"/>
                <a:ext cx="0" cy="457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612-8C7F-469F-90FA-21FD0EA48A6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La función “length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rve para devolver el número de posiciones útiles que tiene un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í, en el caso anterior, length(nombre) sería igual a 4, que sería el número de posiciones útiles de la cad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th nos sirve para saber cuando parar de examinar un string cuando lo hacemos carácter por cará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91F-F9F0-4D14-85F7-1332B494887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 un programa que te pida una frase por pan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frase contiene una ‘A’ mayúscula escriba “Esta frase tiene A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frase no contiene una ‘A’ mayúscula escriba “Esta frase no tiene 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66E-236B-47DD-B015-8457C23E4D0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y que pedir un string por el teclado (fác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y que avanzar por el string hasta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ontremos una ‘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lleguemos al final de las posiciones útil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ha encontrado una ‘A’ hay que imprimir un mensaje y si no, otro mensaje (fác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s concentraremos en el problema del 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02B-BAF7-4ECC-A6B3-505B2564119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 se pide un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ués se examina la posición de 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ncrementa la pos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hasta que hasta que se encuentra una ‘A’ o se acaban las posiciones ú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 cuales so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ab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(las de arrib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534520" y="3200400"/>
            <a:ext cx="0" cy="1371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65720" y="3470400"/>
            <a:ext cx="19562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PETI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4E0-6247-4433-84BD-C97446E231C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Se eligen las variables en que se guardaran los datos. cadena: string; posicion: integ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ya recorriendo la tabla posición por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C56-577E-457C-BC10-069E54CE970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un elemento-&gt;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l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172-F089-4A2B-95C6-803255AF285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usca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:string; posicion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o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&lt;tratar element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634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9A4-3612-4264-A562-A6B260B377B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debe pedirse la cadena por el teclado. La posición es la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Ha de repetirse hasta que encontremos una ‘A’ o se acaben las posiciones útiles. Es decir, se repite mientras el carácter sea diferente de ‘A’ y la posicion sea menor o igual que las posiciones úti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Si se ha encontrado la A debe imprimirse un mensaje. Si no,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315-4F4D-44D0-A3BB-EAF4EA27172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21:52:18Z</dcterms:created>
  <dc:creator>BLANCA CECILIA</dc:creator>
  <dc:description/>
  <dc:language>en-US</dc:language>
  <cp:lastModifiedBy> </cp:lastModifiedBy>
  <cp:lastPrinted>1999-06-16T01:55:46Z</cp:lastPrinted>
  <dcterms:modified xsi:type="dcterms:W3CDTF">2008-02-10T09:36:39Z</dcterms:modified>
  <cp:revision>119</cp:revision>
  <dc:subject/>
  <dc:title>Sin título de diapositiva</dc:title>
</cp:coreProperties>
</file>