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D34-80B8-43BA-8372-5F861DA9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78B-1FCA-4E35-9F56-5C8E8145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25D-7E35-45F8-8E10-52566BFB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CBA-DF4C-4C3B-B4F2-AAA4765B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55B-4829-4FD3-BD2A-1C07094D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7B4-B8A4-4425-8B00-A713B6ED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86E-707F-414C-AE01-1D3A6F0B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DB1-9F33-49F9-9CA7-7525B219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324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236-BD0F-4938-9A66-0B081640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F9F-A97D-453E-A223-F53670C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880-6178-4C18-974B-23E363D5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C51-EE4C-49BE-9BDB-6BC95561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D8BE-69BE-4065-9FF1-97C2CE2971F5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841200" y="1843200"/>
            <a:ext cx="60480" cy="48960"/>
          </a:xfrm>
          <a:custGeom>
            <a:avLst/>
            <a:gdLst/>
            <a:ahLst/>
            <a:rect l="l" t="t" r="r" b="b"/>
            <a:pathLst>
              <a:path w="76" h="63">
                <a:moveTo>
                  <a:pt x="76" y="34"/>
                </a:moveTo>
                <a:lnTo>
                  <a:pt x="76" y="34"/>
                </a:lnTo>
                <a:lnTo>
                  <a:pt x="62" y="0"/>
                </a:lnTo>
                <a:lnTo>
                  <a:pt x="0" y="63"/>
                </a:lnTo>
                <a:lnTo>
                  <a:pt x="31" y="31"/>
                </a:lnTo>
                <a:lnTo>
                  <a:pt x="76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839760" y="1841400"/>
            <a:ext cx="50760" cy="50760"/>
          </a:xfrm>
          <a:custGeom>
            <a:avLst/>
            <a:gdLst/>
            <a:ahLst/>
            <a:rect l="l" t="t" r="r" b="b"/>
            <a:pathLst>
              <a:path w="63" h="64">
                <a:moveTo>
                  <a:pt x="63" y="1"/>
                </a:moveTo>
                <a:lnTo>
                  <a:pt x="62" y="0"/>
                </a:lnTo>
                <a:lnTo>
                  <a:pt x="0" y="62"/>
                </a:lnTo>
                <a:lnTo>
                  <a:pt x="1" y="64"/>
                </a:lnTo>
                <a:lnTo>
                  <a:pt x="63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839760" y="1843200"/>
            <a:ext cx="50760" cy="489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61"/>
                </a:moveTo>
                <a:lnTo>
                  <a:pt x="1" y="63"/>
                </a:lnTo>
                <a:lnTo>
                  <a:pt x="32" y="31"/>
                </a:lnTo>
                <a:lnTo>
                  <a:pt x="63" y="0"/>
                </a:lnTo>
                <a:lnTo>
                  <a:pt x="1" y="63"/>
                </a:lnTo>
                <a:lnTo>
                  <a:pt x="0" y="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841200" y="1865160"/>
            <a:ext cx="60480" cy="27000"/>
          </a:xfrm>
          <a:custGeom>
            <a:avLst/>
            <a:gdLst/>
            <a:ahLst/>
            <a:rect l="l" t="t" r="r" b="b"/>
            <a:pathLst>
              <a:path w="76" h="34">
                <a:moveTo>
                  <a:pt x="0" y="34"/>
                </a:moveTo>
                <a:lnTo>
                  <a:pt x="0" y="34"/>
                </a:lnTo>
                <a:lnTo>
                  <a:pt x="76" y="0"/>
                </a:lnTo>
                <a:lnTo>
                  <a:pt x="31" y="2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ción de Computadoras I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ma 6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Vicent-Ramon Palasí Lal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6B4-0ECD-45E9-8174-2A515E8AC7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íjense que un procedure es un “programa en pequeño”. En efecto, si hubiéramos puesto program y declarado nota, sería un programa Pascal vál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ta” no se declara porque está declarada en el programa principal. A esto se le llama “acceso a una variable global desde el procedimiento” y ya veremos que está 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0B8-E5E2-4A1A-84AE-2B0E4BAA54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not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, SumaAcumulada: real; materi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aquí la declaración del procedure PideNot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: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materia&lt;=5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deNo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no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:=materia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media del alumno es ‘, SumaAcumulada/5:0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88080" y="3733920"/>
            <a:ext cx="41461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 LE LLAMA 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INCIP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24D-DB6E-49C4-B006-3D3B26684B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Cómo funciona esto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vez que la ejecución llega al lugar donde dice “PideNota”, Pascal ejecuta el código del procedimiento “PideNot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ER UN EJEMPLO EN LA PIZAR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hecho es como si hubiéramos puesto el código del procedimiento en el lugar donde indica “PideNota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DCE-89D7-4C07-9352-D8D7BDFB8D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ventajas tiene esto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mero, el programa es más fácil de construir si uno lo divide en subprobl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más fácil de entender y modifi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ahorra trabajo: en un programa largo, podríamos escribir varias veces “PideNota” en vez de repetir todo el conjunto de instruc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00A-1E76-4C7D-B1FB-4B5921E51E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xtensión del lenguaj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íjense que, una vez definido, el procedimiento se convierte en una instrucción más del lengu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gual que escribimos “writeln” podemos escribir “PideNota”. Es como si el lenguaje Pascal se hubiera extend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demos conside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ideNota es una instrucción definida por el us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 es un procedimiento definido por el lengu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F75-95C3-4D6D-955B-D75E8FA2B9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r el ejercicio anterior para que, cada vez que nos pregunte una nota, nos diga de que materia quiere la nota (recuerden que las materias tienen número no nomb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6BF-A570-40E8-B6C0-1977E4EFCB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blema que se prese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blema es que lo que escribe el mensaje pidiendo la nota es el procedimiento PideNot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quien tiene la información sobre la materia es el program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373-3BAF-49D6-88A1-982B3DA87D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e el programa principal pase la información sobre la asignatura al procedimiento PideN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se haría es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335268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princip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80060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oced. PideNo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886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40680" y="400356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teri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4240" y="3927600"/>
            <a:ext cx="24544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SERVAR EN LA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751-CB84-45DE-9FFB-19C7880874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azonamient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mos dicho que podemos ver las instrucciones como procedimientos predefinidos por el lenguaje. Vemos como resuelven las instrucciones ese proble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mos ver a “write” como un procedimiento predefinido en el lenguaje que su función es escribir al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ces, queremos escribir una información que tenemos en el programa principal. ¿Cómo pasamos la información a “write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606-F730-478F-9640-9A5D471D4B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imp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:=5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nu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761-6482-4407-953F-4AC89848CF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cc"/>
                </a:solidFill>
                <a:latin typeface="Times New Roman"/>
              </a:rPr>
              <a:t>Programación con componentes reusables de software</a:t>
            </a:r>
            <a:endParaRPr b="0" lang="en-US" sz="4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otras ingenierías, para construir un producto sólo se ensamblan las piez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en la programación, a veces se programa la aplicación hasta los más mínim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ía dese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ieran componentes reus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ar la aplicación fuera solamente ensambla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 se podría hacer más fácil la programación de grandes aplic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761-1B3D-4C55-88EA-C5A4B200B5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Cómo lo hacemos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grama principal pasa la información sobre el numero que quiere escribir al “procedimiento” wr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ómo se hace? Encerrando entre parént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365760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princip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5105520"/>
            <a:ext cx="24382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ced. “write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19112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41760" y="43084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619-5CBF-48A2-994A-08A52D85DD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ncontrando la 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la expresión que encerramos entre paréntesis para que el “write” la escriba se le llama parámetro actual del “writ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nformación pasa del programa principal al write por un parámetro actual encerrado entre parént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mismo pasará con el procedimiento “PideNot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48E-1A6B-49D2-8134-D5D653C862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quisiéramos es que PideNota tuviera un parámetro actual donde pudiéramos pasar el valor entre parént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e pudiéramos poner PideNota(ma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gual que ponemos writeln(ma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esta forma PideNota(1) querría decir nota de la materia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gual que ponemos writeln(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CD7-09A6-477F-8A7A-D0560282FD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solución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mero, tenemos que decidir que PideNota tenga un parámetro actual y qué significa 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pués, declarar PideNota para que acepte ese parámetro act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se hace es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831-08B0-45FB-BE49-46B90BD532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uestro primer procedimiento con parámetros.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ure PideNota (mat: intege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 nota de la materia’, ma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nota&lt;0) or (nota&gt;1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 nota debe estar entre 0 y 10. Prueba de nuev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ln(no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010280" y="2362320"/>
            <a:ext cx="5335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11A-50FB-4B44-807B-64BC5B11F4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xplic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:integer, es una forma de decir que el procedimiento aceptará parámetros actuales de tipo ent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mat se le llama parámetro formal y se representa al parámetro actual dentro del proced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arámetro formal es una variable que se llena con el parámetro actual cuando se ejecuta el proced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B92-AA7D-416E-8463-D8F74F93F8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ongamos que desde el programa principal ejecutamos PideNota(2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onces como hemos definido PideNota(mat:integer) quiere decir que mat valdrá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cutar el procedimiento PideNota(1), PideNota(2) ... enfatizando el valor de 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F57-04C5-46EE-AA41-E7D5B421A9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not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, SumaAcumulada: real; materi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aquí la declaración del procedure PideNot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: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materia&lt;=5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deNota(materi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no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:=materia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media del alumno es ‘, SumaAcumulada/5:0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0F7-7C59-499A-9CFE-F013D15D21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ámetros: forma con que el programa principal se comunica con los procedimi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n entre parént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se declaran, son parámetros form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se usan, son parámetros act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cualquier expresión, por ej. PideNota(1+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se ejecuta el programa, los parámetros formales se reemplazan por los act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FF4-B99F-42B8-BCD7-0B3A2030D7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vez definido PideNota(materia) es una instrucción del lenguaje, como puede serlo, writeln(mater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uiremos con ese paralelismo entre instrucciones y procedimientos, que nos puede ser muy ú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29B-F425-4ADE-8DA7-3EB60D3E7B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imera idea: procedimientos y func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“subprogramas” dentro de un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rven para escribir de una sola vez tareas repetitivas y así ahorrar esfuer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las variables, han de ser declarados o u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B5C-E61E-4FC5-BAEF-397F233745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tro 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ure EscribePotencia(base,exponente:re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Acumulado:real; contador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ador:=1; ProductoAcumulado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contador&lt;=exponente)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Acumulado:=ProductoAcumulado*ba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ador:=contador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ProductoAcumulado:0: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389-22C2-48D7-972D-6C277D581C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xplic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que pasa cuando uno hace EscribePotencia(5,0), EscribePotencia(5,1), EscribePotencia(4,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que se puede poner EscribePotencia(2*numero+5 div precio, 3*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E3A-DF7B-4A7A-8038-B741DED3E1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 princip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otenci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EscribePotenci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base, elexponente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 base. Para acabar escribe 0’); readln(la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el exponente’); readln(elexponen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labase&lt;&gt;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La potencia es ’); EscribePotencia(labase,elexponente); writel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cribe la base. Para acabar escribe 0’); readln(laba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cribe el exponente’); readln(elexponen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E2A-3BA0-4C23-9AA2-B041F5648F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Una diferencia entre readln y writel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3429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Un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=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nu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167652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Uno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integer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=5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umero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numer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6120" y="5791320"/>
            <a:ext cx="48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quí, el valor de la variable “número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 cambia. Sigue siendo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37280" y="5756400"/>
            <a:ext cx="39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quí el valor de la variable h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sido cambiado por rea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123720" y="4876560"/>
            <a:ext cx="1143000" cy="9903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4723920"/>
            <a:ext cx="990720" cy="1143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AD6-897B-4F99-8570-92DB3D095D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 difer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” no cambia el valor de la variable que se le pasa y “Readln” s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érminos de proce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ln” no cambia el valor de la variable pasada como parámetro actual, se le llama “paso de parámetros por val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ln” cambia el valor de la variable pasada como parámetro actual, se le llama “paso de parámetros por referenci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25F-08DC-4678-955E-C55FF3C376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n general,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962520"/>
            <a:ext cx="33526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cedimiento1 (var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20960" y="449568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000" y="32004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ar1 tiene un va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013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6960" y="464832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ar1 vale lo mism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0320" y="552780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Después de la ejecución de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ocedimiento, el valor de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arámetro no cambia, como en writel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4640" y="2209680"/>
            <a:ext cx="12794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43480" y="3962520"/>
            <a:ext cx="33526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cedimiento1 (var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59520" y="449568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2560" y="32004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ar1 tiene un va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013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41400" y="4648320"/>
            <a:ext cx="46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ar1 no tiene porque valer lo mism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75360" y="5334120"/>
            <a:ext cx="35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Después de la ejecución de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ocedimiento, el valor de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arámetro puede cambiar, como en readl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79160" y="2209680"/>
            <a:ext cx="2190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51C-A2D7-4319-BECB-57CEDB3E62B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Valor vrs Refer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sta ahora, los procedimientos que hemos hecho han pasado los parámetros por valor. EscribePotencia(labase,elexponente) no cambiaba el valor de las variables. Tampoco PideNota(mater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el paso por referencia es útil cuando se trata de devolver un valor al programa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1AC-4E8B-47BC-8D64-44D1D6F0A7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Valor vrs. refer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352680"/>
            <a:ext cx="24386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princip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4800600"/>
            <a:ext cx="24386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cedi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886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1148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3760" y="2209680"/>
            <a:ext cx="12794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45640" y="2209680"/>
            <a:ext cx="2190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335268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princip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80060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cedi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89680" y="40384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73960" y="335268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princip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73960" y="4800600"/>
            <a:ext cx="24382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cedi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16960" y="3886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2880" y="40384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029200" y="3886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77320" y="3886200"/>
            <a:ext cx="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1828800"/>
            <a:ext cx="0" cy="4038480"/>
          </a:xfrm>
          <a:prstGeom prst="line">
            <a:avLst/>
          </a:prstGeom>
          <a:ln w="63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2880" y="583236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jemplo: wri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44520" y="56800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jemplo: rea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A43-A05F-4B47-BADB-6924BC3A18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aso por refer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ongamos un procedimiento ObtieneD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ure ObtieneDato (var dato: integ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:=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programa principal ObtieneDato(var1) hará que var1 tenga el valor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decir, a la variable del parámetro formal se le asigna el valor que tiene el parámetro actual AL FINAL del proce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2743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R SE INDICA QUE EL PARÁMETRO SE PASA POR REFERENCI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F53-1B75-47E3-B79B-9F65F78D48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ure PideNota (var n:real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 nota de la materia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n&lt;0) or (n&gt;1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 nota debe estar entre 0 y 10. Prueba de nuev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ln(no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579132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 PUEDE OBSERVAR QUE AL FINAL, N TIENE UN VALOR ENTRE 0 y 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071-3A5A-4BDF-9FE5-0AB501DFF6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procedimientos y funciones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&lt;nombre&gt;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eclaración de constan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eclaración de tipo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eclaración de variab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procedimientos y fun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68B-7061-4BA0-A632-1B59D3DCBB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not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, SumaAcumulada: real; materi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aquí la declaración del procedure PideNot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: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materia&lt;=5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deNota(no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no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:=materia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media del alumno es ‘, SumaAcumulada/5:0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10080" y="3581280"/>
            <a:ext cx="46004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OTA ADQUIERE EL VALOR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 N AL FINAL DE PIDENO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B3B-CB75-458F-BF12-213B0F458CA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Cuál es la mejor solución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primera versión de PideNota devolvía el valor accediendo a una variable global (variable del programa princip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egunda versión lo hace a través de parámetros (pasados por referenci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EMPRE ES PREFERIBLE QUE TODA LA INFORMACIÓN ENTRE PROCEDIMIENTOS Y FUNCIONES Y EL PROGRAMA PRINCIPAL SE PASE POR PARÁMETROS Y NO POR VARIABLES GLOB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0BC-EBA6-4ECD-B951-F899024CB55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otenci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EscribePotenci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base, elexponente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 base. Para acabar escribe 0’); readln(la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el exponente’); readln(elexponen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labase&lt;&gt;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La potencia es ’); EscribePotencia(labase,elexponente); writel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cribe la base. Para acabar escribe 0’); readln(laba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cribe el exponente’); readln(elexponen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040" indent="-148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7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FD6-E2E0-4041-832F-301A636BAB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programa anterior, hay partes del código que se repiten y que hacen una función clara -pedir la base y el expon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razones de comodidad y legibilidad, estaría mejor que hiciéramos un procedimiento para resolve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450-AC5C-463A-96BF-4C18DE402CC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ure PedirBaseExponente(var b: real; var e:re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 base. Para acabar escribe 0’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el exponente’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676520"/>
            <a:ext cx="38124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EA6-6AED-4FCB-888D-A8C77935E23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otenci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EscribePotencia y PedirBaseExponent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base, elexponente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dirBaseExponente(labase,elexponen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labase&lt;&gt;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75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4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La potencia es ’); EscribePotencia(labase,elexponente); writel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4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dirBaseExponente(labase,elexponen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975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6AC-B16E-4997-BA4F-2263B77559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piedades del paso de parámetr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os parámetros pueden ser por valor y otras por refe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los parámetros por valor se les puede pasar cualquier expresión. A los de referencia, sólo una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ePotencia(2*numero,15) es cor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dirBaseExponente(2*numero, 15) no lo es, deben ser dos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38A-FE2A-4839-919C-B08F49A93B0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 como los procedimientos pero devuelven un valor QUE SE LLAMA RESUL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a hemos visto algunas predefinidas en Pasc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qr(x) devuelve el cuadrado de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s es un string, length(s) devuelve el número de posiciones usadas d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o devuelven un valor, no son instrucciones sino expre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length(s)*2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:=(sqr(x)+sqr(y))/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2B2-EC48-43DC-BA8B-F2071FA5FBB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procedimientos y funciones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&lt;nombre&gt;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eclaración de constan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eclaración de tipo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eclaración de variab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procedimientos y fun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4A0-14EF-4939-B735-7F4D92E746D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funciones 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ure &lt;nombre&gt;(lista pars formales): &lt;tiporesultado&gt;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otros procedimientos y fun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variables loc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ombre&gt;:=&lt;expresión que da el resultado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C85-96C6-492F-A3DF-DEDBBE833AC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ción de procedimientos 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ure &lt;nombre&gt;(lista de parámetros formale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otros procedimientos y fun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variables loc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4800600"/>
            <a:ext cx="50292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las variables del programa les llamaremos variables GLOBAL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3F2-5594-4405-8381-95CBB3AC53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: la función dob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tion doble(n: integer):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ble:=2*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, doble(2) daría 4, doble(6) daría 8, doble(var1) daría el doble del valor de var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jemplo, podríamos escrib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1:=doble(var1) si quisiéramos doblar una variable ente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C93-A581-407F-A2C0-C2B689A8BDD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: Función Potencia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tion Potencia(b,e:real):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Acumulado:real; contador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ador:=1; ProductoAcumulado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contador&lt;=exponente)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Acumulado:=ProductoAcumulado*ba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ador:=contador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tencia:=ProductoAcumu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C00-70DA-4A0D-AD65-DCCEC2EEA1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otenci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Potencia y PedirBaseExponent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base, elexponente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dirBaseExponente(labase,elexponen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labase&lt;&gt;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75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4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 potencia es ’, Potencia(labase,elexponent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4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dirBaseExponente(labase,elexponen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975960" indent="-1393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5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0E3-B287-4D15-BE60-1DB529C914E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 hay un operador de potenciación en Pasc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í, la función Potencia puede ser muy útil y se puede reaprovech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reaprovechamiento es el objetivo principal de las funciones y procedimientos en Pas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1DD-3B72-49B4-B247-05BD6F0BAAE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Hay un montón de procedimientos y funciones ya declarad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Debemos saber aprovecharlos. Están reunidos en colecciones llamadas “units”: Crt, Dos, Graph, Graph3, Overlay, Printer, Turbo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jemplo, clrscr (procedimiento sin parámetros que limpia la pantalla) está definido en C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dos los procedimientos que hay en cada uno de estos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 la descripción de lo que hac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tipos de parámetros y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ncuentran en la ayuda de Turbo Pas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0BE-5A96-46EE-8B30-05BF7F568E9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ara usar los “units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un programa se puede ha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ya se pueden usar todos los procedimientos y funciones definidos en Crt (entre ellos clrscr) sin tener que declara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0E4-65A1-4198-83D7-AC11F7E3B34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Universidad “Mi tío es delgado” hay 5 materias que se numeran del 1 al 5. Queremos un programa que le pida la nota de cada una de estas materias y saque la media aritmét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mos especialmente interesados en que el alumno no pueda poner notas incorrectas (más de 10 o menos de 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0A4-AFCC-4F34-86AC-9E0D9620CC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quema de la 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not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, SumaAcumulada: real; materi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: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materia&lt;=5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&lt;pedir no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no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:=materia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media del alumno es ‘, SumaAcumulada/5:0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964-8FCF-4430-8D15-A4164AF3C2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hora bie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emos pedir la nota de forma que el alumno no ponga mej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podría ser otro subprograma que pidiera notas hasta que le introdujéramos una correc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AD5-36E5-4080-81AB-CA55647981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uestro primer procedimiento.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ure PideNot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 nota de la materia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nota&lt;0) or (nota&gt;1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 nota debe estar entre 0 y 10. Prueba de nuev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ln(no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B40-BE80-42EA-B3B5-BFE5DF719E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4T19:04:28Z</dcterms:created>
  <dc:creator>BLANCA CECILIA</dc:creator>
  <dc:description/>
  <dc:language>en-US</dc:language>
  <cp:lastModifiedBy> </cp:lastModifiedBy>
  <dcterms:modified xsi:type="dcterms:W3CDTF">2008-02-10T09:36:25Z</dcterms:modified>
  <cp:revision>24</cp:revision>
  <dc:subject/>
  <dc:title>Programación de Computadoras I Tema 6</dc:title>
</cp:coreProperties>
</file>