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8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71CB-9A8A-4E6C-BA7E-014B70E42E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-mitja set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 -2 setmanes i mit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47 per set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0C9-C417-4753-A98F-26FA1651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F40-25AA-4686-8AB8-E14D9B2B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3C0-E82D-4725-9640-4CE92F6F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13E-1681-412F-B880-D2A352EB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A23-AE1A-4411-91E9-A986535D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CA1-FBE6-43F0-9CDC-785D4E6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CDB-55F2-4491-9C6D-E1AFEC14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E36-6760-41BF-BA05-C127B2FA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324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349-2502-4A56-9717-B9DE5091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D51-67B0-4888-97ED-350D9AD5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594-B547-410D-972A-A1E425B2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DF3-A909-45A7-A1D1-F4DA1808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EFB5-5819-4B6D-99DB-E46608B08C09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95600" y="977760"/>
            <a:ext cx="29880" cy="24120"/>
          </a:xfrm>
          <a:custGeom>
            <a:avLst/>
            <a:gdLst/>
            <a:ahLst/>
            <a:rect l="l" t="t" r="r" b="b"/>
            <a:pathLst>
              <a:path w="74" h="61">
                <a:moveTo>
                  <a:pt x="74" y="33"/>
                </a:moveTo>
                <a:lnTo>
                  <a:pt x="74" y="33"/>
                </a:lnTo>
                <a:lnTo>
                  <a:pt x="60" y="0"/>
                </a:lnTo>
                <a:lnTo>
                  <a:pt x="0" y="61"/>
                </a:lnTo>
                <a:lnTo>
                  <a:pt x="30" y="30"/>
                </a:lnTo>
                <a:lnTo>
                  <a:pt x="74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95600" y="977760"/>
            <a:ext cx="23760" cy="24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1"/>
                </a:moveTo>
                <a:lnTo>
                  <a:pt x="61" y="0"/>
                </a:lnTo>
                <a:lnTo>
                  <a:pt x="0" y="61"/>
                </a:lnTo>
                <a:lnTo>
                  <a:pt x="2" y="62"/>
                </a:lnTo>
                <a:lnTo>
                  <a:pt x="62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95600" y="977760"/>
            <a:ext cx="23760" cy="24120"/>
          </a:xfrm>
          <a:custGeom>
            <a:avLst/>
            <a:gdLst/>
            <a:ahLst/>
            <a:rect l="l" t="t" r="r" b="b"/>
            <a:pathLst>
              <a:path w="62" h="61">
                <a:moveTo>
                  <a:pt x="0" y="60"/>
                </a:moveTo>
                <a:lnTo>
                  <a:pt x="2" y="61"/>
                </a:lnTo>
                <a:lnTo>
                  <a:pt x="32" y="30"/>
                </a:lnTo>
                <a:lnTo>
                  <a:pt x="62" y="0"/>
                </a:lnTo>
                <a:lnTo>
                  <a:pt x="2" y="61"/>
                </a:lnTo>
                <a:lnTo>
                  <a:pt x="0" y="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95600" y="988920"/>
            <a:ext cx="29880" cy="12960"/>
          </a:xfrm>
          <a:custGeom>
            <a:avLst/>
            <a:gdLst/>
            <a:ahLst/>
            <a:rect l="l" t="t" r="r" b="b"/>
            <a:pathLst>
              <a:path w="74" h="33">
                <a:moveTo>
                  <a:pt x="0" y="33"/>
                </a:moveTo>
                <a:lnTo>
                  <a:pt x="0" y="33"/>
                </a:lnTo>
                <a:lnTo>
                  <a:pt x="74" y="0"/>
                </a:lnTo>
                <a:lnTo>
                  <a:pt x="30" y="2"/>
                </a:lnTo>
                <a:lnTo>
                  <a:pt x="0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841200" y="1843200"/>
            <a:ext cx="60480" cy="48960"/>
          </a:xfrm>
          <a:custGeom>
            <a:avLst/>
            <a:gdLst/>
            <a:ahLst/>
            <a:rect l="l" t="t" r="r" b="b"/>
            <a:pathLst>
              <a:path w="76" h="63">
                <a:moveTo>
                  <a:pt x="76" y="34"/>
                </a:moveTo>
                <a:lnTo>
                  <a:pt x="76" y="34"/>
                </a:lnTo>
                <a:lnTo>
                  <a:pt x="62" y="0"/>
                </a:lnTo>
                <a:lnTo>
                  <a:pt x="0" y="63"/>
                </a:lnTo>
                <a:lnTo>
                  <a:pt x="31" y="31"/>
                </a:lnTo>
                <a:lnTo>
                  <a:pt x="76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839760" y="1841400"/>
            <a:ext cx="50760" cy="50760"/>
          </a:xfrm>
          <a:custGeom>
            <a:avLst/>
            <a:gdLst/>
            <a:ahLst/>
            <a:rect l="l" t="t" r="r" b="b"/>
            <a:pathLst>
              <a:path w="63" h="64">
                <a:moveTo>
                  <a:pt x="63" y="1"/>
                </a:moveTo>
                <a:lnTo>
                  <a:pt x="62" y="0"/>
                </a:lnTo>
                <a:lnTo>
                  <a:pt x="0" y="62"/>
                </a:lnTo>
                <a:lnTo>
                  <a:pt x="1" y="64"/>
                </a:lnTo>
                <a:lnTo>
                  <a:pt x="63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839760" y="1843200"/>
            <a:ext cx="50760" cy="489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61"/>
                </a:moveTo>
                <a:lnTo>
                  <a:pt x="1" y="63"/>
                </a:lnTo>
                <a:lnTo>
                  <a:pt x="32" y="31"/>
                </a:lnTo>
                <a:lnTo>
                  <a:pt x="63" y="0"/>
                </a:lnTo>
                <a:lnTo>
                  <a:pt x="1" y="63"/>
                </a:lnTo>
                <a:lnTo>
                  <a:pt x="0" y="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2841200" y="1865160"/>
            <a:ext cx="60480" cy="27000"/>
          </a:xfrm>
          <a:custGeom>
            <a:avLst/>
            <a:gdLst/>
            <a:ahLst/>
            <a:rect l="l" t="t" r="r" b="b"/>
            <a:pathLst>
              <a:path w="76" h="34">
                <a:moveTo>
                  <a:pt x="0" y="34"/>
                </a:moveTo>
                <a:lnTo>
                  <a:pt x="0" y="34"/>
                </a:lnTo>
                <a:lnTo>
                  <a:pt x="76" y="0"/>
                </a:lnTo>
                <a:lnTo>
                  <a:pt x="31" y="2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ción de Computadoras I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(temas 1 y 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nt-Ramon Palasí Lal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AE3-9032-47F1-BA67-7584247FBE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computadora es una máquin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máquinas resuelven problemas. Ascensor, tostadora, co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la computadora resuelve MUCHO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3ED-26E9-4802-A81C-EBE61528E1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Qué pasaría con este progr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pre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8D8-850F-4484-AC2F-BE603844D29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ía error. La computadora no lo acepta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computadora razona as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precio no está entre comillas, entonces es una expresión que debo cal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no es un número, debe ser una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s una variable, debe estar declarada donde pone “v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no está declarada. Por tanto: Error. Variable no decla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73E-4C37-4D4D-906D-706F489346B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n declararse TODAS las variables que intervienen en el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CD7-565B-45E5-9389-BC567246201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Es correcto el siguiente programa? ¿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2: integ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=precio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917-A765-4859-B2B8-4B15337B916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. “precio1” no le hemos puesto valor. Por tanto, puede tener cualquier valor que quiera la computad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“precio2” recibe el valor de “precio1”,  tanbién puede tener cualquier val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general, antes de utilizar cualquier variable le hemos de asignar un valor. A esto se le llama “inicializar la variabl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E02-B282-4021-AFBD-B4261DF7D9C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Es correcto el siguiente program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2: integ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=5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=precio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623-D70C-4D58-A3EF-D6E74BBD428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í, para que sea correcto, todas las variables deben ser inicializadas (asignarles un valor antes de utilizarl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aquí se inicializan las dos. Por tanto, corr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ón: TODAS LAS VARIABLES DEBEN SER INICIALIZADAS ANTES DE USAR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B70-BF87-4DD3-9861-505BD6657C8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s dos reglas de oro de las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a regla de oro: Todas las variables que hay en un programa deben ser declar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nda regla de oro: Todas las variables deben ser inicializadas (asignarles un valor) antes de utilizar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E87-ED96-43D5-9966-A935CA7FCC8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Es correcto el siguiente programa? ¿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gunt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:=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1+1 :=precio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8D8-82FD-43D3-B89C-51357CD7D9C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. La sintaxis de una asignación es &lt;nomvariable&gt;:=&lt;expresión&gt;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expresión puede estar a la derecha, pero no a la izquierda, donde sólo puede haber el nombre de una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A5C-CB26-4952-9F90-2D94E1170EA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s computadoras resuelven muchos problem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hay qué decirle que problemas queremos que resue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eso se le llama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4B8-B281-41EE-AA9B-B1C6896B6C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umen de las variables enter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ben ser declaradas todas en la “zona” var como “nombre:integer”. Deben ser inicializadas (asignar un valor) todas antes de usar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guardar un valor en ellas, &lt;nombre&gt;:=&lt;expresión&gt; (se guardará el valor calculado a partir de la expre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scribir su valor por pantall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write(nomb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scribir una expresión que las conteng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write(expre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4B9-B040-4EDB-894E-FAE2B16D636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ntas variables como se quier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tomemos el ejemplo anter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83D-38A5-4500-B3CF-8AA95C2B5B7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ntas variables como se quier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podría haber escrito as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IVA de este producto es ‘, 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477120" y="4343400"/>
            <a:ext cx="914400" cy="1295280"/>
          </a:xfrm>
          <a:prstGeom prst="line">
            <a:avLst/>
          </a:prstGeom>
          <a:ln w="127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271-FAEA-4202-8698-41D405951BF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Ventajas de esta nueva for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grama queda más claro (IMPORT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blema queda más fácil de modificar (IMPORTA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jemplo, (mirar diapo posteri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3C1-4D5E-413E-9ACD-70A5F27AF93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grama es fácil de modifica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3000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IVA de este producto es ‘, 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648320" y="3505320"/>
            <a:ext cx="914400" cy="1295280"/>
          </a:xfrm>
          <a:prstGeom prst="line">
            <a:avLst/>
          </a:prstGeom>
          <a:ln w="127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0520" y="281952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uy fácil de modific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391-A23A-46E0-A5CB-25C6C4DBEF0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grama es difícil de modifica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tomemos el ejemplo anter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3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886200" y="3048120"/>
            <a:ext cx="914400" cy="1295280"/>
          </a:xfrm>
          <a:prstGeom prst="line">
            <a:avLst/>
          </a:prstGeom>
          <a:ln w="127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95920" y="312408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ás difícil de modific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52F-F29C-4CCE-A58A-710FE5AC024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 uso inteligente de las variables permite modificar fácilmente el programa de forma que podamos ejecutarlo con diferentes val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, el programa anterior podemos cambiar fácilmente el valor del IVA y así poder calcular el IVA de diferentes pre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612-9A38-41B9-A46B-F3147973325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Por qué no hemos hecho que el porcentaje de IVA sea una variable, es dec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uesto_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centaje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centaje:=0.1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_sin_IVA:=3000;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VA:=porcentaje*precio_sin_IV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l IVA de este producto es ‘, 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36E-EE82-4F7D-B936-BEB688C6BA9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que 0.13 no es un número ent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816-1259-42CF-891B-31EDD43F809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an un programa que calcule el precio con IVA de un producto a partir de su precio sin IVA. (Haciendo que sea fácil de modific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70B-7C1A-4F62-8001-85172767525B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imera definición de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 de decirle a la computadora qué problema queremos que resuelva (qué queremos que hag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2A2-677F-49C5-B8A5-F3B84AFAFD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3000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3BD-515A-4E52-9690-F9068EE3B3FA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Se acuerdan de esto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a a resolver: saber el precio con IVA de un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ener el precio sin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r el 13% de este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ar esto último al precio sin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resultado es el precio con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GORITMO (en español) vs. PROGRAMA (en Pasc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BB8-0726-4E61-ADE7-806042089522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hubiera pasado si yo hubiera puesto 3001 en vez de 30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: la expresión daría un número no entero y al intentar asignarla a una variable entera, daría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ariables tienen que ser del mismo tipo que los valores que se le asig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una cajita triangular sólo caben triángulos, en una variable entera, sólo ente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AB7-92FA-460B-B6C3-7991D287D016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an un programa que dada una longitud en pies calcule la longitud en metros. (Haciendo que sea fácil de modificar) Nota: 1 metro son 3.28 p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DAF-CE68-464C-BB8E-E078C080214B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es_a_metr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e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ros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es:=3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ros:=pies/3.2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La altitud en metros es ‘, me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377-72B5-4109-90A5-F705597CCF2F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an un programa que dada una capacidad en galones calcule la capacidad en litros (Haciendo que sea fácil de modificar) Nota: 1 galón son 3.78 li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46E-A67A-4310-9573-858EF7F942BE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lones_a_litr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lone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tros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lones:=3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tros:=galones*3.7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La capacidad en litros es ‘, li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0F7-0901-4CDC-9851-AE1CE1AB999F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an un programa que dada una temperatura en grados farenheit, la convierta en grados centígrados (Haciendo que sea fácil de modificar) Nota: Se restan 92 y se multiplica por 5/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763-3DE7-4422-A898-7F4AAC876C09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renheit_a_celsiu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renheit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lsius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renheit:=903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lsius:=(farenheit-32)*5/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La temperatura en grados celsius es ‘, celsi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827-507F-4FA9-A45E-A58EE400E32B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os problemas en los últimos program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o, no todos los valores se pueden poner de entrad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, si ponemos 32 grados Celsius, nos da un número con decimales (no entero) y, como trabajamos con variables enteras, ERROR. La solución es fácil y la veremos en el tema siguiente. Por ahora, obviamos el 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egundo problema es que hay que modificar el programa constant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ABE-72B2-4161-AF4F-CAB3A0667EE4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gunda definición de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computadora es estúp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hemos de decir CÓMO se resuelve el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: Forma de decirle a la computadora qué problema debe resolver y CÓMO lo ha de res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E32-955C-4A7B-9558-7FE80F71A4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umen de las variables enter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ben ser declaradas todas en la “zona” var como “nombre:integer”. Deben ser inicializadas (asignar un valor) todas antes de usar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guardar un valor en ellas, &lt;nombre&gt;:=&lt;expresión&gt; (se guardará el valor calculado a partir de la expre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scribir su valor por pantall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write(nomb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scribir una expresión que las conteng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write(expre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637-4288-47FC-A59E-8B09A8A60ED3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talles sobre la declaración de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1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2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3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1,var2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3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1,var2,var3: 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C60-2147-4782-96D3-A8C1535D9B38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mbre de los identificador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es de variables, constantes, funciones, procedimientos, pr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be comenzar por una letra (sin til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de con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tras (sin til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arácter de subray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puede ser ninguna de las palabras reservadas: begin, end, program, var, writ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distingue entre mayúsculas y minúsculas en los identificadores y palabras reserv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DDC-4213-48D5-830B-C1986FACC670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 se distingue entre mayúsculas y minúscul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una variable se llama “precio” es igual que se escriba PRECIO, pReCiO o pRE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gualmente con palabras reservadas eNd, end, END,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se considera un pésimo estilo de programación escribir de distinta manera a lo largo del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BB9-F79A-4330-AEA6-E5A55A1BE59C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salida produce el siguiente progra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variables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,y: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:=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:=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 es ‘,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x,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x, ‘es x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8A2-7C81-4096-940C-29BDFEB10B81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4038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gunta: ¿Qué podríamos hacer para que el 5 y el 8 aparecieran separados en la 2ª lí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ón: writeln(x,’ ‘,y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52480" y="1828800"/>
            <a:ext cx="2819520" cy="19051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38080" y="179388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 es 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EE2-48F5-4D26-A6B0-997EE3A61C33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salida produce el siguiente progra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variables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,Y: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:=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:=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:=Y+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:=x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x = ‘, 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Y =‘,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1C1-5C47-4A9E-8C49-A4CB7075D8AA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120" y="4038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IR EL PROGRAMA PASO A PASO CON VALORES DE LAS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CAR LAS INSTRUCCIONES 3 Y 4 (las expresiones de asignación pueden tener variabl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752480" y="1828800"/>
            <a:ext cx="2819520" cy="19051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38440" y="1793880"/>
            <a:ext cx="9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=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= 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7E7-B300-4AD4-BE02-F10DBC982D7F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misma variable a ambos lad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variable colocada a la izquierda en una asignación puede aparecer en la expresión de la derec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valor antiguo de la variable se usa para calcular el resultado de la expresión y este resultado es el valor nue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s: x:=x+1 (incrementa x en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ma:=suma+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incrementa suma en el valor de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um:=3*num (triplica el valor de n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858-DF27-4708-9670-8B37055AEDAC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salida produce el siguiente progra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variables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1, num2: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1:=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2:=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1:=num1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2:=num2+num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num1 = ‘, num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num2 =‘, nu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8B9-15D3-4302-B7F4-B159C54CB51C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 de “program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a a resolver: saber el precio con IVA de un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ener el precio sin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r el 13% de este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ar esto último al precio sin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resultado es el precio con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DCA-9A26-4A56-B9D2-A788B921B2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4038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IR EL PROGRAMA PASO A PASO CON VALORES DE LAS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CAR LAS INSTRUCCIONES 3 Y 4 (las expresiones de asignación pueden tener variabl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1828800"/>
            <a:ext cx="2819520" cy="19051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738440" y="1793880"/>
            <a:ext cx="14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m1=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m2= 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DFD-5CC1-4DF7-9416-CEBF7D3ADC96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salida produce el siguiente progra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variables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ras, SueldoHoras, Pago: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ras:=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eldoHora:=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go:= Horas* SueldoHo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Horas, ‘ ‘, SueldoHora, ‘ ‘, Pag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eldoHora:=SueldoHora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Horas, ‘ ‘, SueldoHora, ‘ ‘, Pag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go:=Horas*SueldoHo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Horas, ‘ ‘, SueldoHora, ‘ ‘, Pag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77E-9BBB-4532-89B6-D2E205453937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120" y="4038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IR EL PROGRAMA PASO A PASO CON VALORES DE LAS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car el hecho de que las expresiones de asignación pueden tener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752480" y="1828800"/>
            <a:ext cx="2819520" cy="19051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38440" y="1793880"/>
            <a:ext cx="124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 5 2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 6 2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 6 24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E8F-2A39-4EDE-8889-2E9ECDB06E86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umen de las variables enter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ben ser declaradas todas en la “zona” var como “nombre:integer”. Deben ser inicializadas (asignar un valor) todas antes de usar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guardar un valor en ellas, &lt;nombre&gt;:=&lt;expresión&gt; (se guardará el valor calculado a partir de la expre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scribir su valor por pantall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write(nomb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scribir una expresión que las conteng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write(expre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57C-FAB9-4CBF-B369-2539374528D0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lsa de pregunt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6D7-EFC3-4828-A4CF-C2C144D59D44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tomemos el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3000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DC1-20D4-4B52-89F4-CDC7A0382CA3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i queremos modificarlo...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 4000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800600" y="3048120"/>
            <a:ext cx="914400" cy="1295280"/>
          </a:xfrm>
          <a:prstGeom prst="line">
            <a:avLst/>
          </a:prstGeom>
          <a:ln w="127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E16-3522-4586-B4E8-3F79B30968B7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nconvenientes de este siste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vez que queremos calcular diferentes valores, tenemos que modificar 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es incómodo y no pasa en los programas comerciales. Ejemplo: Calculadora, Exc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que necesitamos es que el programa nos pida (pregunte) los datos y que los introduzcamos por pantalla (que pida el precio sin IV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73D-9238-4A39-A391-4DAF7CFFFB76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La solución: readl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a instrucción que sirve para pedir datos por pant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intaxis es readln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variable&gt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se ejecuta, espera a que le entremos un dato por pantalla y el dato lo guarda en la variable especific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D8A-A0B3-4449-AF60-F3066E53632E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 de “readln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dln(precio_sin_I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el programa llega a esta instrucción, se para y pide un d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el usuario escribe el dato, este se guarda en la variable “precio_sin_IVA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F56-E3F7-424A-BD00-5F5FC64AC5A6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grama no puede tomar cualquier for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IVA es el 13% del valor del product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obtener el precio con IVA sumale el 13% al precio antes del I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FE4-0E6C-4DE3-869B-A33773B58D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 de “readln”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precio_sin_IVA);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09D-8C3F-47F0-8EB4-B5AA264AE886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anterior programa (hacerla con el programa al lado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 El programa llega al “readln”. Muestra un cursor y espera indefinidamente hasta que el usuario introduzca un nú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0" y="3657600"/>
            <a:ext cx="4648320" cy="25146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7652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7BE-4549-4639-BE5B-BE98992A95B5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anterior programa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 El usuario introduce (escribe) un número y pulsa la tecla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3657600"/>
            <a:ext cx="4648320" cy="25146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76520" y="3699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0_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388-E61E-4E08-B544-8CC926352E7C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anterior programa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- El programa pone el número en la variable “precio_sin_I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76520" y="3699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0_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1828800" y="3920760"/>
            <a:ext cx="1066680" cy="914760"/>
            <a:chOff x="1828800" y="3920760"/>
            <a:chExt cx="1066680" cy="914760"/>
          </a:xfrm>
        </p:grpSpPr>
        <p:sp>
          <p:nvSpPr>
            <p:cNvPr id="619" name=""/>
            <p:cNvSpPr/>
            <p:nvPr/>
          </p:nvSpPr>
          <p:spPr>
            <a:xfrm>
              <a:off x="1828800" y="41497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1828800" y="39207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2590920" y="39207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590920" y="45302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86000" y="39211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95480" y="39211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1585800" y="34704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_sin_IV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14760" y="4232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FA2-4420-45A8-9B38-F550F57F7623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anterior programa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precio_sin_IV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791320" y="4343400"/>
            <a:ext cx="8380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4800600"/>
            <a:ext cx="8380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65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5257800"/>
            <a:ext cx="8384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565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706080" y="42670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_sin_IV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17520" y="4800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V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912000" y="5486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_con_IV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79312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AE8-EC82-41BC-956B-383344D8BE99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anterior programa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- El programa escribe en pantalla el valor de “precio_con_IVA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0" y="3657600"/>
            <a:ext cx="4648320" cy="25146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75080" y="3699000"/>
            <a:ext cx="344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recio con IVA es 565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020-FB7E-45F5-9B91-3D4E9BFCD886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te pida un número por el teclado y te escriba por pantalla el do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B31-A17F-4EA8-B641-5C466F5FCF04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dob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número que quieras doblar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doble de’, numero, ‘ es ‘, 2*nu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B2E-485F-4FE4-8FC9-858E459519EA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ar que produce el anterior programa por pantalla. Solu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0" y="3657600"/>
            <a:ext cx="5410080" cy="25146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0960" y="3886200"/>
            <a:ext cx="49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ribe el número que quieras doblar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oble de 5 es 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708-2F91-459E-9D78-A4F231175226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Y si quitamos el “write” que va antes del “readln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 se incluye la solu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8F6-CF0E-4E51-BC16-16587A4BC359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grama tiene que s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ado con todo de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ado en orden secuencial: PASO 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esta forma de explicar las cosas se llama forma ALGORÍT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CFB-6027-4B81-B63E-4414207A44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Ventajas y desventajas del “readln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aja: Nos permite ejecutar el programa con distintos valores: hace el programa más ú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ventaja: Cuando se detiene, no nos dice qué valor quiere que le escribamos. POR ESO NECESITA UN WRITE DEL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027-77EC-4C8E-9E06-04850FA4AA56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te pida por pantalla una capacidad en galones y escriba el equivalente en litros (Nota: 1 galón son 3.78 li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B86-9482-4CA7-82D0-350CB29DF606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lones_a_litros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lone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tros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Introduce la capacidad en galones 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galon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tros:=galones*3.7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La capacidad en litros es ‘, li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4A8-9EB4-4426-A268-11FC543E2823}" type="slidenum">
              <a:t>1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 que pida dos números por teclado y escriba su producto por pant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257-55DE-4626-90AA-3656DFEF53DA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roduc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2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primer factor ‘); readln(factor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segundo factor ‘); readln(factor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oducto de ‘, factor1, ‘ por ‘, factor2, ‘ es ‘, factor1*facto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0A2-B32A-454E-9F56-35C05645E8FC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produce el anterior programa por pantalla? Solu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3657600"/>
            <a:ext cx="5410080" cy="25146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22440" y="316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35400" y="3733920"/>
            <a:ext cx="350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ribe el primer factor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ribe el segundo factor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roducto de 2 por 3 es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6AE-44DC-4910-9DF4-DF67F1B536EC}" type="slidenum">
              <a:t>1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un programa que pida una longitud en kilometros y metros y que escriba la longitud usando sólo centíme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400-26DB-4ED6-BD99-CFC63EAFB658}" type="slidenum">
              <a:t>1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longitu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ilometros, metro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numero de kilómetros 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kilometr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número de metros 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metr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La longitud en metros es ‘, 1000*kilometros+metr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936-1D65-4AED-90B7-2EE2ECC9856A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cesidad de comentari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importante que el programa sea leg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grama largo es difícil de entender y modifi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incluyen comentarios para indicar que hacen las diferentes partes del cód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2DC-B8F5-4612-BC5C-D7962E50E832}" type="slidenum">
              <a:t>1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imera sesión de laborator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461-DCCE-4A0C-BAF1-68C425A344E4}" type="slidenum">
              <a:t>1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lgoritm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ción DETALLADA Y SECUENCIAL de cómo resolver un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que hemos visto era un algoritmo y no un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A69-595D-4AC9-A3C7-11B6C362B4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lsa de pregunt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948-1F27-4B01-9976-27F2CA112C85}" type="slidenum">
              <a:t>1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mentari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“notas” que el programador va dejando en el código para que se sepa que es lo que hace éste en cada mo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ascal las ignora: sólo para el que lee 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taxis: {&lt;comentario&gt;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O NO FORMAN PARTE DEL PROGRAMA, NO LLEVAN PUNTO Y C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678-803C-4929-8198-BECB54A483ED}" type="slidenum">
              <a:t>1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 de programa con comentari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 produc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ctor1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ctor2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{Programa que calcula el producto de dos número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{Entrada de dato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write(‘Escribe el primer factor ‘); readln(factor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write(‘Escribe el segundo factor ‘); readln(factor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{Salida de dato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write(‘El producto de ‘, factor1, ‘ por ‘, factor2, ‘ es ‘, factor1*facto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27B-751B-40BF-85AE-67804670E2E3}" type="slidenum">
              <a:t>1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a buena práctica poner al principio de un programa un comentario que diga lo que hace 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grama anterior tiene demasiados comentarios: conviene hallar el justo 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ahora, todos los programas llevarán coment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BBC-E7B4-4DCF-9738-B81A046403F2}" type="slidenum">
              <a:t>1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(bien comentado) un programa que dada una altura en pies, te escriba la altura en pulgadas (1 pie tiene 12 pulgad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AA2-04DF-4006-9D80-8CBDA955BCB3}" type="slidenum">
              <a:t>1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ies_a_pulg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es, pulgadas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{Convierte pies en pulgada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la altura en pies 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pi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lgadas:=pies*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La altura en pulgadas es ‘, pulg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714-2E8F-4920-941D-F9F8B1350B72}" type="slidenum">
              <a:t>1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lgoritmos y program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mo: Descripción DETALLADA Y SECUENCIAL de cómo resolver un problema (EN CUALQUIER LENGUAJ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: Algoritmo escrito en un lenguaje comprensible por la computadora (en UN LENGUAJE DE PROGRAM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641-4412-426D-AD36-5DA4BC4649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NTREVI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escriban sus dudas y preguntas en un pap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 las entregan y yo las resuel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173-57C0-43B2-AB67-EF203BB278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sent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enven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Por qué estudia esta carre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9ED-7DAF-44BB-9D47-05966E6B90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s de creación de algoritm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saber programar bien, hay que saber hacer algoritmos para resolver probl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a forma de pensar específ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eso, haremos unos ejercic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CC6-0822-45C0-8E2C-7CE70BA4A0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s de creación de algoritmos (por alumnos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acar la carr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aprobar el curso de P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votar (enseñar cart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uno llega a la Univer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uno se desplaza a la Univer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uno se desplaza en b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e llega a Presidente de la Re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trastar como serían no algorítmicamente y que es una forma de pens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354-821F-4F9E-B2EA-6B295569CC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s de creación de algoritmos por alumno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leer un li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hacer un huevo fr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hacer una tort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hacer una pup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acar dinero de un cajero auto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trastar como serían no algorítmicamente y que es una forma de pens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CB7-25C7-46E7-8C82-40A1CDB029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lsa de pregunt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o saca un papel y responde la pregunta que hay en é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acierta, se le da un pu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519-616C-4ACE-88A8-E0E9717D49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eptos básicos de la programación en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ndo 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D54-F4E2-458A-A44F-D88F418CAC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lenguaje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de programación creado por Nikklaus Wirth alrededor de 197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: lenguaje que hiciera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cómo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elegante (sin vici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mod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nombre lo debe a Blaise Pascal. Calculad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C48-9276-492E-92D9-F2C1797746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nfluencias de y sobre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1523880"/>
            <a:ext cx="175284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Leng. 1ª ge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28600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B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0"/>
            <a:ext cx="17524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TR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228600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L/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27672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3276720"/>
            <a:ext cx="17524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Smalltal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276720"/>
            <a:ext cx="17524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327672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480060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odula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556272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Ober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00600"/>
            <a:ext cx="17524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isual Bas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4191120"/>
            <a:ext cx="17528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6095880"/>
            <a:ext cx="17524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5181480"/>
            <a:ext cx="175284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isual C+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4038480"/>
            <a:ext cx="17524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2666880"/>
            <a:ext cx="0" cy="609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2666880"/>
            <a:ext cx="0" cy="228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895480"/>
            <a:ext cx="2666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2895480"/>
            <a:ext cx="0" cy="381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19051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752120" y="1676520"/>
            <a:ext cx="1143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676520"/>
            <a:ext cx="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1676520"/>
            <a:ext cx="12952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1676520"/>
            <a:ext cx="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3657600"/>
            <a:ext cx="762120" cy="380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3657600"/>
            <a:ext cx="0" cy="1143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5181480"/>
            <a:ext cx="0" cy="381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657600"/>
            <a:ext cx="0" cy="1143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866920" y="3657600"/>
            <a:ext cx="762120" cy="274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885840" y="6400800"/>
            <a:ext cx="1981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562360" y="3505320"/>
            <a:ext cx="990360" cy="1295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4343400"/>
            <a:ext cx="1218960" cy="1752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905120" y="3657600"/>
            <a:ext cx="83808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657600"/>
            <a:ext cx="1295280" cy="1143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657600"/>
            <a:ext cx="0" cy="533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572000"/>
            <a:ext cx="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6C8-E6EA-4772-8B0B-AD2C20A09B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aracterísticas de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imper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e la programación estruc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atiza la modularización del cód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ecuado para la enseñanza de la progra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654-EE5D-442C-B97D-370922C72A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 primer programa en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aludos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write ('Hola a todos’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591-090F-4B06-9D6D-9984C04B280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Qué hace este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grama es la forma de decirle a la computadora lo que tiene que hac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 programa le dice que escriba en pantalla la frase “Hola a tod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343400"/>
            <a:ext cx="2438640" cy="16765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1120" y="44956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la a tod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037-0C35-443F-876B-8523C4479A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jetivos del curs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rcicio: ¿Qué es lo que espero de este cur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scriben las respuestas en un pap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c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scriben las respuestas en la piza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votan las respu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alumno rehace el docu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497-B104-4A51-A833-CE6DDA3DC1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alizando el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características que parecen específicas del programas. Como “Hola a todo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otras características que parecen generales a cualquier programa. Por ejemplo “program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mos a distinguir entre unas y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B98-B579-44DD-8D9A-1B11458FF9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ructura de un programa en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77040" y="2422440"/>
            <a:ext cx="679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nombre programa&gt;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7BC-D6CF-4150-8446-FB76D2F3BE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ructura de un programa en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77040" y="2422440"/>
            <a:ext cx="679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nombre programa&gt;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9C8-59D3-45ED-9ECD-D3F319AF39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ones sobre la estructur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cal, como cualquier LP, es muy riguroso y estricto con la forma de escribir las cosas (SINTAX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instrucciones son la forma de decirle al programa lo que queremos que ha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03F-B215-4BB0-A29B-9F7E37A906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a instruc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aludos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imes New Roman"/>
              </a:rPr>
              <a:t>write ('Hola a todos’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933-E4E3-40BB-BC90-7886AFBB342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instrucción “writ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 ' Hola a todos ') escribe la frase “Hola a todos” en la pant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733920"/>
            <a:ext cx="2438640" cy="16761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1120" y="38862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la a tod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180-02A4-4115-B4BD-C747958F64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instrucción “writ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 ' Hola a todos ') escribe la frase “Hola a todos” en la pant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general, “write” escribe la frase ente paréntesis en la pant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idado con las comil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10A-38AD-4856-838F-50F8F2BC7B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 por grup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escriba por pantalla “Somos el mejor grupo de la Univers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85B-6BDB-442B-9003-38E35AE531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3623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rdad_incuestionable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 ('Somos el mejor grupo de la Universidad'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CD7-BF5E-49AE-9510-F024FBAA52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hubiera pasado si hubiéramos prescindido de las comill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Y si hubiéramos puesto comillas do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ción: Que no hubiera funcionado (error de sintax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025-B9CB-475C-B266-08ED5AB743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ormación de grup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parten los pap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cogen los pap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D29-752A-41B3-9149-90DF63F1E3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é hubiera pasado si hubiéramos escrito el siguiente programa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rdad_incuestionable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 ('Somos el mejor grupo ');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 ('de la Universidad'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: lo mismo que el anterior progra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037-6536-47B5-98F1-62EE9C5F773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ones sobre la 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la: cuando hay dos “write”, el uno escribe donde ha acabado de escribir el o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mos puesto un punto y coma detrás del primer “write” ¿Cuándo se pone el punto y co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043-51BE-454B-B978-138D31BEF5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glas para el punto y coma en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one al final de todas las instrucciones excep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“begi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último “en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co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línea anterior a cualquier “end” (en este caso es op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BD1-C85C-4C21-A5B3-F8C099F3112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é hubiera pasado si hubiéramos escrito el siguiente programa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dad_incuestionable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'Somos el mejor grupo'); write ('de la Universidad'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: lo mismo que el anterior programa. ES EL PUNTO Y COMA EL QUE SEPARA LAS INSTRUCCIONES, NO LAS LÍNEA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367-6C0F-4426-8699-A6E11E59D0D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 para grup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escriba el nombre (pero no los apellidos) de los integrantes  del grupo con tantos “write” como integr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CFF-3853-48A8-92C4-5A9850558EE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upo_1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Fulano ')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Mengano ’)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Zutano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Berengano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FATIZAR USO DEL PUNTO Y CO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B57-2E83-4959-A466-E3FBB80DD8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escribiría por pantalla el anterior progra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3733920"/>
            <a:ext cx="5181480" cy="28191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4560" y="3774960"/>
            <a:ext cx="45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lano Mengano Zutano Berenga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D43-37F2-40E4-908B-655CCCEAD49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 sobre la 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antiestético que se escriba todo en la misma lín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 gustaría colocar cada nombre en una línea difer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eso utilizaremos el “writel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A80-CA8D-49A6-9F73-5AFF1C23963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instrucción “writeln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e algo y salta de lín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usamos un “write”, la siguiente palabra que se escriba irá a continu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usamos un “writeln”, la siguiente palabra que se escriba irá en la línea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77D-D0DC-4E4B-89F4-3F08A676010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 de “writeln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‘1’); write (‘2’)” 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‘1’); write(‘2’)” 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514600"/>
            <a:ext cx="2438640" cy="16765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4952880"/>
            <a:ext cx="2438640" cy="16765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57440" y="2505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1480" y="4943520"/>
            <a:ext cx="3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7C5-77E6-4A10-AF69-9D5438CE536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orma de evalu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ción continua: en cl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no prescindiremos de exámenes parciales para mejorar n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8DF-B45E-4D9F-8AEB-68C51120D4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 por grup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er el ejercicio anterior, pero ahora cada uno de los nombres de los integrantes del grupo debe salir en una línea difer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5FE-9321-44EF-81B3-978F2A89C6B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upo_1_bi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 (’Fulano ')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 (’Mengano ’)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 (‘Zutano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Berengano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FATIZAR USO DEL PUNTO Y CO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1905120"/>
            <a:ext cx="4114800" cy="289548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6760" y="2235240"/>
            <a:ext cx="172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ul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ng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Zut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ereng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6BE-2930-4AB1-9A7D-499C0606399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pasaría si el último “write” hubiera sido un “writeln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ción: Nada, pues no hay nada que se escriba despu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74D-1851-4EBD-8B2C-F21B856B809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so de “writeln” so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ln se puede utilizar solo y entonces lo que hace es saltar de lín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ejempl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‘Primera línea’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‘Segunda línea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71B-B6A6-458D-816A-810C1C67CDA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so de “writeln” sol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anterior programa 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gual que el sigui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ejempl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‘Primera línea’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‘Segunda línea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2590920"/>
            <a:ext cx="2819520" cy="19047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76920" y="2556000"/>
            <a:ext cx="20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era líne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gunda líne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41C-8AA1-412C-AF46-EDDFB18B834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nviar el ejercicio de los nombres de los integrantes para que los “writeln” que haya sean todos “writeln” so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3EA-76D2-45AB-80BF-DA1BFAC35CD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upo_1_tri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Fulano '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Mengano ’)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Zutano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Berengano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1905120"/>
            <a:ext cx="4114800" cy="289548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6760" y="2235240"/>
            <a:ext cx="172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ul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ng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Zut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erenga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12A-5EFA-4C10-981A-F86E2BBE70C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Qué produciría el siguiente progr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_inte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3*5 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648320"/>
            <a:ext cx="2819520" cy="19047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19520" y="4689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*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276-92CE-4AE7-92F6-7526B112EF3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Qué produciría el siguiente progr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_interes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3*5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4648320"/>
            <a:ext cx="2819520" cy="19047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19520" y="46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DA5-15DB-4A70-A4A3-A1A948682C2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“write” escribe exactamente lo que hay entre comil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í, write (‘3*5’) produce “3*5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“write” escribe el resultado de calcular lo que no lleva comil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í, write (‘3*5’) produce “15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5C2-1E93-49A9-9508-87662F83491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xplicación del progra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CBE-8EEF-41AD-98AE-70075A0EB1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Qué produciría el siguiente progr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itmet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3*5 =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3*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648320"/>
            <a:ext cx="2819520" cy="190476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19160" y="46893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*5=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143-6E53-4C1F-A1F1-C9CDEF3C027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un programa que escriba “2*2=4” sin utilizar ningún “4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itmetica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2*2 =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2*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BDD-9299-4645-ACDE-8A45B6ECB1C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programa anterior, hay dos “wri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o escribe “2*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otro escrib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Podríamos hacer que se produjera el mismo resultado con un único write? ¿Cómo se har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934-0839-4030-9F6A-133D3253DA0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itmetica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2*2 =’,2*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ención: La coma significa “a continuació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6AD-E830-4723-BBBE-87ADA24152C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r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dentro de un “write” hay varias “cosas” separadas por una coma, unas se escriben a continuación d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coma dentro de un write significa “a continuació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n mezclarse “cosas” con comillas y sin comi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8C5-8899-4BAD-877E-0807C138412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generará el siguiente progra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itmetica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 (’2+2 =’,2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3+3=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3+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íjense que es lo mismo escribir en una línea que e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657600"/>
            <a:ext cx="2819520" cy="19051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61800" y="3699000"/>
            <a:ext cx="98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+2=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+3=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1BE-0651-49EC-94FE-9170E8EBB57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haga aparecer por pant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 y dos son 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tro y dos son 6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is y dos son 8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ocho 16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los números con cifra deben ser resultado de su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BF4-CF3C-4175-B46B-16CD6E27B51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ció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’Dos y dos son ’, 2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’,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cuatro y dos son ‘, 4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’,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seis y dos son ‘, 6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’,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y ocho,’, 8+8,’.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E8E-97F3-4C1D-B929-5B1D3E4CD54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tra solución más legib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ció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 (’Dos y dos son ’,2+2,’,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cuatro y dos son ‘, 4+2,’,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seis y dos son ‘, 6+2,’,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y ocho, ‘, 8+8,’.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MARCAR EL USO DE LA C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638-24A3-454C-A150-BF0969412DE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umen del “writ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“write” hace que algo aparezca por pant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 sintaxis 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expresión1, expresión2,..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expresiones pueden 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re comilla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se escriben tal c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n comilla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se hace un cálculo con ellas y se escribe el result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ln” es lo mismo que “write” pero salta de lín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 siguiente que se escribe, va en la línea de 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F05C-BD86-46E5-A222-1BA3F80CCFA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jetivo de la asignatur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ar los conceptos básicos de la progra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 basamos en Pas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los conceptos aplicables a cualquier lenguaje imper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399-E853-4164-A387-581B9C73AC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lsa de pregunt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C0D-5D7F-4087-B67A-EE6572304EA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cesidad de las variables y el “read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rogramas anteriores siempre se comportan igual. Hacen lo mismo. No varían. Ejempl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mejor que se comporten de forma diferente según lo quiera el usuario. Ejemp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ello, hemos de introducir dos conceptos: “las variables” y el “read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A47-EE15-4455-B4C4-A152AB95BC4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s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n que una variable es una cajita que guarda al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variables de diferentes tipos como hay cajitas de diferentes t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ahora, sólo veremos variables de un sólo tipo: el entero. Variables ente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828800" y="5562360"/>
            <a:ext cx="1066680" cy="914760"/>
            <a:chOff x="1828800" y="5562360"/>
            <a:chExt cx="1066680" cy="914760"/>
          </a:xfrm>
        </p:grpSpPr>
        <p:sp>
          <p:nvSpPr>
            <p:cNvPr id="259" name=""/>
            <p:cNvSpPr/>
            <p:nvPr/>
          </p:nvSpPr>
          <p:spPr>
            <a:xfrm>
              <a:off x="18288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8288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5909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5909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60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954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114800" y="5562720"/>
            <a:ext cx="1143000" cy="914400"/>
            <a:chOff x="4114800" y="5562720"/>
            <a:chExt cx="1143000" cy="914400"/>
          </a:xfrm>
        </p:grpSpPr>
        <p:sp>
          <p:nvSpPr>
            <p:cNvPr id="266" name=""/>
            <p:cNvSpPr/>
            <p:nvPr/>
          </p:nvSpPr>
          <p:spPr>
            <a:xfrm flipH="1">
              <a:off x="4114800" y="5715360"/>
              <a:ext cx="380880" cy="761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4800" y="6477120"/>
              <a:ext cx="7621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95680" y="5715360"/>
              <a:ext cx="381240" cy="761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495680" y="5562720"/>
              <a:ext cx="381240" cy="152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876920" y="6324480"/>
              <a:ext cx="380880" cy="152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00600" y="5562720"/>
              <a:ext cx="380880" cy="838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7F7-A7D0-4540-B38C-BB07EAC7B1D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Variables enter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hemos dicho, son cajitas que guardan al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ste caso, guardan un número entero (“exacto, sin decimale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828800" y="5562360"/>
            <a:ext cx="1066680" cy="914760"/>
            <a:chOff x="1828800" y="5562360"/>
            <a:chExt cx="1066680" cy="914760"/>
          </a:xfrm>
        </p:grpSpPr>
        <p:sp>
          <p:nvSpPr>
            <p:cNvPr id="275" name=""/>
            <p:cNvSpPr/>
            <p:nvPr/>
          </p:nvSpPr>
          <p:spPr>
            <a:xfrm>
              <a:off x="18288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8288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5909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5909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860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954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809880" y="5562360"/>
            <a:ext cx="1066680" cy="914760"/>
            <a:chOff x="3809880" y="5562360"/>
            <a:chExt cx="1066680" cy="914760"/>
          </a:xfrm>
        </p:grpSpPr>
        <p:sp>
          <p:nvSpPr>
            <p:cNvPr id="282" name=""/>
            <p:cNvSpPr/>
            <p:nvPr/>
          </p:nvSpPr>
          <p:spPr>
            <a:xfrm>
              <a:off x="380988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380988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57200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57200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6708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7656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562360"/>
            <a:ext cx="1066680" cy="914760"/>
            <a:chOff x="6172200" y="5562360"/>
            <a:chExt cx="1066680" cy="914760"/>
          </a:xfrm>
        </p:grpSpPr>
        <p:sp>
          <p:nvSpPr>
            <p:cNvPr id="289" name=""/>
            <p:cNvSpPr/>
            <p:nvPr/>
          </p:nvSpPr>
          <p:spPr>
            <a:xfrm>
              <a:off x="61722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1722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9343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9343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294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388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6704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11680" y="5791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13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10440" y="5832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5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E97-CD8A-4E35-8623-D175E22CEBA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Variables entera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variable tiene un nom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cada variable, nos interesan dos co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n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contenido (lo que guar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828800" y="5562360"/>
            <a:ext cx="1066680" cy="914760"/>
            <a:chOff x="1828800" y="5562360"/>
            <a:chExt cx="1066680" cy="914760"/>
          </a:xfrm>
        </p:grpSpPr>
        <p:sp>
          <p:nvSpPr>
            <p:cNvPr id="301" name=""/>
            <p:cNvSpPr/>
            <p:nvPr/>
          </p:nvSpPr>
          <p:spPr>
            <a:xfrm>
              <a:off x="18288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8288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5909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60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954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809880" y="5562360"/>
            <a:ext cx="1066680" cy="914760"/>
            <a:chOff x="3809880" y="5562360"/>
            <a:chExt cx="1066680" cy="914760"/>
          </a:xfrm>
        </p:grpSpPr>
        <p:sp>
          <p:nvSpPr>
            <p:cNvPr id="308" name=""/>
            <p:cNvSpPr/>
            <p:nvPr/>
          </p:nvSpPr>
          <p:spPr>
            <a:xfrm>
              <a:off x="380988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80988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57200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57200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6708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7656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172200" y="5562360"/>
            <a:ext cx="1066680" cy="914760"/>
            <a:chOff x="6172200" y="5562360"/>
            <a:chExt cx="1066680" cy="914760"/>
          </a:xfrm>
        </p:grpSpPr>
        <p:sp>
          <p:nvSpPr>
            <p:cNvPr id="315" name=""/>
            <p:cNvSpPr/>
            <p:nvPr/>
          </p:nvSpPr>
          <p:spPr>
            <a:xfrm>
              <a:off x="61722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1722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9343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294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388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6704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11680" y="5791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13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0440" y="5832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5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60680" y="49179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riable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70720" y="491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80040" y="48769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ci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3FE-732C-4801-BC15-C251490BFA8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peraciones con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mos hacer dos acciones diferentes con las variables (por ahora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dar un número dentro de 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ribir el número que guardan por pant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828800" y="5562360"/>
            <a:ext cx="1066680" cy="914760"/>
            <a:chOff x="1828800" y="5562360"/>
            <a:chExt cx="1066680" cy="914760"/>
          </a:xfrm>
        </p:grpSpPr>
        <p:sp>
          <p:nvSpPr>
            <p:cNvPr id="330" name=""/>
            <p:cNvSpPr/>
            <p:nvPr/>
          </p:nvSpPr>
          <p:spPr>
            <a:xfrm>
              <a:off x="18288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8288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5909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5909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860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809880" y="5562360"/>
            <a:ext cx="1066680" cy="914760"/>
            <a:chOff x="3809880" y="5562360"/>
            <a:chExt cx="1066680" cy="914760"/>
          </a:xfrm>
        </p:grpSpPr>
        <p:sp>
          <p:nvSpPr>
            <p:cNvPr id="337" name=""/>
            <p:cNvSpPr/>
            <p:nvPr/>
          </p:nvSpPr>
          <p:spPr>
            <a:xfrm>
              <a:off x="380988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80988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57200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57200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6708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7656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172200" y="5562360"/>
            <a:ext cx="1066680" cy="914760"/>
            <a:chOff x="6172200" y="5562360"/>
            <a:chExt cx="1066680" cy="914760"/>
          </a:xfrm>
        </p:grpSpPr>
        <p:sp>
          <p:nvSpPr>
            <p:cNvPr id="344" name=""/>
            <p:cNvSpPr/>
            <p:nvPr/>
          </p:nvSpPr>
          <p:spPr>
            <a:xfrm>
              <a:off x="6172200" y="57913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172200" y="55623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934320" y="55623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934320" y="61718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55627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38880" y="55627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96704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11680" y="5791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13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10440" y="5832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5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60680" y="49179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riable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70720" y="491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0040" y="48769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ci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05D-06B1-48B7-8A9C-109E03E3ECA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ructura de un programa con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160" y="2422440"/>
            <a:ext cx="6838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nombre programa&gt;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declaración de variables&gt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015-4B40-4D76-8BAF-28A5A6BE43A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a lista de nombres de TODAS las variables del programa con sus t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las variables que hay en el programa deben ser declaradas en esta decl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tax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brevar1:tipovar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brevar2:tipovar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94F-57B4-4238-A786-65A12E645C5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variables enter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o solo tenemos variables enteras, el único tipo, será entero, es decir,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 la declaración (lista) de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mbrevar1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mbrevar2: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CEA-8599-4BD3-B7DE-340AC23C16B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Qué hace el siguiente progr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_ha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Es correcto? ¿Daría un err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9DC-25E2-4D34-B108-8489F84CD01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signatura básica y fundament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nque se enseña Pascal, es lo mismo en otros lenguaj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con la que construirán su conocimiento informático. Analogía del edif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C4C-C889-4301-B45D-EB91520F7E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imer programa con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a_cos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gunta: ¿Hace este programa al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C8E-66E9-4EAB-8263-F45226EAFDD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í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a variable de nombre “variable1”, aunque no la vea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ODO LO QUE PASA EN UN PROGRAMA TIENE PORQUÉ SER VISTO POR PANT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828800" y="3920760"/>
            <a:ext cx="1066680" cy="914760"/>
            <a:chOff x="1828800" y="3920760"/>
            <a:chExt cx="1066680" cy="914760"/>
          </a:xfrm>
        </p:grpSpPr>
        <p:sp>
          <p:nvSpPr>
            <p:cNvPr id="369" name=""/>
            <p:cNvSpPr/>
            <p:nvPr/>
          </p:nvSpPr>
          <p:spPr>
            <a:xfrm>
              <a:off x="1828800" y="41497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828800" y="39207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590920" y="39207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590920" y="45302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86000" y="39211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95480" y="39211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660680" y="32767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riable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60E-6CB9-4689-80EC-98F657BB129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Escribe algo el anterior progra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: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: Porque no tiene ningún “wri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64B-7916-4253-9C45-D37186ED099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gundo programa con vari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a_cosa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1: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igma: ¿Qué es esa instruc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4B3-C90B-48DB-99B2-5897221952D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1:=5” quiere decir “guarda el número 5 en la variable que se llama “variable1”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a instrucción, no un signo de igualdad. Se llam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ig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422440" y="3733920"/>
            <a:ext cx="4511160" cy="1600200"/>
            <a:chOff x="2422440" y="3733920"/>
            <a:chExt cx="4511160" cy="1600200"/>
          </a:xfrm>
        </p:grpSpPr>
        <p:grpSp>
          <p:nvGrpSpPr>
            <p:cNvPr id="383" name=""/>
            <p:cNvGrpSpPr/>
            <p:nvPr/>
          </p:nvGrpSpPr>
          <p:grpSpPr>
            <a:xfrm>
              <a:off x="2590560" y="4419360"/>
              <a:ext cx="1066680" cy="914760"/>
              <a:chOff x="2590560" y="4419360"/>
              <a:chExt cx="1066680" cy="914760"/>
            </a:xfrm>
          </p:grpSpPr>
          <p:sp>
            <p:nvSpPr>
              <p:cNvPr id="384" name=""/>
              <p:cNvSpPr/>
              <p:nvPr/>
            </p:nvSpPr>
            <p:spPr>
              <a:xfrm>
                <a:off x="2590560" y="46483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2590560" y="4419360"/>
                <a:ext cx="45720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3352680" y="4419360"/>
                <a:ext cx="30456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3352680" y="5028840"/>
                <a:ext cx="304560" cy="3049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47760" y="4419720"/>
                <a:ext cx="6094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657240" y="4419720"/>
                <a:ext cx="0" cy="6858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2727000" y="4765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22440" y="377496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variable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5700600" y="4377960"/>
              <a:ext cx="1066680" cy="914760"/>
              <a:chOff x="5700600" y="4377960"/>
              <a:chExt cx="1066680" cy="914760"/>
            </a:xfrm>
          </p:grpSpPr>
          <p:sp>
            <p:nvSpPr>
              <p:cNvPr id="393" name=""/>
              <p:cNvSpPr/>
              <p:nvPr/>
            </p:nvSpPr>
            <p:spPr>
              <a:xfrm>
                <a:off x="5700600" y="46069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5700600" y="4377960"/>
                <a:ext cx="45720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6462720" y="4377960"/>
                <a:ext cx="30456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6462720" y="4987440"/>
                <a:ext cx="304560" cy="3049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57800" y="4378320"/>
                <a:ext cx="6094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767280" y="4378320"/>
                <a:ext cx="0" cy="6858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583884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32120" y="373392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variable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160" y="4876920"/>
              <a:ext cx="1066680" cy="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9E9-98F2-49F2-BCC9-4496AEC12FE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instrucción de asign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nombrevariable&gt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&lt;expresió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iere decir: “Guarda en la variable el valor de la expresió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iable1: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cio:=2*2 (Alerta, cualquier expre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VA=0.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confundir con la igualdad 5=5, 2+2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B0C-6A3A-4894-8356-F16424B8739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s de asign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1:=5 (Guarda 5 en la variable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o:=2*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JENSE EN QUE SI ES UNA EXPRESIÓN SE GUARDA S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422440" y="2567160"/>
            <a:ext cx="4049640" cy="1242360"/>
            <a:chOff x="2422440" y="2567160"/>
            <a:chExt cx="4049640" cy="1242360"/>
          </a:xfrm>
        </p:grpSpPr>
        <p:grpSp>
          <p:nvGrpSpPr>
            <p:cNvPr id="407" name=""/>
            <p:cNvGrpSpPr/>
            <p:nvPr/>
          </p:nvGrpSpPr>
          <p:grpSpPr>
            <a:xfrm>
              <a:off x="2565360" y="3088800"/>
              <a:ext cx="908640" cy="696240"/>
              <a:chOff x="2565360" y="3088800"/>
              <a:chExt cx="908640" cy="696240"/>
            </a:xfrm>
          </p:grpSpPr>
          <p:sp>
            <p:nvSpPr>
              <p:cNvPr id="408" name=""/>
              <p:cNvSpPr/>
              <p:nvPr/>
            </p:nvSpPr>
            <p:spPr>
              <a:xfrm>
                <a:off x="2565360" y="3263040"/>
                <a:ext cx="649080" cy="5220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565360" y="3088800"/>
                <a:ext cx="389160" cy="173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214440" y="3088800"/>
                <a:ext cx="259200" cy="173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3214440" y="3552840"/>
                <a:ext cx="259200" cy="232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954520" y="3089160"/>
                <a:ext cx="5191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474000" y="3089160"/>
                <a:ext cx="0" cy="5220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673720" y="3352680"/>
              <a:ext cx="1742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22440" y="259812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variable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215680" y="3057480"/>
              <a:ext cx="908640" cy="696240"/>
              <a:chOff x="5215680" y="3057480"/>
              <a:chExt cx="908640" cy="696240"/>
            </a:xfrm>
          </p:grpSpPr>
          <p:sp>
            <p:nvSpPr>
              <p:cNvPr id="417" name=""/>
              <p:cNvSpPr/>
              <p:nvPr/>
            </p:nvSpPr>
            <p:spPr>
              <a:xfrm>
                <a:off x="5215680" y="3231720"/>
                <a:ext cx="649080" cy="5220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5215680" y="3057480"/>
                <a:ext cx="389160" cy="173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5864760" y="3057480"/>
                <a:ext cx="259200" cy="173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5864760" y="3521520"/>
                <a:ext cx="259200" cy="232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04840" y="3057840"/>
                <a:ext cx="5191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4320" y="3057840"/>
                <a:ext cx="0" cy="5220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5333400" y="332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70600" y="256716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variable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34280" y="3437640"/>
              <a:ext cx="908640" cy="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428920" y="4765680"/>
            <a:ext cx="909720" cy="696960"/>
            <a:chOff x="2428920" y="4765680"/>
            <a:chExt cx="909720" cy="696960"/>
          </a:xfrm>
        </p:grpSpPr>
        <p:sp>
          <p:nvSpPr>
            <p:cNvPr id="427" name=""/>
            <p:cNvSpPr/>
            <p:nvPr/>
          </p:nvSpPr>
          <p:spPr>
            <a:xfrm>
              <a:off x="2428920" y="4939920"/>
              <a:ext cx="649800" cy="522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2428920" y="4765680"/>
              <a:ext cx="389880" cy="174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078720" y="4765680"/>
              <a:ext cx="259560" cy="174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078720" y="5229720"/>
              <a:ext cx="259560" cy="23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8800" y="4765680"/>
              <a:ext cx="51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38640" y="4765680"/>
              <a:ext cx="0" cy="522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538360" y="5029200"/>
            <a:ext cx="17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360" y="4275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79960" y="4908600"/>
            <a:ext cx="649440" cy="522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079960" y="4733640"/>
            <a:ext cx="390600" cy="17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729400" y="4733640"/>
            <a:ext cx="260280" cy="17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729400" y="5199120"/>
            <a:ext cx="260280" cy="231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70560" y="4734000"/>
            <a:ext cx="519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89680" y="4734000"/>
            <a:ext cx="0" cy="522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97680" y="499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4160" y="4243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98920" y="5113440"/>
            <a:ext cx="9097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CD0-BA26-441E-AB9C-5233578776A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hace este progra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a_cosa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1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1: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E23-80DE-4F83-A108-F4397A32261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 co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 Crea una variable de nombre “variable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 Guarda en ella el valor “5” (“le asigna el valor 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828800" y="3920760"/>
            <a:ext cx="1066680" cy="914760"/>
            <a:chOff x="1828800" y="3920760"/>
            <a:chExt cx="1066680" cy="914760"/>
          </a:xfrm>
        </p:grpSpPr>
        <p:sp>
          <p:nvSpPr>
            <p:cNvPr id="449" name=""/>
            <p:cNvSpPr/>
            <p:nvPr/>
          </p:nvSpPr>
          <p:spPr>
            <a:xfrm>
              <a:off x="1828800" y="414972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1828800" y="392076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90920" y="392076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590920" y="453024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86000" y="39211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95480" y="392112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660680" y="32767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riable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816440" y="5673240"/>
            <a:ext cx="1066680" cy="914760"/>
            <a:chOff x="4816440" y="5673240"/>
            <a:chExt cx="1066680" cy="914760"/>
          </a:xfrm>
        </p:grpSpPr>
        <p:sp>
          <p:nvSpPr>
            <p:cNvPr id="457" name=""/>
            <p:cNvSpPr/>
            <p:nvPr/>
          </p:nvSpPr>
          <p:spPr>
            <a:xfrm>
              <a:off x="4816440" y="5902200"/>
              <a:ext cx="76212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816440" y="5673240"/>
              <a:ext cx="45720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5578560" y="5673240"/>
              <a:ext cx="304560" cy="228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5578560" y="6282720"/>
              <a:ext cx="30456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73640" y="567360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83120" y="5673600"/>
              <a:ext cx="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6172200" y="60199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riable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1516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3B7-C257-4AA7-AD4D-9DBA8B79660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escribe en pantalla el anterior progra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: Nada, porque no tiene “writ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ESO NO QUIERE DECIR QUE NO HAGA 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18B-2957-461D-B0F4-5D5FB4A8799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ntroducción a la algorítm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 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E86-96FC-452A-B8BF-ACEF77383C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cree una variable que se llame “IVA” y que guarde en ella el resultado de multiplicar 0.13 por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FE3-9200-40F6-9CB7-A8743FB6FFE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87A-D2D2-4ADF-91F5-2E5A0C05F53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es lo que haría este progra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uesta: Guardar 26 en la variable “I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escribiría por pantall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uesta: Nada, pues no hay un wr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SERÍA CONVENIENTE QUE EL VALOR DE LA VARIABLE SALIERA POR PANT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BB3-E10C-486A-ADF2-9AA0240BB00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haga lo mismo que el anterior (guardar en la variable IVA el resultado de multiplicar 0.13*2000) pero además que escriba el valor de la variable IVA por pant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011-3702-4437-811B-30F052B394A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1E0-0D21-4C5F-AA0D-FFFB8D74121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cribir el valor de una variable por pantal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&lt;nombre de la variable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, write (I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ENCIÓN: No confundir con write(‘IVA’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expresiones del write pueden 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re comilla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se escriben tal c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n comilla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se hace un cálculo con ellas y se escribe el result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310-3E37-4C1B-B88A-430AC750C4C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Qué produciría el siguiente programa por pantal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ues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4800600"/>
            <a:ext cx="2819520" cy="190512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952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7A0-0153-4E66-8E4B-F36E1F2966D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cribir el valor de una expresión con variable por pantal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unta: ¿Es válida la instrucción “write(3*IVA)”? ¿Qué signif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: Sí. Significa “Escribe el resultado de multiplicar el valor de la variable “IVA” por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EB6-5C11-4269-97FA-5E22264225B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-360" y="274284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3*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2743200"/>
            <a:ext cx="3429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B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3*IVA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91320" y="2743200"/>
            <a:ext cx="3429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C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2000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3*’;IV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2760" y="1971720"/>
            <a:ext cx="84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¿Qué escriben en la pantalla los siguientes programas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838-6684-48AB-A886-CC8DF1F155D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grama A escribe “78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grama B escribe “3*I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grama C escribe “3*2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AR: Todo lo que va en comillas se escribe literalmente y lo que no, se calcul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7B0-9F6F-4618-BA89-00F692431F8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6T18:20:52Z</dcterms:created>
  <dc:creator>BLANCA CECILIA</dc:creator>
  <dc:description/>
  <dc:language>en-US</dc:language>
  <cp:lastModifiedBy> </cp:lastModifiedBy>
  <cp:lastPrinted>1999-04-12T00:41:47Z</cp:lastPrinted>
  <dcterms:modified xsi:type="dcterms:W3CDTF">2008-02-10T09:37:31Z</dcterms:modified>
  <cp:revision>110</cp:revision>
  <dc:subject/>
  <dc:title>Programación de Computadoras I</dc:title>
</cp:coreProperties>
</file>