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C6E4-3934-4158-9C8E-06C6AF4555C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 -mitja setm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 -2 setmanes i mit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47 per setm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1CF-87FD-4AD5-9F56-889A5D10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E1E-58AA-4993-8B37-8994BD66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DB6A-EC5D-4643-B71A-B6A3636F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154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4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0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154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4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216-7EC8-4285-AB99-C8C9CAB4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891-1CC2-4D88-8B3E-1CD83B9A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3FC-7190-40DF-B042-7776C79D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D7F-7E43-4644-AED9-7C21C764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697-6E82-4DA4-9ABE-AA49C9DF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324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975-AE78-4D25-8BEA-F3E9FE29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970-B08D-4BC4-B7DE-510A9E1A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A5D-418C-4804-B1FF-587C235C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3A3-C969-4806-B80A-4B10C481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D6EE-6A76-4CAC-ACD2-7B7F21107BD2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95600" y="977760"/>
            <a:ext cx="29880" cy="24120"/>
          </a:xfrm>
          <a:custGeom>
            <a:avLst/>
            <a:gdLst/>
            <a:ahLst/>
            <a:rect l="l" t="t" r="r" b="b"/>
            <a:pathLst>
              <a:path w="74" h="61">
                <a:moveTo>
                  <a:pt x="74" y="33"/>
                </a:moveTo>
                <a:lnTo>
                  <a:pt x="74" y="33"/>
                </a:lnTo>
                <a:lnTo>
                  <a:pt x="60" y="0"/>
                </a:lnTo>
                <a:lnTo>
                  <a:pt x="0" y="61"/>
                </a:lnTo>
                <a:lnTo>
                  <a:pt x="30" y="30"/>
                </a:lnTo>
                <a:lnTo>
                  <a:pt x="74" y="3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95600" y="977760"/>
            <a:ext cx="23760" cy="24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1"/>
                </a:moveTo>
                <a:lnTo>
                  <a:pt x="61" y="0"/>
                </a:lnTo>
                <a:lnTo>
                  <a:pt x="0" y="61"/>
                </a:lnTo>
                <a:lnTo>
                  <a:pt x="2" y="62"/>
                </a:lnTo>
                <a:lnTo>
                  <a:pt x="62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95600" y="977760"/>
            <a:ext cx="23760" cy="24120"/>
          </a:xfrm>
          <a:custGeom>
            <a:avLst/>
            <a:gdLst/>
            <a:ahLst/>
            <a:rect l="l" t="t" r="r" b="b"/>
            <a:pathLst>
              <a:path w="62" h="61">
                <a:moveTo>
                  <a:pt x="0" y="60"/>
                </a:moveTo>
                <a:lnTo>
                  <a:pt x="2" y="61"/>
                </a:lnTo>
                <a:lnTo>
                  <a:pt x="32" y="30"/>
                </a:lnTo>
                <a:lnTo>
                  <a:pt x="62" y="0"/>
                </a:lnTo>
                <a:lnTo>
                  <a:pt x="2" y="61"/>
                </a:lnTo>
                <a:lnTo>
                  <a:pt x="0" y="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695600" y="988920"/>
            <a:ext cx="29880" cy="12960"/>
          </a:xfrm>
          <a:custGeom>
            <a:avLst/>
            <a:gdLst/>
            <a:ahLst/>
            <a:rect l="l" t="t" r="r" b="b"/>
            <a:pathLst>
              <a:path w="74" h="33">
                <a:moveTo>
                  <a:pt x="0" y="33"/>
                </a:moveTo>
                <a:lnTo>
                  <a:pt x="0" y="33"/>
                </a:lnTo>
                <a:lnTo>
                  <a:pt x="74" y="0"/>
                </a:lnTo>
                <a:lnTo>
                  <a:pt x="30" y="2"/>
                </a:lnTo>
                <a:lnTo>
                  <a:pt x="0" y="3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841200" y="1843200"/>
            <a:ext cx="60480" cy="48960"/>
          </a:xfrm>
          <a:custGeom>
            <a:avLst/>
            <a:gdLst/>
            <a:ahLst/>
            <a:rect l="l" t="t" r="r" b="b"/>
            <a:pathLst>
              <a:path w="76" h="63">
                <a:moveTo>
                  <a:pt x="76" y="34"/>
                </a:moveTo>
                <a:lnTo>
                  <a:pt x="76" y="34"/>
                </a:lnTo>
                <a:lnTo>
                  <a:pt x="62" y="0"/>
                </a:lnTo>
                <a:lnTo>
                  <a:pt x="0" y="63"/>
                </a:lnTo>
                <a:lnTo>
                  <a:pt x="31" y="31"/>
                </a:lnTo>
                <a:lnTo>
                  <a:pt x="76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2839760" y="1841400"/>
            <a:ext cx="50760" cy="50760"/>
          </a:xfrm>
          <a:custGeom>
            <a:avLst/>
            <a:gdLst/>
            <a:ahLst/>
            <a:rect l="l" t="t" r="r" b="b"/>
            <a:pathLst>
              <a:path w="63" h="64">
                <a:moveTo>
                  <a:pt x="63" y="1"/>
                </a:moveTo>
                <a:lnTo>
                  <a:pt x="62" y="0"/>
                </a:lnTo>
                <a:lnTo>
                  <a:pt x="0" y="62"/>
                </a:lnTo>
                <a:lnTo>
                  <a:pt x="1" y="64"/>
                </a:lnTo>
                <a:lnTo>
                  <a:pt x="63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839760" y="1843200"/>
            <a:ext cx="50760" cy="4896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61"/>
                </a:moveTo>
                <a:lnTo>
                  <a:pt x="1" y="63"/>
                </a:lnTo>
                <a:lnTo>
                  <a:pt x="32" y="31"/>
                </a:lnTo>
                <a:lnTo>
                  <a:pt x="63" y="0"/>
                </a:lnTo>
                <a:lnTo>
                  <a:pt x="1" y="63"/>
                </a:lnTo>
                <a:lnTo>
                  <a:pt x="0" y="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2841200" y="1865160"/>
            <a:ext cx="60480" cy="27000"/>
          </a:xfrm>
          <a:custGeom>
            <a:avLst/>
            <a:gdLst/>
            <a:ahLst/>
            <a:rect l="l" t="t" r="r" b="b"/>
            <a:pathLst>
              <a:path w="76" h="34">
                <a:moveTo>
                  <a:pt x="0" y="34"/>
                </a:moveTo>
                <a:lnTo>
                  <a:pt x="0" y="34"/>
                </a:lnTo>
                <a:lnTo>
                  <a:pt x="76" y="0"/>
                </a:lnTo>
                <a:lnTo>
                  <a:pt x="31" y="2"/>
                </a:lnTo>
                <a:lnTo>
                  <a:pt x="0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gramación de Computadoras I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ma 3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nt-Ramon Palasí Lal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965-E580-4B64-8677-F9BDEA3D4C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otación tradicional o notación exponenci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expresión entera&gt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 escribe siempre la notación exponen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write(0.5) escribe 5E-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la notación tradiciona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expresión entera&gt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0: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decimales&gt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x:=78.2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x:0:1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7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x:0:2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78.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x:0:0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89680" y="4994280"/>
            <a:ext cx="36734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ENCIÓN CON EL REDONDE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75C-B030-429B-AEB3-0BFB953763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r qué produce por pantalla, el siguiente progra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real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 r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=30.28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l numero es ‘,  numer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5*numero:0: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3.285:0: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3.285:0: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3.285:0: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A44-1C45-4023-976F-50FDB9E955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2133720"/>
            <a:ext cx="3429000" cy="190476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705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7080" y="457200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30.285 por 5 es 151.425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12600" y="2098800"/>
            <a:ext cx="319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número es 3.0285E0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2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28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2C9-6A89-4D50-A12E-D08DCFC228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peraciones del tipo de datos re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ones con reales que dan resultado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ma: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ta: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to: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: 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confundir con div y m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4200" y="2784600"/>
            <a:ext cx="5438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ERTA: LA DIVISIÓN POR CERO E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CORREC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2D8-99D2-47D4-94C9-C6A8681B12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ongamos una expresión con tipos enteros y reales a la ve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1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2: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1: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2:=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num1*4+num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De qué tipo es la expres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0CA-3268-434D-8D1D-47D899BD51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. Siempre que en una expresión haya  enteros y reales, la expresión es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lógico. Por ejemplo, la expresión anterior da 9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fuera entera, tendríamos que redondear a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es real, es 9.5. Esto parece más conven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2B9-C313-44EB-9511-BB232619BC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rden de prefer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calcula la expresión “2+3*4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+3=5, 5*4 =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*4=12, 2+12=14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iferencia está en el orden en que se calculan las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l primer caso, la suma se calcula primero, el producto despu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l segundo caso, el producto primero, la suma despu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orden sigue Pascal al calcular las oper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839-1FE1-4582-A0D8-19D8972C3C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rden de preferencia de Pascal para operaciones numéric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mero, operaciones entre parént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pués, menos unit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pués, *,/, div, m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pués, +,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son dos operaciones de la misma preferencia, se calcula primero la que esté más a la izquier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EF7-41D9-4A00-99D4-5A80BB8267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plicando las reglas de  prefer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í, 2+3*4 sería 3*4=12 y 2+12=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queremos que se calcule 1º la suma, usamos los paréntesis: (2+3)*4 =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3EA-60B4-42DA-96DA-6EAA497273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resultado dan las siguientes expresiones? ¿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+2*3+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+4 div 2+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+2)*3+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+2)*(3+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+(2*3)+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+((2+3)*(4+5))+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4E1E-E66B-4AFD-B903-7F956EE085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ma 3: Tipos de dat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938-2E3B-4174-BC64-D220392EC1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paréntesis sirven para cuando queramos que las operaciones se ejecuten en un orden de preferencia distinto del habit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í, 2+3*4 sería 3*4=12 y 2+12=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queremos que se calcule 1º la suma, usamos los paréntesis: (2+3)*4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paréntesis más interiores tienen preferencia sobre las exteri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D41-7791-4EF5-93C8-4743AE43FC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ipo de datos carácte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ipo de datos carácter comprende los caracteres (letras, dígitos o símbolos del teclado): ‘a’,...,’z’, ‘A’,...,’Z’,’0’,..., ‘9’,’?’,’!’,’*’,’=‘, ‘&amp;’,’%’,’$’,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valores de tipo carácter van encerrados entre comill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declarar variables tipo caráct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nombrevariable&gt;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6A4-6DF2-4C76-9E2F-E734FC7A28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 ejemplo de programa con el tipo carácte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trivi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acter: ch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un carácter 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caráct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carácter repetido 3 veces es ‘, caracter, caracter, carac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40E6-B3D6-4E85-AFCE-D44B49CA9D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ultado de este progra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133720"/>
            <a:ext cx="5105520" cy="243828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59840" y="2098800"/>
            <a:ext cx="48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cribe un carácter 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carácter repetido tres veces es BB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E67-6650-4B0D-98C7-470AA48684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ipo de datos boolean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rende los dos valores de la lógica tradicional (verdadero, falso): TRUE,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declarar una variable booleana: &lt;nombrevariable&gt;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rve para hacer comparaciones entre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51A-0A98-4A10-BFE4-EF6F4A9F2E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Operaciones que dan resultado boolean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ones con enteros, reales o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racter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que dan resultado booleano: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=, &lt;, &gt;,&lt;=,&gt;=, &lt;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ones con booleanos que dan resultado booleano: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“y” lóg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“o lógico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“no” lóg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7C2-B6E4-4F68-B80F-11EDFE21C4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peraciones lógic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t TRUE es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t FALSE e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UE and TRUE e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UE and FALSE es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LSE and TRUE es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LSE and FALSE es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UE or TRUE e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UE or FALSE e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LSE or TRUE e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LSE or FALSE es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F7C0-5E76-4F6E-A247-986C48FB90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un programa que te pida un booleano y que escriba su contrario por pantalla. El contrario de TRUE es FALSE y vice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592-1906-4A4E-A455-D9B3FC7547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ontrari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Booleano: boole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un booleano 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ValorBoolean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contario es ‘, not ValorBoole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786-0493-438E-9411-776D753E16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hubiera pasado si cuando nos pide el valor por el “readln” hubieramos introducido “verdadero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A8F5-4965-45F3-96C3-DB75C6077E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paso de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: “cajitas que guardan dato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variables de diferentes tipos como hay cajitas de diferentes t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cada tipo de variables “cabe” sólo un tipo de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828800" y="5562360"/>
            <a:ext cx="1066680" cy="914760"/>
            <a:chOff x="1828800" y="5562360"/>
            <a:chExt cx="1066680" cy="914760"/>
          </a:xfrm>
        </p:grpSpPr>
        <p:sp>
          <p:nvSpPr>
            <p:cNvPr id="62" name=""/>
            <p:cNvSpPr/>
            <p:nvPr/>
          </p:nvSpPr>
          <p:spPr>
            <a:xfrm>
              <a:off x="182880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82880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59092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59092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600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9548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114800" y="5562720"/>
            <a:ext cx="1143000" cy="914400"/>
            <a:chOff x="4114800" y="5562720"/>
            <a:chExt cx="1143000" cy="914400"/>
          </a:xfrm>
        </p:grpSpPr>
        <p:sp>
          <p:nvSpPr>
            <p:cNvPr id="69" name=""/>
            <p:cNvSpPr/>
            <p:nvPr/>
          </p:nvSpPr>
          <p:spPr>
            <a:xfrm flipH="1">
              <a:off x="4114800" y="5715360"/>
              <a:ext cx="380880" cy="761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14800" y="6477120"/>
              <a:ext cx="7621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95680" y="5715360"/>
              <a:ext cx="381240" cy="761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495680" y="5562720"/>
              <a:ext cx="381240" cy="152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876920" y="6324480"/>
              <a:ext cx="380880" cy="152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00600" y="5562720"/>
              <a:ext cx="380880" cy="838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A1B-5EEC-419D-9614-032DCF8F1C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grama se hubiera detenido y hubiera mostrado un mensaje de error, ya que “verdadero” no es un valor boole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n general, en readln(&lt;nombrevariable&gt;) si no introducimos un valor del mismo tipo de la variable, da err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694-EB23-4341-9D95-D719955591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 que dados dos números escriba TRUE si el primero es menor o igual que el segundo o FALSE en caso contr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C08-4FC8-4297-A9BF-CEA05F74BC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MenorOIgu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1,numero2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ntra el primer número ‘); readln(numero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ntra el segundo número ‘); readln(numero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numero1&lt;=numero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EC7-E3FA-4A17-913E-315420C4E5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 que dadas dos letras nos diga  TRUE si la primera está delante de la segunda en el alfabeto o FALSE en caso contr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EEF-FC88-4983-8FD6-1A2806099C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OrdenAlfabet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tra1,letra2: ch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ntra la primera letra ‘); readln(letra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ntra la segunda letra ‘); readln(letra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letra1&lt; letra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6F9-FE46-4E09-BE13-70F1BDCA01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Orden de preferencia para operaciones con resultado boolean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mero, operaciones entre parént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pués,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pués, 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pués, or, x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pués, &lt;, &gt;, &lt;=, &gt;=, &lt;&gt;, =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son dos operaciones de la misma preferencia, se calcula primero la que esté más a la izquier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0E4-788D-4D08-ABB6-A13E46DE45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resultado dan las siguientes expresiones? ¿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UE and FALSE or TRUE and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UE or FALSE and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TRUE or FALSE) and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A1D-BF4E-4E06-BCB4-DE316537C4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dvert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iones incorrect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’ AND FALSE (and necesita dos operadores boolean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*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iones correct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‘a’=‘$’) AND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&lt;4) AND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EB7-1FC6-4797-B600-AB6D5E77925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cesidad de las constantes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ces, dentro de un programa hay “valores” FIJOS que significan al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A:=0.13*precio_sin_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nferencia:=2*3.1415*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los caso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13 no es cualquier 0.13, sino el porcentaje del 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415 no es cualquier 3.1415 sino el valor 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C30-3AD7-4E67-B429-24F59B7C07C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cesidad de las constantes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vital que el papel que juegan estos valores quede clar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hace más legible el pro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yuda a modificar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ría lograrse por medio de com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nferencia:=2*3.1415*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quí 3.1415 es el valor de pi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sería muy laborioso hacerlo cada vez que aparec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 un cálcu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A2E-84A4-4A9D-BCA1-02F2178BCB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ipos de dat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datos en la computadora pueden ser de diferente tipo: enteros, reales, carácter, 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variable entera sólo puede guardar un entero. Una variable de carácter sólo puede guardar un carác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tipo de datos que acepta una variable, se le llama “tipo” de la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915-FDFD-4654-A639-CA612FC9A3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cesidad de las constantes (I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a forma mejor es definir const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=3.141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centajeIVA=0.1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después, escribir las expresione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rcunferencia:=2*pi*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VA:=porcentajeIVA*precio_sin_IV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66C-0146-4B74-AB69-D6ED10FC5F1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Ventajas de este métod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xpresiones resultan más leg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e pueden producir errores de tipografía (por ejemplo, 0.15 en vez de 0.1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uno de los valores fijos varía, simplemente hay que hacer un único cambio en el pr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ida en el precio del impuesto: IVA=0.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itamos más precisión en los cálculos: pi=3.1415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209-DCB6-4D71-9009-C805D756F12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stant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es fijos (no cambian durante la ejecución del programa) a los que damos un nombre para poder manejarlos mej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cen el programa más legible y más fácil de modifi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35D-0B9E-4B85-8EEE-0B2803C1E4D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tructura de un programa con constant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nombre programa&gt;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constant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variabl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AAFC-2804-4552-831E-87FA415C4FD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ción de constant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nombre de constante1&gt;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valor1&gt;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nombre de constante2&gt;=&lt;valor2&gt;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, por 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trosPorYarda=0.914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centajeIVA=0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=3.1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jémonos que este valor es fijo durante la ejecución del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726-2FB7-44CC-8200-0A7C77D09CC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Constantes vrs.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nombre lo dice: las constantes no varían durante la ejecución del programa y las variables s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lo tanto, “pi” si es una constante, no se puede hacer “pi:= lo-que-sea”. Las variables se asignan, las constantes no. Sólo se declara su val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onstantes no hace falta declarar sus tipos (el compilador de Pascal lo deduce automáticam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onstantes no ocupan espacio en memoria, las variables s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A7F-A39A-4ACD-89EE-0D703B54E01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: Usar las variables como constant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Y si hubiéramos declarado “pi:real” y después al principio del programa pi:=3.1415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ajas de usar consta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cupamos memo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enemos peligro de equivocarnos alterando el valor de una con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da claro que ese valor es fijo (programa más legi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C15-877C-47AB-909B-6782FFE437B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cer un programa que pida una longitud en yardas y la transforme en una longitud en metros, USANDO CONSTANTES (cada yarda tiene 0.9144 me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519-2226-4F20-B52C-DB67D53985B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gram conversió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trosPorYarda= 0.914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ardas, metros: r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Transforma yardas a metros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ste programa transforma una longitud de yardas a metros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Escribe una longitud en Yardas ’); readln(yarda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tros:=MetrosPorYarda*yard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Esta longitud en metros es ‘, metros:0: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D7F-3876-4D6F-B43B-0472B7EBDA0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grama que pida el radio de una circunferencia y calcule el área del círculo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radio al cuadr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7D9-F733-461A-9739-C48C4892298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: el tipo de datos enter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tipo de datos entero comprende los números enteros (números sin decimales). Ejemplo: 2, 5, 1567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variables de tipo entero se declaran “&lt;nombrevariable&gt;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Turbo Pascal, los enteros van de -32,768 a 32,7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901-9386-444D-9FF2-28F77EBFE1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gram circul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i= 3.141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adio, area: r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Calcula el área de un círculo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ste programa calcula el área de un círculo a partir del radio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Escribe el valor del radio ’); readln(radi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rea:=pi*radio*rad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El área del círculo es ‘, area:0: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310-6DFB-49D9-A20B-6206BD8266A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mbién hubiéramos podido poner pi*sqr(ra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función “sqr” saca el cuadrado de un número “squa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afortunadamente, no hay un sistema para lograr la exponenciación general “x elevado a 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DBF-D678-4F73-9606-11923DC89DB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peraciones del tipo de datos enter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ones con enteros que dan resultado ent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ma: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ta: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to: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div b -&gt; Es el cociente de dividir a por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mod b-&gt; Es el resto de dividir a por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 “15 div 2” es 7 y “15 mod 2” es 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66760" y="2708280"/>
            <a:ext cx="50709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LERTA: DIV 0 ES INCORRE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D 0 ES INCORRE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8EC3-88ED-4ADC-AF71-F9FC3122F4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Por qué no incluimos la división entre las operaciones de los enter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uesta: porque puede dar resultados no ente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/2=2.5 y no es un resultado ent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B92-5A14-4B1B-92B3-66731893F9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tipo de datos re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tipo de datos real comprende los números reales (números con decimales). Ejemplo: 2.3, 5.0, 4.265E+02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variables de tipo real se declaran “&lt;nombrevariable&gt;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Turbo Pascal, los reales van de 2.9E-39 a -1.7E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CDA-3DCC-42F7-B36D-DC22672ABF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os formas de escribir los rea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ción tradicional: 2.3, 4.5, &lt;parte entera&gt;.&lt;parte decimal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distinguir el real 2 del entero 2, se escribe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ción exponencia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E4, quiere decir “2.5*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que quiere decir 2*1000, es decir 2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E-4 quiere decir “2.5*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que quiere decir 2.5 * 0.0001, es decir, 0.000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7FF-6A62-4491-9210-79A79BD61E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7:19:17Z</dcterms:created>
  <dc:creator>BLANCA CECILIA</dc:creator>
  <dc:description/>
  <dc:language>en-US</dc:language>
  <cp:lastModifiedBy> </cp:lastModifiedBy>
  <cp:lastPrinted>1999-05-07T23:11:25Z</cp:lastPrinted>
  <dcterms:modified xsi:type="dcterms:W3CDTF">2008-02-10T09:37:01Z</dcterms:modified>
  <cp:revision>86</cp:revision>
  <dc:subject/>
  <dc:title>Sin título de diapositiva</dc:title>
</cp:coreProperties>
</file>