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A86-20C7-4CCD-8B89-DE180DFE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6E8-7230-4910-AE14-756DD22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586-99A7-4C8E-A4BC-3ADC0DF3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7FD-7415-4150-BCD9-324FD6F5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A3B-8614-42BC-BBCA-BF4C77F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FA8-9993-4FF2-B9C9-E3191D4B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19-18F6-4E13-8635-1465837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706-92D4-4E3E-9C80-CBBDF4A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264-6ED1-4068-8335-38356F4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98A-FC02-40DA-B10C-8A67AD6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81B-8AB6-4AB7-B1D8-0DFBC89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67B-BD38-4565-9366-6C299E1E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CED6-94BB-4B00-8ECD-D4B6403BC6C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4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5CA-B6D8-4FBF-8E8B-756D464284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nde “condición” es una expresión que da resultado booleano e “instrucciones1” e “instrucciones2” son dos listas de instru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9600" y="2133720"/>
            <a:ext cx="44539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ANTE DEL ELSE NUNC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 PUNTO Y CO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2A8-64CB-4F78-97B6-97D451F744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año es 0 porque no hemos empezado a acumular intereses. El capital acumulado es 1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acabará cuando el capital acumulado sea mayor de 1000. Por lo tanto, se repite mientras sea menor o igual que 1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os años y el capital acumu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D93-81EA-4190-A94E-2B7B6B93E13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=0; CapitalAcumulado:=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CapitalAcumulado&lt;=2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 ‘, Anyos, ‘ años se han acumulado’, CapitalAcumulado, ‘ colones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137160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49B-8AAA-40B1-B6D9-3BE194833D6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r el anterior programa, 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vez de ser siempre 1000 colones el capital inicial, que se nos pida el capital inicial por pan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bucle acabe cuando se haya conseguido el doble del capital inicial, sea este el qu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DE9-4CCD-48E7-BB58-15FC1B25421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Ban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, CapitalInicial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capital inicial ‘); readln(CapitalInici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=0; CapitalAcumulado:=CapitalIn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CapitalAcumulado&lt;=2* CapitalInicial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 ‘, Anyos, ‘ años se han acumulado’, CapitalAcumulado, ‘ colone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38088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39D-2D24-40F3-83E3-DE62F5F87E9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números enteros por teclado hasta que se le introduzca un 0. Después el programa debe escribir la suma de los números que se le entr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A10-9DB9-4F62-B3F1-30A4366133C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ntran números con read, uno detrás de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ara cuando se le entra un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, se escribe la suma de los núm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un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l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esto hasta que introduzcamos un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onces se escribe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B86-319F-4543-B8FE-70BB79E3C88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umero que se 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el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suma a la suma acu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a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cribe la suma acu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Acumulada, Numero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3BD-B5F8-423B-A3EB-3269CEE1D34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e un numero a la suma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da otro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sta que sea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escribir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sumándolo a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Pidiendo un número por tec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5AD-1AB2-431D-A10D-9004C94DD3B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um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Acumulad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98D-9815-4C3D-B86E-48CEC69C441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SumaAcumulada es 0. Tenemos que pedir un número para poder sumarlo en la primera iteración, así que haremos readln(num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acabará cuando el numero sea cero. Es decir se repetirá mientras sea diferente de cero (Numero&lt;&gt;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46F-6007-4148-B245-8DC661B140E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dea intuitiva del If-then-el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la condición se cumple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es decir, evalúa a TRU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tonces se ejecutan “instrucciones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(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valúa a FALS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ntonces se ejecutan “instrucciones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840" y="1752480"/>
            <a:ext cx="435816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be leers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&lt;condición&gt; entonces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no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9BB-4D6D-49C0-AAEE-9A2A4482D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um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Acumulad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Acumulada:=0; 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&gt;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es ‘, SumaAcumul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DB2-1C51-46C9-912D-2804EF6ADD0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alor cero lo utilizamos cuando queremos acabar la introducción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si queremos sumar un conjunto de números, tenemos que entrar esos números y después un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ero le dice a la computadora “Ya no quiero sumar má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9A8-1EAC-4678-A4C0-69A0F0D7E7F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uy típico introducir un valor especial por teclado (en este caso, cero)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r que no queremos entrar má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para salir de un bu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te valor se le llama CENTINELA y hay que escogerlo con cuidado (explicar que hubiera pasado si hubiera sido 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E6E-2618-4CE3-96EE-DF8856DD9FC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cles como control de datos de entrad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bucles se utilizan para controlar que los datos que nos entra el usuario sean corr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Escribe la nota de un alumno ‘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(nota&lt;0) or (nota&gt;10)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una nota entre 0 y 10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LO SIEMPRE EN PROGRAMAS DE LA VIDA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FF-B637-40E7-9BB3-86C1870C227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s instrucciones para bucle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3581280"/>
            <a:ext cx="4267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 i:=&lt;valor inicial&gt; to &lt;valor final&gt; do  &lt;instruccio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505320"/>
            <a:ext cx="4191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:=&lt;valor inicial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i&lt;=&lt;valor final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ón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280" y="17524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. Se puede utilizar cuando sabemos el número exacto de veces que se ejecuta el bucle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00400" y="3124080"/>
            <a:ext cx="53352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3124080"/>
            <a:ext cx="21333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3124080"/>
            <a:ext cx="7621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304812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quival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A11-8D50-4578-BEE3-F5241DB0337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s instrucciones para bucle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3581280"/>
            <a:ext cx="4267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til &lt;condición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505320"/>
            <a:ext cx="4191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not &lt;condicion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7524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eat. Se puede utilizar cuando sabemos que el bucle se ejecuta una vez como mínim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200400" y="3124080"/>
            <a:ext cx="53352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3124080"/>
            <a:ext cx="21333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124080"/>
            <a:ext cx="7621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304812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quival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0C1-E170-45BD-8F01-292CF831E9B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estudiaremos estas instruc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a veces son útiles, no son necesarias: con while se pueden resolver todos los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arlas sería enredar las ideas, ya que lo que nos interesa es aprender el concepto de bucle (común a todos los lenguajes imperativ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alguien comprende el bucle bien (con while) puede aprender fácilmente las otras a partir de un lib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02F-4951-495D-B12A-AA0C04E0CEC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ntro de un bucle puede haber cualquier cosa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ntro del while pueden ha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ign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while (se llama bucles anida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, cualquier 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8D2-1DD5-42C8-A0DB-7B24374C50F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la suma de los números pares que hay entre el 1 y el 100 y escriba la suma de los números impares que hay entre el 1 y el 1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DC4-BB35-4728-8C02-E9AB36AED06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sumar todos los números pares entre 1 y 100 y escribir las su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mismo con los i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el número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s par, se suma a la suma de los pares y si es impar se suma a la suma de los imp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el número y se repite la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llegamos al 100 y se escriben las s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748-01A8-4929-86F1-073D68A54BE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que edad &gt;=18 (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 decir, evalúa a TRU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ntonces se escribe “Mayor de e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entonces se escribe “Menor de e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800" y="1752480"/>
            <a:ext cx="465696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be leers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edad&gt;=18 entonces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cribe “Mayor de edad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no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cribe “Menor de edad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EA9-E75D-4080-BBFE-818904F5C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umero que estamos tra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los pares, la suma de l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numero es par, se suma a la suma de los 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s impar, a la suma de los im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r esto para cada número entre el 1 y el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escribir las s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 SumaPares, SumaImpares, Numero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55D-2A0F-4216-9E9F-79F9D353CCC0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número es par, lo sume a la suma de los 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s impar, lo sume a la suma de l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e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imprimir las su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decidiendo si es par o impar (if-the-else) y sumándolo a la suma correspond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el nú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BCE-FD31-46A6-9BF3-54C884B254D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ParesEImpa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Pares, SumaImpares: integ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es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588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Numero mod 2 =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Pares:=SumaPares+Nu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Impares:=SumaImpares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588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243828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26C-3CF5-450F-A4A3-CAEAB9C08063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umero es 1, las dos sumas son 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Cuando el numero sea 100. (Numero&lt;=1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s dos su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45C-18FE-48B4-A047-1761FA0CC66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ParesEImpa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Pares, SumaImpares: integ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Pares:=0; SumaImpare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umero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Numero mod 2 =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Pares:=SumaPares+Nu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Impares:=SumaImpares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los pares es ‘, SumaPares, ‘ y de los impares es ‘, SumaImpa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895480"/>
            <a:ext cx="24386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E09-E0D0-4BA7-9D99-32D5497144C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dentro del “while” hay un “if-then-els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como dijimos, dentro de un while puede haber cualquier cosa (incluso un “whil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CF6-EFF7-4BEA-89EE-EB0D95CEA40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han seguido las clases hasta ahora, no saben utilizar el while. Sólo tienen una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lo, hace falta práctica lo que requiere tiempo no dispon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llo, es imprescindible que hagan ejercicios por su cuenta en su casa (pág 94-106 del libro “Pascal y Turbo Pascal. Un enfoque prácti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2D3-8223-4BE1-8E88-5270E08A855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A SESION DE LABORATO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los programas con estructuras alternativas y re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517-2AFF-43DF-BB32-5B44130876C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“If-then-els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ad:=19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752480"/>
            <a:ext cx="52578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valúa la expresión edad &gt;=18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reduce a 19&gt;=18, TRU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se ejecuta write (‘Mayor de edad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ven, esto coincide con la idea intuitiv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EA4-742B-45E4-9CA0-EEE54A174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“If-then-els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ad:=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752480"/>
            <a:ext cx="52578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valúa la expresión edad &gt;=18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reduce a 3&gt;=18, FAL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se ejecuta write (‘Menor de edad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ven, esto coincide con la idea intuitiv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1F2-DA06-4CF0-8A1C-69AF42DC75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ota&gt;=5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APROBAD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REPROBAD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2A0-5E5E-4136-B677-2DC3F1B06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la altura en centímetros de un aspirante y escriba si puede entrar en la PNC o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7FB-DA80-49F5-8BFA-48CC46DBD8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altura&gt;=16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36-9FC4-4CE8-9EDA-730FDBC5D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 y menor de 2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programa para que recoja esta últim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52E-A72F-46AF-877B-6AC41417C2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altura&gt;=160 and altura&lt;=21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F64-8007-4BDC-B3DD-6320094325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s que hemos visto hasta aho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siado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una secuencia de instru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se ejecutan una después de otra sin ning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mpre hacen lo mismo, independientemente de los datos que les entráb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FAA-E211-427B-B76C-EC055745E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 y menor de 210cm. Esto se cumple siempre, excepto si el aspirante tiene “cuello” en cuyo caso entra directamente independientemente de su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r el programa para que recoja esta última condición. Para ello, el programa debe pedir con un readln si el aspirante tiene cue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2A4-D141-4B3F-B672-E0F14DD286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 cuello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 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Tiene cuello?’); readln(cuell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(altura&gt;=160 and altura&lt;=210) or cuello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490-1264-4B4E-B8BE-0E97322AF0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compras una cierta cantidad en el super. El super te hace un descuento del 10% si compras más de 50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dado el monto de la compra te escriba lo que realmente vas a pa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E1E-35CC-4C4A-806E-6BB11BB98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descu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AntesDescuento, PrecioDespuesDescuento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ecio antes del descuento’); readln(PrecioAntesDescuen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PrecioAntesDescuento&gt;=500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DespuesDescuento:=PrecioAntesDescuento- 0.1* PrecioAntesDescu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DespuesDescuento:=PrecioAntesDescu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ecio después del descuento’, PrecioDespuesDescuento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082-FF17-4415-AE7E-AA3C1123B2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 que pida un entero y escriba por pantalla si el número es par o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NOTA: Un numero es par si el residuo de la division por 2 es 0 y es impar en caso contrario. La funcion para calcular residuos en Pascal es “mod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F89-E0BD-4781-92ED-81116A457A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mod 2=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numero es pa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numero es impa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EB3-D572-4F9D-8DEA-320FE47494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f-the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veces en que nos interes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una condición se haga al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no se haga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l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 condición evalúa a TRUE se ejecutan las instru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ua a FALSE no se ejecuta 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A80-353A-41C8-AD3F-86F018F68C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calcula el valor absoluto de un nú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alor absoluto es el número sin el sig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el valor absoluto de 5 es 5 y el valor absoluto de -5 es -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CF3-9BCA-4A43-A345-B9287E47E1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ValorAbsolu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&lt;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-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valor absoluto es ‘, 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534-A4CC-4056-B4BE-72A0B33B68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pida un entero y le sume 1 si es impar y no le haga nada si es par. Que imprima el resultado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248-8D8B-4429-9997-5ABBBB80EC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eces, nos interes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el programa responda diferentemente dependiendo de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llo, debemos poder hacer que se ejecuten diferentes instrucciones dependiendo de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AF1-F4E6-4822-9807-77FB5E791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onvertirEn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mod 2 = 1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resultado es ‘, 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CD5-A522-4D26-A742-BF207D2C6B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pasa cuando hay más de una instrucción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hay más varias instrucciones después del “then” o del “else” se encierran entre “begin” y “en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0DE-AA6A-47A3-A1ED-69690B8012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precio&gt;500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uento:=precio*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rechoAPromoción: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uento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3C2-A097-4476-8226-5CFD51E384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s camisas se venden en 100 colones cada una si se compran más de tres y en 120 en caso contrario. Escribir un programa que pida la cantidad de camisas a comprar e imprima el costo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6EA-8B73-46BF-80CE-B875F7CEA9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amis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isas, cos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cantidad de camisas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camis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camisas &gt;3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camisas*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camisas*1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costo total es ‘, co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DA3-DDEA-4644-BA4B-B3EB6AEE88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sto de matriculación de la Universidad Mathies Delgado es de 100 colones por materia pero con un máximo de 6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un programa que pida el número de materias a cursar y de el costo de matr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2B4-3E53-4D83-84C0-ABF548DA37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atricul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s, cos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de materias 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materi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:=materias*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costo &gt; 600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 6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costo total es ‘, co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C92-9E0A-442B-AECB-483D4BB835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-then-else distinguen entre dos alternati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la con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la con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ueden distinguir más de dos alternativas combinando varios if-then-else. A esto se le llama selección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36B-1C09-4261-A180-E5E13EAE42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ntaxis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on1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2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3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els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819520"/>
            <a:ext cx="441936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AMA “ELSE” ES OPCIONAL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ESTAR o 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54040" y="5105520"/>
            <a:ext cx="237528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CI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96F-C6B4-4CBE-B334-D04074DC33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mántica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on1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2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3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els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1676520"/>
            <a:ext cx="44193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mira si se cumple la condición1 (si evalua a TRUE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lo hace, se ejecutan las instrucciones1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mira, la condicion2 y así sucesivamen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de no cumplirse ninguna condición se ejecuta “instruccioneselse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9C-A09F-4A7A-80FB-6D53D7FD24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la nota de un alumno por pantalla y escriba si está aprobado o re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3C9-014E-4F20-A1B2-7CE658394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x&gt;y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mayor que y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x&lt;y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menor que y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igual a y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A04-BF4B-4875-B380-2D381F1A48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gan un programa que pida un entero y escriba “uno” si el entero es 1, “dos” si el entero es 2, “tres” si el entero es 3 y “ni uno ni dos ni tres” si el entero es superior a 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D59-6FBE-4570-ABD3-12D2C16092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NumerosALet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 ’); 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=1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un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numero=2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dos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numero=3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tres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´ni uno ni dos ni tres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CE9-7278-41AB-AEEE-A5DE83248D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hubiéramos quitado la rama “els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, si el número fuera diferente de uno, de dos o de tres, no escribiría 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4B3-B261-4FCD-85F3-7E1D131448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a empresa se trabaja 8 horas los lunes y martes. 7 horas los miércoles, jueves y viernes. 4 horas el sábado y 0 horas el domin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mos los números por caracteres: ‘l’ es lunes, ‘m’ martes, ‘x’ miércoles, ‘j’ es jueves, ‘v’ viernes, ‘s’ sábado y ‘d’ es domin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814-F74E-443E-9712-E66C036B8B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dado un cará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carácter corresponde a un día nos diga las horas que se tra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carácter no corresponde a un día escriba “esto no es un día váli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5BE-09B8-4EE0-8048-7BC2FCFD29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HorasTrabaj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día  ’); readln(di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dia =‘l’ or dia=’m’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8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=’x’ or dia=‘j’ or dia=‘v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7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=‘s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4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 =‘d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trabaja en doming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no es un día válido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9760" y="3048120"/>
            <a:ext cx="214956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RAR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AMA EL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BEB-4300-4E6C-8097-1F70DEECD9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Universidad Matías Cholotón, los estudiantes normales (se llaman de tipo 1) pagan 120 colones por cada materia y los poetas (se llaman estudiantes de tipo 2) 100 ¢ por ma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 un programa que pida el tipo de estudiante y las asignaturas y que escriba si es normal o poeta y el importe de la matr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A5C-3965-4C40-9DBE-26AEC67352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matric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s, tip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tipo de estudiante ‘); readln(ti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de materias  ’); readln(materi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tipo=1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estudiante es normal y el costo de la matrícula es’, materias*1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tipo=2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estudiante es poeta y el costo de la matrícula es’, materias*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existe este tipo de estudian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580-D39B-455E-A944-90247D9C569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comienda que hagan ejercicios por su cuenta en su casa (pág 69-85 del libro “Pascal y Turbo Pascal. Un enfoque prácti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E62-63C3-41E1-8949-3494E403CB5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imer inten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APROBAD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66F-4097-4A0C-BD73-7383B9D509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s re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scribir un programa que escriba cien veces el númer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468-F01B-4F9A-BC2B-BCEEC443EE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AA3-0F02-4C21-B57A-E4407319D7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escribir mu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roblema es general. Imaginen escribir la planilla de mil empleados de un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nos gustaría sería que en la computadora hubiera una forma de repetir una instrucción o una tarea muchas v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FEE-57B3-40B2-B789-AA300F0413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pitiendo tare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tres tipos de estructuras que permiten repetir una misma tarea muchas ve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C20-9941-472E-94F8-58C8E6FDDA6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ntaxis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condición&gt; es una expresión que da de resultado boole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 es una serie de instrucciones. Si son más de una,  están encerradas entre begin y end (com en el if-then-e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6B2-EE89-4C29-9A3B-35A4B4D6A19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mántica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entras se cumpla la condición, se repiten las instruccione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942-6187-4984-A696-A7167CB3E4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programa llega al “while”, evalua l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úa a FALSE, se salta la estructura “while”. Si evalúa a TRUE, ejecuta las instrucciones y vuelve a evaluar l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úa a FALSE, se salta la estructura “while”. Si evalúa a TRUE, ejecuta las instrucciones y vuelve a evaluar la condición y ASÍ SUCES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18B-A36C-4E9C-89E4-3D70D24F0B1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SinEsfuerz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523-B35E-4A83-8231-C977381C024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cución (ayudarse diapo anterior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2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3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99, TRUE, se escribe 1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0, TRUE, se escribe 1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1, FALSE, se salta el “while”, se acaba el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6FB-58EA-42FB-A141-617AF737FE4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990720"/>
            <a:ext cx="5410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a estructura “while” se le llama “bucle” o “ciclo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cada vez que las instrucciones se ejecutan se le llama “vuelta del bucle”, “pasada del bucle” o “iteración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el bucle deja de ejecutarse porque no se cumple la condición, se dice que el programa “sale” del buc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a condición se le llama “condición del bucle” o “condición de salida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5A3-AC0D-461C-86E6-1FFEBF5E659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pas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siempre se escribe “APROBADO” independientemente de la nota que entre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mismo pasaría si pusiéramos “REPROBADO” o las 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88F-4F7A-43D9-AA3B-FB15F31E1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cciones de la ejec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ariable “i” sirve para contar las veces que se repite la estructura (ciclo, bucle), las veces que se escribe “1”.  Se le puede llamar “contador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íjense que el contador se incrementa cada vez en una vuelta del bucle. ¿Qué pasaría si esto no fuera así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C84-0151-4C6A-95DE-3250FE8D15E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 no se incrementa el contad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ue así siemp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ucle no acaba nunc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esto se le ll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le infini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grama se ha “colgado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EBA-C619-44C9-BD41-242EFDE6413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cle infini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n programa no “sale” nunca de un bucle, se dice que es un “bucle infinito”. El programa se queda col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pasa porque la condición del bucle nunca evalúa a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diseñar los bucles con cuidado para que no pase e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F74-F9E0-4FE7-88C7-33414403771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tes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63360" y="419112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DICIÓN DEL BU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8440" y="502920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ERPO DEL BU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68440" y="240336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: se evalua a cada vuelta y decid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i el bucle se ejecuta una vuelta má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05320" y="525780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357-00D2-4AD4-B9D3-D8354761183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tes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CIALIZACIÓN: Son las asignaciones que le dan un valor inicial a las variables que intervienen en el bu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ÓN DEL BUCLE: Se evalúa a cada vuelta y decide si el bucle se ejecuta una vuelta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RPO DEL BUCLE: Las instrucciones que se ejecutan a cada vuelta del bu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FCA-D3A1-497A-9159-9EA27EE685F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haría el siguiente program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1CF-23F4-4B67-8A12-EA4626A8F79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(dibujar una pantalla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2, TRUE, se escribe 2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3, TRUE, se escribe 3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99, TRUE, se escribe 99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0, TRUE, escribe 100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1, FALSE, se salta el “while”, se acaba el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D7A-8307-432F-B1A1-80932B6FCDD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hace ese programa es escribir los números del 1 al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CEE-D5A4-4E02-9729-39818314F6D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5486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dición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finales (op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BD8-4E22-4245-AC6E-40119EC6A6B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200400"/>
            <a:ext cx="44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dición) 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final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05120" y="3505320"/>
            <a:ext cx="320040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504960" y="3886200"/>
            <a:ext cx="160020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4724280"/>
            <a:ext cx="27432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895480" y="5105520"/>
            <a:ext cx="32004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600200" y="6095880"/>
            <a:ext cx="3276720" cy="228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010-7956-4D84-944E-A502034965C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cualquier “write” que pongamos se escribe siempre. (Cualquier instrucción se ejecuta siem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querríamos que se escribiera “APROBADO” sólo en unos ciertos casos y “REPROBADO” en los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66A-EAE4-4C31-B7BC-412017B88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31200" y="3809880"/>
            <a:ext cx="2364480" cy="1143000"/>
            <a:chOff x="2131200" y="3809880"/>
            <a:chExt cx="2364480" cy="1143000"/>
          </a:xfrm>
        </p:grpSpPr>
        <p:sp>
          <p:nvSpPr>
            <p:cNvPr id="211" name=""/>
            <p:cNvSpPr/>
            <p:nvPr/>
          </p:nvSpPr>
          <p:spPr>
            <a:xfrm>
              <a:off x="213372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7672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720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52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62520" y="36990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1000101 110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0001110  001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715000"/>
            <a:ext cx="1752480" cy="9144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4440" y="575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274320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Ciclo de vid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de un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n 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295-A4B6-4193-A998-02726CD513E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81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 especificación define el problema que queremos resolv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 programación transforma un problema en un program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Como cada vez los problemas se hacen más complicados, cada vez la programación es más complicad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sto nos obliga a utilizar un método de programació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El método que proponemos se basa en dos part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Análisis del problema. En él entendemos el problema y como resolverl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nstrucción del programa. En él traducimos la solución del programa a Pasc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C0A-E0FF-4029-9512-91C06D8D49A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ruir programas con un bucle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334120"/>
            <a:ext cx="876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8240" y="3394080"/>
            <a:ext cx="4153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ÁLISIS DEL PROBL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6019920"/>
            <a:ext cx="5334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RUCCIÓN DEL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922-8B9D-497A-85A5-53475863FFB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ruir programas con un bucle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 para despu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caso de un bucle, se decide como se trata un elemento y se accede al elemento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bucle, condiciones, inicializaciones, instr. fin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6235560"/>
            <a:ext cx="5333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RUCCIÓN DEL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9B8-95A2-4BBB-963D-90A31D32CC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los números impares del 1 al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E2B-ED73-4A80-AAB6-AB747847EB6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por pantalla 1, 3, 5, 7, 9, 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blema se resuelve empezando por el número 1 y sumando 2 cada vez y escribiendo los números que re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FA2-2C3D-4362-AAEB-5D71C31DF44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úmero que se escri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rle dos varias veces (repetidam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mos que será NumeroImpar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3A2-EFCA-47DA-AD0D-CF3A6DDD34F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sumar repetidamente 2, se hará un BUCLE que sume 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Escribiendolo por pan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Sumando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994-60BC-4CC5-92B3-D73246B9485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m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NumeroImp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Impar:=NumeroImpar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DF4-7C16-4EAE-9CAA-B7809030447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úmero a escribir es el 1 y, por lo tanto, NumeroImpar debe recibir el valor uno. (NumeroImpar: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El bucle escribe un numero. Debe escribir hasta el 11. Por lo tanto, el bucle debe repetirse mientras el número sea menor o igual que 11. (NumeroImpar&lt;=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7C7-03AC-4A87-83E1-51B05A57312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 que querría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ota&gt;=5 entonces escribe “APROBAD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o, escribe “REPROBAD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8C0-E566-471E-B227-F900F339B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m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umeroImpar&lt;=11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NumeroImp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Impar:=NumeroImpar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05740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FA8-4573-4C09-B49E-E78C753A9F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sume los 20 primeros cuad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... +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C86-E34B-4916-A430-4AEA4331A8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r la suma de los 20 primeros cuadrados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... +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s decir, 1+4+9+16+...+4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esa suma por pan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blema se resuelve empezando por el númer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ndo el cuadrado del nu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y sumando 2 cada vez y escribiendo los números que re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67C-B2B1-4B9E-B2CA-2D112EEB96A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empieza por el númer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 (1*1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(2*2=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uma al cuadrado anterior (1+4=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(3*3=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uma a la suma de cuadrados anterior (5+9=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F5A-B6EE-4A6B-8514-12AFCE61F7B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el cuadrado del número y se suma a la suma de c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pite varias v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3D3-8634-4AB0-84AE-53211538283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uadrado d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r el cuadrado d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rlo a 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rle uno al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rlo varias v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final, escribir la suma de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F43-EC73-434F-92F2-54CEBFA425C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mos que será Numero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 SumaCuadrados: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odría haber una variable “cuadrado” pero lo consideramos innecesario porque dado un número se calcula fácilmente su cuad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891-E8E4-4CA0-A0A6-5D9BC56668B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e el cuadrado del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sume a la suma de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calculando su cuadrado y sumándolo a la suma de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Sumand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C8B-24A6-4AC2-8E05-FF8D783B8DC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tratamiento fin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2C6-79B1-4B03-8014-1C49EF3287D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úmero a escribir es el 1 y, por lo tanto, Numero debe recibir el valor uno. (Numero:=1). La suma de cuadrados es cero, poruqe no hemos sumado 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El bucle suma los 20 primeros cuadrados (Numero&lt;=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 suma de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EB6-4216-42E0-AC0D-06B14C5DBE5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 que querría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queremos es que Pascal nos deje decidir entre varias alternativas dependiendo de la si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cesitaríamos una instrucción que nos permitiera escribir algo parecido al “si” que hemos vi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instrucción existe. Es el if-then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039-8D19-41AB-9BAA-0FCE2373A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Cuadrado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=2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cuadrados es ‘, SumaCuad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501-1FC4-4F59-A6B3-8C625918DE3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programa anterior 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vez de sumar los 20 primeros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e los primeros cuadrados hasta que la suma sea mayor o igual que 1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82F-B9CA-49E3-A304-638320EC145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nálisis del problema es el mismo, excepto la condición de sal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hora en vez de Numero&lt;=20 sería que SumaCuadrados&lt;=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la condición de salida nos indica hasta donde llegamos, hasta donde repetimos el bu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E43-675C-460A-B85D-93EF2DAAECA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Cuadrado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SumaCuadrados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cuadrados es ‘, SumaCuad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7BE-85E3-4754-992C-FEED1767BF7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íjense que en este caso no sabemos cuantas vueltas da el bucle, sólo sabemos que se parará cuando la suma sea mayor de 1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9D6-6844-4114-BAB7-E1F917A9404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ositamos 1000 colones en el Banco Agrícola Demencial al 6% de interés anual, de forma que los intereses se suman al capital y devengan intereses. Queremos retirar el dinero cuando supere los 20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calcule y escriba por pantalla cuantos años harán falta para esto y cuál será el dinero obten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0F5-5559-4F1F-B30A-385CB9E7FAA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invierten 1000 ¢ al 6%, al término del primer año, se tienen 1000 + 6% de 1000, es decir, 106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término del  segundo año, se tiene 1060+ el 6% de 1060, es decir, 1123.6 y así sucesiv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un capital de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año se saca el 6% del capital y el resultado se suma al capital (se acumul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el año y se repite la operación para el nuevo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el capital acumulado sea mayor de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nces, hay que escribir los años y el capital acumulado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590-DAE3-457C-B5D0-7B075829868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pital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el 6% y sumarlo a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ar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r esto hasta que el capital acumulado sea d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escribir los años y el capital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Acumulado: real y Anyos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E33-8332-446B-996B-5BE5453C9CA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e el 6% del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sume al capital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e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imprimir los datos obtenidos en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sumándole el 6% al capital acumu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e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521-BE46-43C2-853E-577A29E6D13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10E-E51A-40D4-804D-195D410CEE3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20:18:55Z</dcterms:created>
  <dc:creator>BLANCA CECILIA</dc:creator>
  <dc:description/>
  <dc:language>en-US</dc:language>
  <cp:lastModifiedBy> </cp:lastModifiedBy>
  <cp:lastPrinted>1999-05-12T20:12:47Z</cp:lastPrinted>
  <dcterms:modified xsi:type="dcterms:W3CDTF">2008-02-10T09:36:55Z</dcterms:modified>
  <cp:revision>160</cp:revision>
  <dc:subject/>
  <dc:title>Programación de computadoras</dc:title>
</cp:coreProperties>
</file>