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A8B-F917-4329-819E-73D6DD0E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E38-B482-4F81-A80D-2181AB7D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533-171E-4881-A7CB-8C199DC7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15F-379F-4F0B-9085-D5B660D9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820-00FB-4C91-8845-9078EEC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B06-A480-4C5F-9AF7-ABBB937A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52D-35C2-4AE6-838B-F9A415D5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C82-63F0-4CF6-BCF3-CBF8B1B0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537-27F8-42D9-A51E-009396C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CBE-47BA-4170-918F-DB23EB6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D4C-D4B6-4940-9A66-59D312B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F60-14B3-404F-82B0-E2AF3E4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C573-DB9A-4C4F-BBD6-00828AD0EBC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26F-E724-4A5F-A965-254568C0D9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la variable de tipo tabla tiene de nombre “preci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onces cada “cajita” o elemento podría llamarse as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8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130680" y="4156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prim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2240" y="41148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segundo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0440" y="472428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terc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160" y="4648320"/>
            <a:ext cx="15238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371240" y="4495680"/>
            <a:ext cx="25146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81080" y="5029200"/>
            <a:ext cx="182880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B12-02E4-46E9-A55B-29844201C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string ‘); readln(cade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adena[posicion]&lt;&gt;’A’) or (posicion&lt;=length(cadena)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tratar element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AEE-5B84-44C0-9F76-DE33E73CABF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&lt;encontrada ‘A’&gt;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Se encontró una 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encontró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encontrada A&gt; es posicion&gt;length(cade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-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 porque no hace falta tratar el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B6C-189F-4364-9CD9-27837C5DC80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string ‘); readln(cade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adena[posicion]&lt;&gt;’A’) or (posicion&lt;=length(cadena)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84C-7D0C-464A-A37E-C1E7EBCB466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posicion&gt;length(cadena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Se encontró una 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encontró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ejemplo del esquema de búsqu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CC4-69D4-4A0A-B9F1-B8FF7A626DB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búsqued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04760" y="2514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o encontrado and no fi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 encontrado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miento encon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miento no encon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2160" y="1717560"/>
            <a:ext cx="84211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o particular de bucle cuando se quiere buscar un dato dentro d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a estructur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A35-EF92-4875-9E97-C6F48B1690C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ta ahora las tablas nos habían servido para tener listas de elementos (disposiciones lineales de da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a veces, necesitamos matrices (disposiciones rectangulares de da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52280" y="3657600"/>
            <a:ext cx="8686800" cy="457200"/>
            <a:chOff x="152280" y="3657600"/>
            <a:chExt cx="8686800" cy="457200"/>
          </a:xfrm>
        </p:grpSpPr>
        <p:grpSp>
          <p:nvGrpSpPr>
            <p:cNvPr id="860" name=""/>
            <p:cNvGrpSpPr/>
            <p:nvPr/>
          </p:nvGrpSpPr>
          <p:grpSpPr>
            <a:xfrm>
              <a:off x="152280" y="3657600"/>
              <a:ext cx="5790960" cy="457200"/>
              <a:chOff x="152280" y="3657600"/>
              <a:chExt cx="5790960" cy="45720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152280" y="3657600"/>
                <a:ext cx="2895480" cy="457200"/>
                <a:chOff x="152280" y="3657600"/>
                <a:chExt cx="2895480" cy="457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52280" y="365760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377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9984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28564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047760" y="3657600"/>
                <a:ext cx="2895480" cy="457200"/>
                <a:chOff x="3047760" y="3657600"/>
                <a:chExt cx="2895480" cy="4572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047760" y="365760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73320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4953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1811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1" name=""/>
            <p:cNvGrpSpPr/>
            <p:nvPr/>
          </p:nvGrpSpPr>
          <p:grpSpPr>
            <a:xfrm>
              <a:off x="5943600" y="3657600"/>
              <a:ext cx="2895480" cy="457200"/>
              <a:chOff x="5943600" y="3657600"/>
              <a:chExt cx="2895480" cy="457200"/>
            </a:xfrm>
          </p:grpSpPr>
          <p:sp>
            <p:nvSpPr>
              <p:cNvPr id="872" name=""/>
              <p:cNvSpPr/>
              <p:nvPr/>
            </p:nvSpPr>
            <p:spPr>
              <a:xfrm>
                <a:off x="5943600" y="365760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2904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9116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7696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290520" y="320040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71800" y="5486400"/>
            <a:ext cx="114300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576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71800" y="57150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971800" y="59436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61722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E3D-A07E-4ACD-98CE-F2B83D39DDA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compañía tiene 4 sucursales y queremos almacenar los gastos de cada sucursal en cada uno de los 12 meses del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B03-E605-4C06-A043-6020FFC1165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889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forma de solucionarlo sería con 5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o, ¿si fueran 200 sucurs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hace difícil obtener reultados de diferentes arrays (por ejemplo, los resultados del mes de junio) Muchos 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908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920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925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6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937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1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942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3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954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959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0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971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8C3-DC5A-4B37-884E-162DA3E3785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982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3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994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8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imer número indica la sucursal, el segundo el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lama tabla con dos índices o dos dimen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001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2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018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030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4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035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6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1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052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4BF-9769-41E8-9FA9-8F508C5060A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1075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6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1087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[2,12] son los gastos de la segunda sucursal el mes de diciembre. gastos[4,3] cuarta sucursal, marz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094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5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106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111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2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128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9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4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145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170-4715-4FAD-9466-80C53F2DA28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esto es muy largo de escrib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z de eso, cada “cajita” o elemento se llama as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0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33840" y="3962520"/>
            <a:ext cx="56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quiere decir, el terc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es decir, el elemento de precio de la terce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sició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35E-2768-4041-BA22-8CFF1608F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1168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9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4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[3] es una tabla con los gastos de la 3 sucu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187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204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5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221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2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233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7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238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239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9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250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4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04C-5AB6-4478-BC22-AD0D7B64623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blas de más dimens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aginemos que queremos los gastos de cada sucursal, en cada día de cada 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ríamos ha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,1..31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gastos [3,2,5] son los gastos de la tercera sucursal el 5 de febr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PODEMOS TENER TANTOS ÍNDICES COMO QUERA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3F2-9942-429E-B396-036DF8F8688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s elementos de 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la variable de tipo tabla se llama “nombr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[1] es el primer elemento de “nomb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[2 ] es el segundo elemento de “nombre” y as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s números 1, 2... se les llama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36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4720" y="396252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quiere decir, el tercer elemento de nombr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E8B-7CD4-443B-90E8-820C4D947B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de los elementos de una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uno de los elementos se comporta como un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n hacer asignaciones con 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 hacer un write o un read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6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7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92880" y="39625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BA8-2B82-42D0-B574-1336FBC98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de la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una tabla como la de abajo se puede decir que es una tabla de números enteros que va desde la posición 1 a la posición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o en Pascal es array [1..12] of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9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92880" y="39625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49D-5C3B-4C34-9E0B-1B09878FB0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epto de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tabla es un tipo de datos que permite guardar una colección ordenada de datos del mismo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orde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datos deben ser todos del mismo 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un tamañ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1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3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40E-2DB8-4746-B27F-514EBB6DE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se puede hacer con las variables de tipo  tabl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ualquier otra variable, con las tablas se pueden hacer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ar valores en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r los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ribir los valo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38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50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B2A-6604-446E-8F3F-FEBFBCDD0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dos formas de declarar las tablas. La 1ª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&gt;:array[&lt;primeraposición&gt;..&lt;ultimaposicion&gt;] of &lt;tipodelos elemento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57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69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7E9-FE92-4194-9C9C-7AA1D15E7D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si la tabla de abajo fuera se llamara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85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97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156-2618-4C97-9F30-AE71F736F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tención: una tabla no tiene porque comenzar por 1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suele ser lo más hab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array[100..111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1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2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-36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0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9984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440" y="46483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9252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1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E8F-3C2B-4911-9A03-88F748F65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oblema sencil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por teclado el salario por horas y las horas de trabajo al mes de un empleado. Debe escribir por pantalla el salario mensual del emple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71F-CB13-4E71-8DB1-70193DEC7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2ª manera de declarar tablas, es definiendo un “tipo tabla” en la parte “type” del progra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4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5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CA9-676C-4F97-8949-0BDA8F2FF3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“typ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tipos definidos por el usuario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CF8-99C8-44F2-A244-B18F57773E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TipoTabla&gt;=array[&lt;primeraposición&gt;..&lt;ultimaposicion&gt;] of &lt;tipodelos elemento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&gt;:&lt;TipoTabl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7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8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906-B132-4D4E-8A3D-02F6AC90BC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DeDoce=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TablaDeDoce; gastos: TablaDeDo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9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41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083-0015-446A-977A-089C80AEF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s definidos por el usua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DeDoce=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TablaDeDoce; gastos: TablaDeDo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TABLADEDOCE ES UN TIPO DE DATOS COMO CUALQUIER OTRO (entero, booleano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cal nos deja definir nuestros tipos de datos en la sección “type”, pero no hablaremos de ese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F4A-7E21-43F7-B7D6-49E0244DF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s tablas que se han declarado sin usar “type” se les llama tablas de tipos anónimos o declaradas en forma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s que se han declarado usando “type” se les llama tablas de tipos no anónimos o declaradas en forma no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distinción será importante cuando hablemos de procedimientos y fun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B9B-B6C8-4E25-BEE9-1BB2D1E539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larar las siguientes tab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reales que vaya de la posición 1000 a la 2000 en forma anónima que se llame “tabla1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isma tabla en forma no anón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booleanos que vaya de la posición 1 a la 20, en forma anónima que se llame “vot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caracteres que vaya de la posición 1 a la 100, en forma no anónima y que se llame “apelli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1D1-1CD3-4DF0-8257-B9EC3A77AC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soluciones son la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tabla1: array [1000..2000] of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 MuchosReales: array [1000..2000] of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tabla1: Muchos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votos: array[1..20] of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 TablaCaracter: array[1..100] of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apellido: TablaC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C1A-FA17-4B19-AD3E-87F2918685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 de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52280" y="3581280"/>
            <a:ext cx="8686800" cy="457200"/>
            <a:chOff x="152280" y="3581280"/>
            <a:chExt cx="8686800" cy="457200"/>
          </a:xfrm>
        </p:grpSpPr>
        <p:grpSp>
          <p:nvGrpSpPr>
            <p:cNvPr id="434" name=""/>
            <p:cNvGrpSpPr/>
            <p:nvPr/>
          </p:nvGrpSpPr>
          <p:grpSpPr>
            <a:xfrm>
              <a:off x="152280" y="3581280"/>
              <a:ext cx="5790960" cy="457200"/>
              <a:chOff x="152280" y="3581280"/>
              <a:chExt cx="5790960" cy="4572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52280" y="3581280"/>
                <a:ext cx="2895480" cy="457200"/>
                <a:chOff x="152280" y="3581280"/>
                <a:chExt cx="2895480" cy="457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5228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377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998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2856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047760" y="3581280"/>
                <a:ext cx="2895480" cy="457200"/>
                <a:chOff x="3047760" y="3581280"/>
                <a:chExt cx="2895480" cy="4572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04776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73320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953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1811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943600" y="3581280"/>
              <a:ext cx="2895480" cy="457200"/>
              <a:chOff x="5943600" y="3581280"/>
              <a:chExt cx="2895480" cy="457200"/>
            </a:xfrm>
          </p:grpSpPr>
          <p:sp>
            <p:nvSpPr>
              <p:cNvPr id="446" name=""/>
              <p:cNvSpPr/>
              <p:nvPr/>
            </p:nvSpPr>
            <p:spPr>
              <a:xfrm>
                <a:off x="5943600" y="35812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2904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3911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769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-36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0481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984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440" y="2590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7520" y="2819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92520" y="1905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8188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400" y="4343400"/>
            <a:ext cx="85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cada elemento, se le puede llamar “elemento”, “casilla” o “celda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u contenido se le llama “contenido” o “valor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la posición dentro de la tabla que ocupa se le llama “posición”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y es un númer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í, en precio[2], es la casilla de la posición 2 y tiene el valor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 el segundo elemento y su contenido es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527-9F16-4D3C-92B0-86CAB2602E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 de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52280" y="3581280"/>
            <a:ext cx="8686800" cy="457200"/>
            <a:chOff x="152280" y="3581280"/>
            <a:chExt cx="8686800" cy="457200"/>
          </a:xfrm>
        </p:grpSpPr>
        <p:grpSp>
          <p:nvGrpSpPr>
            <p:cNvPr id="462" name=""/>
            <p:cNvGrpSpPr/>
            <p:nvPr/>
          </p:nvGrpSpPr>
          <p:grpSpPr>
            <a:xfrm>
              <a:off x="152280" y="3581280"/>
              <a:ext cx="5790960" cy="457200"/>
              <a:chOff x="152280" y="3581280"/>
              <a:chExt cx="5790960" cy="4572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52280" y="3581280"/>
                <a:ext cx="2895480" cy="457200"/>
                <a:chOff x="152280" y="3581280"/>
                <a:chExt cx="289548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5228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377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5998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2856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047760" y="3581280"/>
                <a:ext cx="2895480" cy="457200"/>
                <a:chOff x="3047760" y="3581280"/>
                <a:chExt cx="2895480" cy="457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04776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73320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4953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811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5943600" y="3581280"/>
              <a:ext cx="2895480" cy="457200"/>
              <a:chOff x="5943600" y="3581280"/>
              <a:chExt cx="289548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5943600" y="35812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2904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911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769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-36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43000" y="30481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9984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440" y="2590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74200" y="1371600"/>
            <a:ext cx="54338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: ARRAY[1..12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92520" y="1905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188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43434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 rango de valores de la tabla se le llama ÍNDICE o RANG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 número de elementos, se le llama TAMAÑO DE LA TABL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í precio tiene un tamaño de 12 elementos. El índice va de 1 a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143-B423-4649-8376-683C9A575B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ograma sencil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, HorasPorMes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costo por hora’); readln(CostoPorHo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s horas por mes’); readln(HorasPor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salario mensual es de ‘, CostoPorHora*HorasPorMes:0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070-0DD2-42CE-8866-55403BD90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se puede hacer con las variables de tipo  tabl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ualquier otra variable, con las tablas se pueden hacer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rlas (YA LO HEMOS V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ardar valores en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perar los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r los valo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49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17C-C570-4112-BBA8-332915793F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ar las variables de tipo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tenido o valor de las variables enteras, booleanas, reales y caracteres se podían manipular de una sola 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una única operación podíamos asignar TODO el contenido, escribir TODO el contenid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no es cierto con las variables t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puede manipular el contenido de un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manipularse el contenido de cada elemento por sepa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616-448C-45F7-91BE-8C673F1DBA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escribi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67280" y="3276720"/>
            <a:ext cx="2133720" cy="457200"/>
            <a:chOff x="5867280" y="3276720"/>
            <a:chExt cx="2133720" cy="457200"/>
          </a:xfrm>
        </p:grpSpPr>
        <p:sp>
          <p:nvSpPr>
            <p:cNvPr id="511" name=""/>
            <p:cNvSpPr/>
            <p:nvPr/>
          </p:nvSpPr>
          <p:spPr>
            <a:xfrm>
              <a:off x="5867280" y="3276720"/>
              <a:ext cx="213372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30  57   99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97920" y="190512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ecio: array [1..3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6080" y="1946160"/>
            <a:ext cx="18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gast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GAS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7960" y="3352680"/>
            <a:ext cx="761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Garamond"/>
              </a:rPr>
              <a:t>44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39720" y="33526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35200" y="25909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200" y="4267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gast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8480" y="41911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552720" y="3962520"/>
            <a:ext cx="838440" cy="838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4038480"/>
            <a:ext cx="914400" cy="762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6280" y="4191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4724280"/>
            <a:ext cx="212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1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2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3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53341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4520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4280" y="594360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BEN ESCRIBIRSE LOS ELEMENTOS UNO POR U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E23-F0A2-4460-873E-6CE61B487B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asigna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19920" y="5334120"/>
            <a:ext cx="2133360" cy="457200"/>
            <a:chOff x="6019920" y="5334120"/>
            <a:chExt cx="2133360" cy="457200"/>
          </a:xfrm>
        </p:grpSpPr>
        <p:sp>
          <p:nvSpPr>
            <p:cNvPr id="532" name=""/>
            <p:cNvSpPr/>
            <p:nvPr/>
          </p:nvSpPr>
          <p:spPr>
            <a:xfrm>
              <a:off x="6019920" y="5334120"/>
              <a:ext cx="213336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30  57   99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536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748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497920" y="190512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ecio: array [1..3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6080" y="1946160"/>
            <a:ext cx="18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gast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7960" y="4343400"/>
            <a:ext cx="761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Garamond"/>
              </a:rPr>
              <a:t>44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39720" y="434340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87480" y="4648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200" y="5257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gast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7800" y="2590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:=30,57,9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705720" y="2438280"/>
            <a:ext cx="838080" cy="838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2514600"/>
            <a:ext cx="914400" cy="762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28195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4880" y="25909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53200" y="3476520"/>
            <a:ext cx="25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:=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:=5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:=9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9800" y="408636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59480" y="3857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920" y="5943600"/>
            <a:ext cx="79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BEN ASIGNARSE LOS ELEMENTOS UNO POR U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532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AS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297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asto:= 4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444-29AB-4029-B1A3-F07CB9CA71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: Usa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tabla no puede ser manipulada glob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n de ser manipulados individualmente su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elemento t[1], t[2], t[3] ... se comporta exactamente como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t[1]), read(t[1000]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[5]:=100; t[12]:=t[12] + 1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A40-13EA-48A1-95E1-C62FD73FD8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tres caracteres de teclado y los guarde en una tabla de tres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746-621A-4257-9AA6-8690F4CDD5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Caracte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 [1..3] of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carácter ‘); read(tabla [1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carácter ‘); read(tabla [2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tercer carácter ‘); read(tabla [3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FA6-E178-43E5-AE78-431379CDDF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ider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hacer el mismo programa con una tabla de 1000 caracte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dríamos escribir 1000 instruccione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ríamos que usar un bucle para hace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por eso que las tablas van relacionadas con los b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rograma que tiene tab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probable que tenga un bu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C4F-31AC-4B26-90AA-D70B04F6D3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mil caracteres del teclado y los guarde en una tabla de mil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53C-D4AA-4182-8CEC-5FCBC7F69D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1000 caracteres por el teclado y ponerlos en una tabla de caract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imer carácter se pone en la primera posición de la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gundo carácter en la segunda posición y así sucesiv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014-23CD-44BC-A8E4-822FE4E20A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calcular lo mismo para los mil empleados de una fáb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1A6-1012-4A07-9A24-48CA4A5D7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la posición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un carácter del teclado y se guarda en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otro carácter del teclado y se guarda en dicha posición y así suces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se llega a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5B0-4154-4593-8EF8-0787A4C421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nsigue un carácter por teclado y se guarda en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crementa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 llega a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tabla: array [1..100] of char y posicion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203-0F6C-4338-B809-26819043A8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 un carácter por teclado y lo ponga en la posición de la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e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leyendo el número por teclado y lo coloque en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4F8-A765-4FBF-8AA6-CEB1F9375A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gra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4A7-79DF-4075-8B70-0674A6337D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la posición sea menor o igual que 1000 (posicion&lt;=1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541-0500-4F1F-A189-8758E3FEE6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gra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9840" y="1413000"/>
            <a:ext cx="3368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POR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C26-54D3-40EC-AAC9-DF890B541D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1000 números del teclado y los escriba después en orden inverso (PISTA: Es necesario usar una tab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2DB-156D-4F61-BFF1-6CD4D1ADAA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1000 caracteres por el teclado e imprimirlos en orden in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imer carácter que se entre se escribirá el último, el segundo el penúltimo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grama fuera sólo para 4 caracteres y entraríamos ‘c’, ‘a’, ‘b’, ‘e’, se habría de escribir ‘e’, ‘b’, ‘a’, ‘c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0E2-4944-491A-83BD-7A1F678B39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se entran todos los caracteres por el teclado y se guardan en una tabla para poder recordarlos. Como este problema ya lo hemos solucionado en el ejercicio anterior, no entraremos con det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mienza con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mprime el contenido de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mprime el contenido de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crementa la posición y así sucesivamente hasta que lleguemos a la posición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A90-7ED8-4905-977A-79310EC594F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mienza con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cribe el contenido de esta posición y se decrementa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 llega a la posición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tabla: array [1..100] of char y posicion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49760" y="1066680"/>
            <a:ext cx="49464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ÓLO NOS PREOCUPAMOS DE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E QUE NO ESTÁ RESUEL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BB-29C0-4CC4-82D9-6ACD9D13919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: un programa tedios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1, HorasPorMes1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2, HorasPorMes2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3, HorasPorMes3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1000, HorasPorMes1000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B1E-2219-40FF-9CE2-CDEB59F23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a el contenido que hay en la posición de la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remente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escribiendo el contenido de la posición de la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De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1160" y="1222200"/>
            <a:ext cx="49464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ÓLO NOS PREOCUPAMOS DE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E QUE NO ESTÁ RESUEL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9C3-5368-4DA6-BFFB-3E2DA31AA87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parcial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F32-311C-4A19-8473-E402CCE9FD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parcial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l elemento numero ‘ posicion, ‘es ‘, 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7F6-A583-409E-BAC1-FF80B24F03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la posición sea mayor o igual que 1 (posicion&gt;=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0A2-97B4-48D6-B6EB-51B6CFB72F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final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18288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 (sólo parte nuev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123-9354-48B4-A045-11104B66F8E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final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gt;=1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l elemento numero ‘ posicion, ‘es ‘, 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D72-BF6C-4C87-B05D-85814CD75F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modificar el programa anterior para que el número de caracteres no tenga porque ser exactamente 1000, sino que sea menor o igual que 1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ramente, esto nos dejaría parte de la tabla desocupada, ya que la tabla tiene 1000 ele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nos lleva al problema de la bas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28F-5935-4E6A-A4AA-50021A2DC3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declara una tabla, Pascal la llena automáticamente de datos inútiles al azar, es decir, de “basur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06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x’   ‘$’   ‘á’   ‘n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%’   ‘l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18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nosotros la llenamos de información útil, pero las posiciones no utilizadas siguen llenas de “basura”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2280" y="5791320"/>
            <a:ext cx="8686800" cy="457200"/>
            <a:chOff x="152280" y="5791320"/>
            <a:chExt cx="8686800" cy="457200"/>
          </a:xfrm>
        </p:grpSpPr>
        <p:grpSp>
          <p:nvGrpSpPr>
            <p:cNvPr id="624" name=""/>
            <p:cNvGrpSpPr/>
            <p:nvPr/>
          </p:nvGrpSpPr>
          <p:grpSpPr>
            <a:xfrm>
              <a:off x="152280" y="5791320"/>
              <a:ext cx="5790960" cy="457200"/>
              <a:chOff x="152280" y="5791320"/>
              <a:chExt cx="5790960" cy="4572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152280" y="5791320"/>
                <a:ext cx="2895480" cy="457200"/>
                <a:chOff x="152280" y="5791320"/>
                <a:chExt cx="2895480" cy="4572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52280" y="5791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77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9984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28564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3047760" y="5791320"/>
                <a:ext cx="2895480" cy="457200"/>
                <a:chOff x="3047760" y="5791320"/>
                <a:chExt cx="2895480" cy="457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047760" y="5791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73320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953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1811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5943600" y="5791320"/>
              <a:ext cx="2895480" cy="457200"/>
              <a:chOff x="5943600" y="5791320"/>
              <a:chExt cx="2895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5943600" y="5791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62904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9116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696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"/>
          <p:cNvSpPr/>
          <p:nvPr/>
        </p:nvSpPr>
        <p:spPr>
          <a:xfrm>
            <a:off x="228600" y="6477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62940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73480" y="62895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98520" y="632448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B5D-AF13-4B76-8877-E3D29E72B3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tilizamos una tabla, tenemos que distinguir entre la información útil y la basura. Sólo tenemos que tratar la información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495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si queremos imprimir por pantall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mos que imprimir la información útil “Matías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a “basura”: “`SR=ñq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48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9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60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4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FA8-9340-4F22-B4BD-ED340BCA981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eso, es vital sa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ta que posición hay la información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 que posición está la ba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4495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se suele hacer usando una variable entera por cada tabla que nos indica la última posición út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72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84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BC5-D434-412E-BFBA-DFE39E1FC61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o no es práctic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uy tedioso escribir tant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ún es más tedioso tener que programar con e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4DB-9A3C-4CC9-81C2-5E2B2B8B79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, supongamos que tenemos una variable UltimaNombres que nos indica las posiciones usadas (es decir, con información útil de la tabla precio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43434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forma qu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UltimaNombres tiene el valor 3, eso quiere decir que las 3 primeras posiciones son útiles y todas las otras tienen basur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ste caso, UltimaNombres tiene el valor 5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96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7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708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89240" y="42321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C27-913F-44D4-8A7E-FFFB04120C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ste caso, UltimaNombres 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18288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general, hay una variable entera por cada tabla que nos indica la última posición út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721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2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733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32040" y="44607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659-B18E-493A-BFAD-4ECD5974CB6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último ejercicio, cuál era la variable que nos indicaba hasta donde llegaba la información útil de la tabla “tabl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numcar, pues decía hasta donde llenábamos la tabla en el proceso de ent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6D9-1124-489C-9393-8F4AC58E527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, a partir de una tabla de enteros que se entre por teclado, produzca otra tabla cuyas posiciones son las posiciones de la primera elevadas al cuadr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sta puede introducir cualquier cantidad de caracteres, siempre que sea menor o igual que 1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sabrá que ya no queremos introducir más caracteres porque le entraremos un 0. ES DECIR, UN CENTINELA (recordar de tema pasad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021-38FC-4EF9-8D93-A3CB60577E4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enteros por el teclado, guardarlos en una tabla y después construir la tabla de los cuad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dos probl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ntroducir los números y guardarlos en una tab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struir la tabla de los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ABE-F8D9-4EA5-BCCF-2A8459FC886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A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o se entran todos los números por el teclado y se guardan en una tabla para poder recordar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ide un num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guarda en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 de la tabla y se pide otro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pite hasta que se entra el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A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abla, el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(las de arrib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534520" y="3200400"/>
            <a:ext cx="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165720" y="3470400"/>
            <a:ext cx="1956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PET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CB9-956F-46A2-9350-F2862DBF5F3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A.Se eligen las variables en que se guardaran los datos. tabla: array [1..100] of real, posicion: integer y numero: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A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arde el numero en un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da otro número e incremente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6D7-932E-495F-B5F4-FD5EA7414E7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A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guardando el numero en la posición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 y pidiendo otro nu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F3D-E059-4265-8437-6A005769950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ediaaritmét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real; posicion:integer; numer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ó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 [posicion]:=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r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E65-84B8-4627-9E7D-3220EA8767F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A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. Se ha de leer el primer núm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no nos introduzcan un 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D9C-8386-4E28-B8F3-9BC2427B0AC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uál es el problem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cada variable sólo puede tener un d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es porque los tipos de datos estudiados hasta ahora sólo permiten tener un único dato p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itamos un tipo de datos que nos permita manejar gran cantidades de datos por cada variab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poder manejar grandes cantidades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nos pide el mund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BDA-5590-4E23-A615-913AAD853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real; posicion:integer; numer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 read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&gt;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 [posicion]:=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r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976-D785-4D4E-9379-A644F519137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B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orre la tabla SÓLO HASTA LA ÚLTIMA POSICIÓN ÚTIL y se van generando los cuad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detal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un elemento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guarda su cuadrado en la tabl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pite hasta que se llega a la última posición útil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4AB-EEE4-4172-94B5-36FA73ED6D3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9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B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, la última posición 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(las de la diapo anterior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B.Se eligen las variables en que se guardaran los datos. tabla, TablaCuadrados: array [1..100] of real, posicion: integer y UltimaTabla:integ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ADC-569E-499F-8CDB-7308F8787E8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0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B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e el numero de un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e el cuadrado en 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41A-7C95-4151-A995-2F2A2BF38EE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B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recuperando el elemento de la tabla y guardando su cuadrado en la tabla de c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A58-2B42-4656-873E-0593F34DAA0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sigue del trozo de código an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Cuadrados[posicion]:=sqr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82C-2A2E-4DED-AA1E-3D295EDE2CE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B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ón es la 1, la SumaAcumulada es 0. Se ha de fijar cual es el valor de la última posicion útil (que es UltimaTabla:=posicion-1, explicar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ha de repetir hasta que se llegue a la última posición útil (posicion&lt;=UltimaTabl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Hay que escribir la suma dividida por el número de elementos (Que coincide con la última posición út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901-7BE2-4696-8A75-4C0EA48EC60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sigue del trozo de código an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ltimaTabla:=posicion-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sicion:=1; SumaAcumulada: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posicion&lt;=UltimaTabla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tabla[posicio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La media aritmética es ‘, SumaAcumulada/UltimaTabla:0: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A2B-A460-479F-B9C9-C9CF3824897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hay un problema muy grande, mejor dividirlo en partes y programar cada subproblema por sepa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F0A-AD50-4C0D-A58E-F64CA28A7DD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antes con tabl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veces, es útil y conveniente utilizar constantes para definir las tab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XALUMNOS=10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Notas = array[1..MAXALUMNOS] of re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sPRC: TablaNot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B01-09F5-4522-BCAB-E631CA39987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tipo de datos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amado también “array” o “arregl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iene una colección ordenada de datos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L MISMO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ntos datos como queram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decir, en una sol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demos tener 1000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demos tener 2000 boole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emos como esto nos simplifica las 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3A1-9BE2-4D3F-AC1B-B89396E489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po de datos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una primera aproximación, un string es una tabla de caracteres.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 string[1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quivalente a p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 array [1..15] of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forma que todas las cosas que se pueden hacer con las cadenas de caracteres, también se pueden hacer con los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¿cuál es la difere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47C-9F7E-463F-9071-E14B54FE5B5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iferencia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strings se pueden hacer todo lo que se puede hacer con una cadena de cará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o también otras c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uede tratar el string GLOBAL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erlo del teclado con u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lo con u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ignarlo con un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r comparaciones globales con otros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 un string se puede hacer todo lo que puede hacerse con un entero, booleano, carácter 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917-A68D-441C-A8E4-CD082940420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 strings se pue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1, cadena2 : string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ln(cadena1); {leer caden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cadena1); {escribi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2:=‘Hola, como estamos’ {asigna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 (cadena1&lt;&gt;cadena2) then {compara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Son diferentes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2800" y="1600200"/>
            <a:ext cx="69962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O NO SE PUEDE CON LAS OTRAS TABL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IENE QUE SER ELEMENTO POR ELEM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47B-81B7-4B52-ACF2-19A401C58A4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valores del tipo string se encierran entre comillas simples, como los caracteres ‘Hola, como v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variables de tipo string se declaran como &lt;nombre&gt;: string[&lt;tamaño&gt;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: frase: string[50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84B-3D89-4CE9-BFC1-C272625610C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maño de los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ir desde 0 a 255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queremos declarar una variable string y no queremos preocuparnos de la longitud po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:str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es lo mismo que p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:string[25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12A-8F55-4828-B0B4-213A29A3248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aden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 string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un saludo ‘); readln(salud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saludo es ‘); readln(salud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saludo=‘Hola, mi querida computadora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Sí, mi amor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Ya no me tratas con cariño. Seguro que tienes a otr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F72-C74A-4D6B-ABA9-7502B9CF612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 lo que hace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D7F-64C7-49EC-B546-4D81CF75AC4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udoMañane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Jefe= ‘Hola, mi amo y señ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Empleado =“Hola, pobre homb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Desconocido=“Mi programador me dijo que no hablara con desconoc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o:string[20]; saludo:string[5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tu cargo en la empresa ‘); readln(cargo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22D-53A7-4B1F-B386-256A46596E4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 cargo=“jefe”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Je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se cargo=“empleado”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Desconoc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salu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75B-3FB9-4075-A254-A02CAD0D290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 conclusión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strings son un tipo especial de tablas de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n para operar con f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hacer todo lo que se puede hacer con tab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hacer todo lo que se puede hacer con reales, enteros, booleanos y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C61-6E9C-4A36-8508-9B749426084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nos imaginábamos a las variables  de tipos enteros, reales, booleanos y caracteres como “cajitas” que pueden tener un contenido (val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hora nos podemos imaginar a las variable de tipo tabla como sucesiones de “cajitas” que pueden tener un contenido (val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64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42E-AA21-4E4F-9530-2E6E015C0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 si declar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:string[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hacemos nombre:=‘Juan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, el valor de nombre será ‘Jua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adapta al tamaño del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895480" y="4952880"/>
            <a:ext cx="2133720" cy="457200"/>
            <a:chOff x="2895480" y="4952880"/>
            <a:chExt cx="2133720" cy="457200"/>
          </a:xfrm>
        </p:grpSpPr>
        <p:sp>
          <p:nvSpPr>
            <p:cNvPr id="804" name=""/>
            <p:cNvSpPr/>
            <p:nvPr/>
          </p:nvSpPr>
          <p:spPr>
            <a:xfrm>
              <a:off x="2895480" y="4952880"/>
              <a:ext cx="213372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‘</a:t>
              </a: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J’   ‘u’    ‘a’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8128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4340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2920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993560" y="4876920"/>
            <a:ext cx="709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Garamond"/>
              </a:rPr>
              <a:t>‘</a:t>
            </a:r>
            <a:r>
              <a:rPr b="1" lang="en-US" sz="3400" spc="-1" strike="noStrike">
                <a:solidFill>
                  <a:srgbClr val="000066"/>
                </a:solidFill>
                <a:latin typeface="Garamond"/>
              </a:rPr>
              <a:t>n’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949-6287-4B04-93B4-243AD5AE7A4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 si declar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:string[1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hacemos nombre:=‘Juan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, el resto es bas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en cualquier otra tab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28600" y="4876920"/>
            <a:ext cx="8686800" cy="457200"/>
            <a:chOff x="228600" y="4876920"/>
            <a:chExt cx="8686800" cy="457200"/>
          </a:xfrm>
        </p:grpSpPr>
        <p:grpSp>
          <p:nvGrpSpPr>
            <p:cNvPr id="812" name=""/>
            <p:cNvGrpSpPr/>
            <p:nvPr/>
          </p:nvGrpSpPr>
          <p:grpSpPr>
            <a:xfrm>
              <a:off x="228600" y="4876920"/>
              <a:ext cx="5790960" cy="457200"/>
              <a:chOff x="228600" y="4876920"/>
              <a:chExt cx="5790960" cy="45720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228600" y="4876920"/>
                <a:ext cx="2895480" cy="457200"/>
                <a:chOff x="228600" y="4876920"/>
                <a:chExt cx="2895480" cy="4572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28600" y="4876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J’   ‘u’   ‘a’    ‘n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9140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67616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36196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3124080" y="4876920"/>
                <a:ext cx="2895480" cy="457200"/>
                <a:chOff x="3124080" y="4876920"/>
                <a:chExt cx="2895480" cy="4572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3124080" y="4876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*’   ‘%’   ‘^’   ‘l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80952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5716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574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6019920" y="4876920"/>
              <a:ext cx="2895480" cy="457200"/>
              <a:chOff x="6019920" y="4876920"/>
              <a:chExt cx="2895480" cy="457200"/>
            </a:xfrm>
          </p:grpSpPr>
          <p:sp>
            <p:nvSpPr>
              <p:cNvPr id="824" name=""/>
              <p:cNvSpPr/>
              <p:nvPr/>
            </p:nvSpPr>
            <p:spPr>
              <a:xfrm>
                <a:off x="6019920" y="4876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s-ES_tradnl" sz="3400" spc="-1" strike="noStrike">
                    <a:solidFill>
                      <a:srgbClr val="0000cc"/>
                    </a:solidFill>
                    <a:latin typeface="Garamond"/>
                  </a:rPr>
                  <a:t>s’   ‘t’   ‘o’  ‘p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70536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46748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5328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31D-EFD2-454E-B30E-6733E565B1D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La función “length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 para devolver el número de posiciones útiles que tiene un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en el caso anterior, length(nombre) sería igual a 4, que sería el número de posiciones útiles de la cad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th nos sirve para saber cuando parar de examinar un string cuando lo hacemos carácter por cará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B0F-ED8A-4136-95E8-CADFB2669BB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 un programa que te pida una frase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frase contiene una ‘A’ mayúscula escriba “Esta frase tiene A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frase no contiene una ‘A’ mayúscula escriba “Esta frase no tiene 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1D0-2198-4BED-8423-06C2124A863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que pedir un string por el teclado (fác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que avanzar por el string hasta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ontremos una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lleguemos al final de las posiciones útil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ha encontrado una ‘A’ hay que imprimir un mensaje y si no, otro mensaje (fá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s concentraremos en el problema del 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D9D-FAAE-4313-B6C4-2927E9EDB30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se pide un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se examina l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hasta que se encuentra una ‘A’ o se acaban las posiciones ú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(las de arrib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34520" y="3200400"/>
            <a:ext cx="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65720" y="3470400"/>
            <a:ext cx="1956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PET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E7A-6DA5-44E5-BF5A-FE312102616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cadena: string; posicion: integ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ya recorriendo la tabla posición por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86C-6E8E-4364-A290-86B3BCBC4D1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39F-10C8-4603-A5DE-A22E5D18E61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tratar element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C75-5B03-4C74-88F4-97FA76C1AFD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debe pedirse la cadena por el teclado. La posición es la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hasta que encontremos una ‘A’ o se acaben las posiciones útiles. Es decir, se repite mientras el carácter sea diferente de ‘A’ y la posicion sea menor o igual que las posiciones úti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Si se ha encontrado la A debe imprimirse un mensaje. Si no,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528-DE61-42F3-9E5C-E7568AF3A02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21:52:18Z</dcterms:created>
  <dc:creator>BLANCA CECILIA</dc:creator>
  <dc:description/>
  <dc:language>en-US</dc:language>
  <cp:lastModifiedBy> </cp:lastModifiedBy>
  <cp:lastPrinted>1999-06-16T01:55:46Z</cp:lastPrinted>
  <dcterms:modified xsi:type="dcterms:W3CDTF">2008-02-10T09:36:39Z</dcterms:modified>
  <cp:revision>119</cp:revision>
  <dc:subject/>
  <dc:title>Sin título de diapositiva</dc:title>
</cp:coreProperties>
</file>