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C9D-D761-4D53-ACEC-F89AA5AF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A41-9519-4E26-97EB-CF1F3707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886-F58B-4D60-A1C1-AE8CF833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BAA-1B8D-406B-A152-DA5E8E6B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679-FC2D-41DA-BB69-2442F8D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CF3-775C-4134-AC4E-6E657447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0F7-0C25-4059-9B4D-3F7BEFB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631-56B8-48D2-AA1A-7421160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28E-1686-4333-B851-A1708837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FD4-6EB6-4C01-B671-6A997965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E61-58F8-4DBA-9CF0-06AF3A4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13-3946-4BAD-AFA8-7A55129C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9757-D3A9-4091-BF0F-9ECA722C32C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6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967-4544-4E5E-BE51-44BFB8E30F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un procedure es un “programa en pequeño”. En efecto, si hubiéramos puesto program y declarado nota, sería un programa Pascal vál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ta” no se declara porque está declarada en el programa principal. A esto se le llama “acceso a una variable global desde el procedimiento” y ya veremos que está 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6AC-324E-4EA7-9E0E-0515A2DF6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aquí la declaración del procedure PideNot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de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88080" y="3733920"/>
            <a:ext cx="41461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 LE LLAMA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39F-2C55-4634-B231-86C6512849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ómo funciona esto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ez que la ejecución llega al lugar donde dice “PideNota”, Pascal ejecuta el código del procedimiento “PideNo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R UN EJEMPLO EN LA PIZAR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hecho es como si hubiéramos puesto el código del procedimiento en el lugar donde indica “PideNot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B0F-7EB7-4C7E-943C-74FF433FA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ventajas tiene esto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el programa es más fácil de construir si uno lo divide en sub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más fácil de entender y modif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ahorra trabajo: en un programa largo, podríamos escribir varias veces “PideNota” en vez de repetir todo el conjunto de instruc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5FD-1234-4B84-8925-91EA5EB41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tensión del lenguaj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, una vez definido, el procedimiento se convierte en una instrucción más del lengu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ual que escribimos “writeln” podemos escribir “PideNota”. Es como si el lenguaje Pascal se hubiera extend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emos conside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deNota es una instrucción definida por e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 es un procedimiento definido por el lengu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ABA-2500-41DB-8EFE-E27E72A6E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r el ejercicio anterior para que, cada vez que nos pregunte una nota, nos diga de que materia quiere la nota (recuerden que las materias tienen número no 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C19-8F29-434C-8A12-2E27C473F4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blema que se prese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blema es que lo que escribe el mensaje pidiendo la nota es el procedimiento PideNo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quien tiene la información sobre la materia es el program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B5C-FE95-4CEE-9CA2-0AA0C6CEAD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e el programa principal pase la información sobre la asignatura al procedimiento PideN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se haría es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35268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800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ced. PideNo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0680" y="40035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4240" y="3927600"/>
            <a:ext cx="24544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ERVAR EN LA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CBA-861D-470E-9E04-CCF760324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azonamient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mos dicho que podemos ver las instrucciones como procedimientos predefinidos por el lenguaje. Vemos como resuelven las instrucciones ese probl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ver a “write” como un procedimiento predefinido en el lenguaje que su función es escribir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es, queremos escribir una información que tenemos en el programa principal. ¿Cómo pasamos la información a “writ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411-DFCC-4BEA-AED6-3DC3EA99E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imp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:=5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706-7DC7-4F6A-BD75-B5C99466E8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cc"/>
                </a:solidFill>
                <a:latin typeface="Times New Roman"/>
              </a:rPr>
              <a:t>Programación con componentes reusables de software</a:t>
            </a:r>
            <a:endParaRPr b="0" lang="en-US" sz="4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ingenierías, para construir un producto sólo se ensamblan las piez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n la programación, a veces se programa la aplicación hasta los más mínim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ía dese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ieran componentes reus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ar la aplicación fuera solamente ensambla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se podría hacer más fácil la programación de grandes apl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ADB-B341-45BA-B789-CDA898584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ómo lo hacemos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principal pasa la información sobre el numero que quiere escribir al “procedimiento” 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se hace? Encerrando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657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105520"/>
            <a:ext cx="24382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. “wri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19112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41760" y="4308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F5E-2F21-45B8-8889-C5A6525B83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contrando la 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la expresión que encerramos entre paréntesis para que el “write” la escriba se le llama parámetro actual del “wri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formación pasa del programa principal al write por un parámetro actual encerrado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mismo pasará con el procedimiento “PideNo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A2E-B0E5-4307-9153-98A7B68C2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quisiéramos es que PideNota tuviera un parámetro actual donde pudiéramos pasar el valor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pudiéramos poner PideNota(ma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gual que ponemos writeln(ma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esta forma PideNota(1) querría decir nota de la materi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gual que ponemos writeln(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5F6-3162-44CA-AC1E-8A1B495ABF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solu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tenemos que decidir que PideNota tenga un parámetro actual y qué significa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declarar PideNota para que acepte ese parámetro ac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se hace es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FD4-CE5B-45C9-8CA2-D7C9180F0B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uestro primer procedimiento con parámetros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ideNota (mat: intege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nota de la materia’, ma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ota&lt;0) or (nota&gt;1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nota debe estar entre 0 y 10. Prueba de nue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010280" y="2362320"/>
            <a:ext cx="5335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C02-23C1-4397-8A5A-BD83B8F0BB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plic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:integer, es una forma de decir que el procedimiento aceptará parámetros actuales de tipo ent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at se le llama parámetro formal y se representa al parámetro actual dentro del proced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arámetro formal es una variable que se llena con el parámetro actual cuando se ejecuta el proced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693-9B80-4DD7-A1BA-AFE1E2D209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que desde el programa principal ejecutamos PideNota(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 como hemos definido PideNota(mat:integer) quiere decir que mat valdrá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ar el procedimiento PideNota(1), PideNota(2) ... enfatizando el valor de 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B30-6021-4BEC-8DF2-85390503C5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aquí la declaración del procedure PideNot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deNota(materi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61B-1EE7-429E-BCDB-58FBEF1316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ámetros: forma con que el programa principal se comunica con los procedimi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n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declaran, son parámetros for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usan, son parámetros act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cualquier expresión, por ej. PideNota(1+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ejecuta el programa, los parámetros formales se reemplazan por los act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BFD-3F1A-45D9-9862-3C042EC2F5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vez definido PideNota(materia) es una instrucción del lenguaje, como puede serlo, writeln(ma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uiremos con ese paralelismo entre instrucciones y procedimientos, que nos puede ser muy ú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702-7DBB-4850-A85A-64793B5A4A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a idea: procedimientos y fun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“subprogramas” dentro de un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ven para escribir de una sola vez tareas repetitivas y así ahorrar esfuer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las variables, han de ser declarados o u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5F5-B4BC-4D3E-B3B5-16DE52469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o 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EscribePotencia(base,exponente:r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Acumulado:real; contador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ador:=1; ProductoAcumulado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tador&lt;=exponente)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Acumulado:=ProductoAcumulado*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dor:=contador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ProductoAcumulado:0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E22-DDF8-4958-8DDF-1E0501AEE0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plic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que pasa cuando uno hace EscribePotencia(5,0), EscribePotencia(5,1), EscribePotencia(4,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que se puede poner EscribePotencia(2*numero+5 div precio, 3*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AAF-FFB2-4660-AF88-03D8710093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 princip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EscribePotenci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La potencia es ’); EscribePotencia(labase,elexponente); write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EB8-8F29-4D23-97A9-F3E6AEFBB0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Una diferencia entre readln y writel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Un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67652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Uno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5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er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6120" y="579132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quí, el valor de la variable “número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cambia. Sigue siendo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37280" y="5756400"/>
            <a:ext cx="39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quí el valor de la variable h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sido cambiado por 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123720" y="4876560"/>
            <a:ext cx="1143000" cy="9903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723920"/>
            <a:ext cx="99072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795-5BAB-4633-BBBB-087D8DFAE2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di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” no cambia el valor de la variable que se le pasa y “Readln”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érminos de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ln” no cambia el valor de la variable pasada como parámetro actual, se le llama “paso de parámetros por val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ln” cambia el valor de la variable pasada como parámetro actual, se le llama “paso de parámetros por referenci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BD5-FF53-4CA9-BC85-3D4D40E167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 general,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962520"/>
            <a:ext cx="33526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1 (var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20960" y="449568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000" y="32004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tiene un 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013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960" y="46483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vale lo mis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320" y="552780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espués de la ejecución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cedimiento, el valor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arámetro no cambia, como en writel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4640" y="2209680"/>
            <a:ext cx="12794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43480" y="3962520"/>
            <a:ext cx="33526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1 (var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9520" y="449568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2560" y="32004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tiene un 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013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41400" y="464832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no tiene porque valer lo mis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5360" y="533412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espués de la ejecución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cedimiento, el valor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arámetro puede cambiar, como en readl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9160" y="2209680"/>
            <a:ext cx="2190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CE9-B8D4-4D27-AA6E-15E59C4FBA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Valor vrs 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sta ahora, los procedimientos que hemos hecho han pasado los parámetros por valor. EscribePotencia(labase,elexponente) no cambiaba el valor de las variables. Tampoco PideNota(ma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 paso por referencia es útil cuando se trata de devolver un valor al programa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A3C-9A25-4659-85DC-7B9A84B5DD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Valor vrs. 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352680"/>
            <a:ext cx="24386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800600"/>
            <a:ext cx="24386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1148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3760" y="2209680"/>
            <a:ext cx="12794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5640" y="2209680"/>
            <a:ext cx="2190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335268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800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89680" y="40384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73960" y="335268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960" y="4800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1696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2880" y="40384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2920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7732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828800"/>
            <a:ext cx="0" cy="403848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880" y="58323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jemplo: wri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44520" y="56800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jemplo: 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A42-67A4-49E3-B53F-094A44397C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aso por 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un procedimiento Obtiene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ure ObtieneDato (var dato: inte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programa principal ObtieneDato(var1) hará que var1 tenga el valor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decir, a la variable del parámetro formal se le asigna el valor que tiene el parámetro actual AL FINAL del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743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 SE INDICA QUE EL PARÁMETRO SE PASA POR REFERENC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EC1-CC38-4CB7-96A2-B486EC5925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ideNota (var n:rea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nota de la materia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&lt;0) or (n&gt;1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nota debe estar entre 0 y 10. Prueba de nue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579132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 PUEDE OBSERVAR QUE AL FINAL, N TIENE UN VALOR ENTRE 0 y 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C22-C58A-4FAB-9CBB-4FB8C67172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procedimientos y funciones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&lt;nombre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tip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482-88F9-4535-865C-A57DB87A94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aquí la declaración del procedure PideNot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deNota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10080" y="3581280"/>
            <a:ext cx="4600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TA ADQUIERE EL VALO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N AL FINAL DE PIDENO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07A-399B-40E1-9C19-0236ECC497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uál es la mejor solución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primera versión de PideNota devolvía el valor accediendo a una variable global (variable del programa princip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egunda versión lo hace a través de parámetros (pasados por referenci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EMPRE ES PREFERIBLE QUE TODA LA INFORMACIÓN ENTRE PROCEDIMIENTOS Y FUNCIONES Y EL PROGRAMA PRINCIPAL SE PASE POR PARÁMETROS Y NO POR VARIABLES GLOB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ACB-1D5C-4A92-ADBC-9E8E81BC885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EscribePotenci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La potencia es ’); EscribePotencia(labase,elexponente); write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3A3-3147-438C-B20E-A05615C7D9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programa anterior, hay partes del código que se repiten y que hacen una función clara -pedir la base y el expon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razones de comodidad y legibilidad, estaría mejor que hiciéramos un procedimiento para resolve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283-D5C4-4FA9-841F-07DB45A6D0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edirBaseExponente(var b: real; var e:r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exponente’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B7D-BC45-4C77-A0E3-2298D469CA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EscribePotencia y PedirBaseExponen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La potencia es ’); EscribePotencia(labase,elexponente); write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4A1-8A54-4736-98B6-1FE97A949A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piedades del paso de parámetr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os parámetros pueden ser por valor y otras por re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los parámetros por valor se les puede pasar cualquier expresión. A los de referencia, sólo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ePotencia(2*numero,15) es cor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dirBaseExponente(2*numero, 15) no lo es, deben ser dos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090-EB34-463A-8C08-29A86E9D6A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como los procedimientos pero devuelven un valor QUE SE LLAMA RESUL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a hemos visto algunas predefinidas en Pas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qr(x) devuelve el cuadrado de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 es un string, length(s) devuelve el número de posiciones usada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devuelven un valor, no son instrucciones sino exp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length(s)*2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:=(sqr(x)+sqr(y))/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DFA-4C24-491B-837A-F912F899F9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procedimientos y funciones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&lt;nombre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tip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C68-384F-43F3-976A-DB836CE627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funciones 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ure &lt;nombre&gt;(lista pars formales): &lt;tiporesultado&gt;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otros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variables loc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ombre&gt;:=&lt;expresión que da el resultad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F68-48CD-4183-B580-2DC43B21D8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procedimientos 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&lt;nombre&gt;(lista de parámetros formal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otros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variables loc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4800600"/>
            <a:ext cx="50292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las variables del programa les llamaremos variables GLOBA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BBA-A534-4FD6-983F-B3519B044B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la función dob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tion doble(n: integer):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ble:=2*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doble(2) daría 4, doble(6) daría 8, doble(var1) daría el doble del valor de va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 podríamos escrib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:=doble(var1) si quisiéramos doblar una variable ent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E54-3C3F-46A7-A9E0-4DAB386353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Función Potencia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tion Potencia(b,e:real):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Acumulado:real; contador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ador:=1; ProductoAcumulado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tador&lt;=exponente)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Acumulado:=ProductoAcumulado*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dor:=contador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:=Producto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EB6-4C26-40EB-BE96-AFF92DAF22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Potencia y PedirBaseExponen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potencia es ’, Potencia(labase,elexponent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2D2-F2FF-491F-9670-E713E7D38A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 hay un operador de potenciación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la función Potencia puede ser muy útil y se puede reaprovech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reaprovechamiento es el objetivo principal de las funciones y procedimientos en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2F9-65E6-4914-8592-04CC2C2939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ay un montón de procedimientos y funciones ya declara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bemos saber aprovecharlos. Están reunidos en colecciones llamadas “units”: Crt, Dos, Graph, Graph3, Overlay, Printer, Turbo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 clrscr (procedimiento sin parámetros que limpia la pantalla) está definido en C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dos los procedimientos que hay en cada uno de estos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la descripción de lo que ha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tipos de parámetros y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cuentran en la ayuda de Turbo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F53-CB1A-4F79-8985-D1D38C4EBD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ra usar los “units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un programa se puede h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ya se pueden usar todos los procedimientos y funciones definidos en Crt (entre ellos clrscr) sin tener que declara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075-7963-453D-A712-1A6F8884D1B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Universidad “Mi tío es delgado” hay 5 materias que se numeran del 1 al 5. Queremos un programa que le pida la nota de cada una de estas materias y saque la media aritmé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mos especialmente interesados en que el alumno no pueda poner notas incorrectas (más de 10 o menos de 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07F-C74E-43BA-8133-7D88D9254D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la 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&lt;pedir no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022-6239-4180-BA87-ABF3D2E83F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hora bie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emos pedir la nota de forma que el alumno no ponga mej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podría ser otro subprograma que pidiera notas hasta que le introdujéramos una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08A-3698-4BF1-9A3C-95A52827CB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uestro primer procedimiento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ideNo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nota de la materia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ota&lt;0) or (nota&gt;1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nota debe estar entre 0 y 10. Prueba de nue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C86-713A-43DB-9FDD-E0F3AAF52D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4T19:04:28Z</dcterms:created>
  <dc:creator>BLANCA CECILIA</dc:creator>
  <dc:description/>
  <dc:language>en-US</dc:language>
  <cp:lastModifiedBy> </cp:lastModifiedBy>
  <dcterms:modified xsi:type="dcterms:W3CDTF">2008-02-10T09:36:25Z</dcterms:modified>
  <cp:revision>24</cp:revision>
  <dc:subject/>
  <dc:title>Programación de Computadoras I Tema 6</dc:title>
</cp:coreProperties>
</file>