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26.xml.rels" ContentType="application/vnd.openxmlformats-package.relationships+xml"/>
  <Override PartName="/ppt/slides/_rels/slide70.xml.rels" ContentType="application/vnd.openxmlformats-package.relationships+xml"/>
  <Override PartName="/ppt/slides/_rels/slide103.xml.rels" ContentType="application/vnd.openxmlformats-package.relationships+xml"/>
  <Override PartName="/ppt/slides/_rels/slide69.xml.rels" ContentType="application/vnd.openxmlformats-package.relationships+xml"/>
  <Override PartName="/ppt/slides/_rels/slide165.xml.rels" ContentType="application/vnd.openxmlformats-package.relationships+xml"/>
  <Override PartName="/ppt/slides/_rels/slide88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68.xml.rels" ContentType="application/vnd.openxmlformats-package.relationshi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122.xml.rels" ContentType="application/vnd.openxmlformats-package.relationships+xml"/>
  <Override PartName="/ppt/slides/_rels/slide66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64.xml.rels" ContentType="application/vnd.openxmlformats-package.relationships+xml"/>
  <Override PartName="/ppt/slides/_rels/slide141.xml.rels" ContentType="application/vnd.openxmlformats-package.relationships+xml"/>
  <Override PartName="/ppt/slides/_rels/slide160.xml.rels" ContentType="application/vnd.openxmlformats-package.relationships+xml"/>
  <Override PartName="/ppt/slides/_rels/slide63.xml.rels" ContentType="application/vnd.openxmlformats-package.relationships+xml"/>
  <Override PartName="/ppt/slides/_rels/slide140.xml.rels" ContentType="application/vnd.openxmlformats-package.relationships+xml"/>
  <Override PartName="/ppt/slides/_rels/slide62.xml.rels" ContentType="application/vnd.openxmlformats-package.relationships+xml"/>
  <Override PartName="/ppt/slides/_rels/slide91.xml.rels" ContentType="application/vnd.openxmlformats-package.relationships+xml"/>
  <Override PartName="/ppt/slides/_rels/slide47.xml.rels" ContentType="application/vnd.openxmlformats-package.relationships+xml"/>
  <Override PartName="/ppt/slides/_rels/slide124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131.xml.rels" ContentType="application/vnd.openxmlformats-package.relationships+xml"/>
  <Override PartName="/ppt/slides/_rels/slide52.xml.rels" ContentType="application/vnd.openxmlformats-package.relationships+xml"/>
  <Override PartName="/ppt/slides/_rels/slide157.xml.rels" ContentType="application/vnd.openxmlformats-package.relationships+xml"/>
  <Override PartName="/ppt/slides/_rels/slide143.xml.rels" ContentType="application/vnd.openxmlformats-package.relationships+xml"/>
  <Override PartName="/ppt/slides/_rels/slide139.xml.rels" ContentType="application/vnd.openxmlformats-package.relationships+xml"/>
  <Override PartName="/ppt/slides/_rels/slide43.xml.rels" ContentType="application/vnd.openxmlformats-package.relationships+xml"/>
  <Override PartName="/ppt/slides/_rels/slide133.xml.rels" ContentType="application/vnd.openxmlformats-package.relationships+xml"/>
  <Override PartName="/ppt/slides/_rels/slide77.xml.rels" ContentType="application/vnd.openxmlformats-package.relationships+xml"/>
  <Override PartName="/ppt/slides/_rels/slide173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14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32.xml.rels" ContentType="application/vnd.openxmlformats-package.relationships+xml"/>
  <Override PartName="/ppt/slides/_rels/slide130.xml.rels" ContentType="application/vnd.openxmlformats-package.relationships+xml"/>
  <Override PartName="/ppt/slides/_rels/slide145.xml.rels" ContentType="application/vnd.openxmlformats-package.relationships+xml"/>
  <Override PartName="/ppt/slides/_rels/slide55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71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56.xml.rels" ContentType="application/vnd.openxmlformats-package.relationships+xml"/>
  <Override PartName="/ppt/slides/_rels/slide172.xml.rels" ContentType="application/vnd.openxmlformats-package.relationships+xml"/>
  <Override PartName="/ppt/slides/_rels/slide120.xml.rels" ContentType="application/vnd.openxmlformats-package.relationships+xml"/>
  <Override PartName="/ppt/slides/_rels/slide78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39.xml.rels" ContentType="application/vnd.openxmlformats-package.relationships+xml"/>
  <Override PartName="/ppt/slides/_rels/slide116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174.xml.rels" ContentType="application/vnd.openxmlformats-package.relationships+xml"/>
  <Override PartName="/ppt/slides/_rels/slide97.xml.rels" ContentType="application/vnd.openxmlformats-package.relationships+xml"/>
  <Override PartName="/ppt/slides/_rels/slide44.xml.rels" ContentType="application/vnd.openxmlformats-package.relationships+xml"/>
  <Override PartName="/ppt/slides/_rels/slide27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45.xml.rels" ContentType="application/vnd.openxmlformats-package.relationships+xml"/>
  <Override PartName="/ppt/slides/_rels/slide2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67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98.xml.rels" ContentType="application/vnd.openxmlformats-package.relationships+xml"/>
  <Override PartName="/ppt/slides/_rels/slide175.xml.rels" ContentType="application/vnd.openxmlformats-package.relationships+xml"/>
  <Override PartName="/ppt/slides/_rels/slide28.xml.rels" ContentType="application/vnd.openxmlformats-package.relationships+xml"/>
  <Override PartName="/ppt/slides/_rels/slide170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1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137.xml.rels" ContentType="application/vnd.openxmlformats-package.relationships+xml"/>
  <Override PartName="/ppt/slides/_rels/slide146.xml.rels" ContentType="application/vnd.openxmlformats-package.relationships+xml"/>
  <Override PartName="/ppt/slides/_rels/slide6.xml.rels" ContentType="application/vnd.openxmlformats-package.relationships+xml"/>
  <Override PartName="/ppt/slides/_rels/slide169.xml.rels" ContentType="application/vnd.openxmlformats-package.relationships+xml"/>
  <Override PartName="/ppt/slides/_rels/slide41.xml.rels" ContentType="application/vnd.openxmlformats-package.relationships+xml"/>
  <Override PartName="/ppt/slides/_rels/slide53.xml.rels" ContentType="application/vnd.openxmlformats-package.relationships+xml"/>
  <Override PartName="/ppt/slides/_rels/slide30.xml.rels" ContentType="application/vnd.openxmlformats-package.relationships+xml"/>
  <Override PartName="/ppt/slides/_rels/slide158.xml.rels" ContentType="application/vnd.openxmlformats-package.relationships+xml"/>
  <Override PartName="/ppt/slides/_rels/slide149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166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151.xml.rels" ContentType="application/vnd.openxmlformats-package.relationships+xml"/>
  <Override PartName="/ppt/slides/_rels/slide51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2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.xml.rels" ContentType="application/vnd.openxmlformats-package.relationships+xml"/>
  <Override PartName="/ppt/slides/_rels/slide40.xml.rels" ContentType="application/vnd.openxmlformats-package.relationships+xml"/>
  <Override PartName="/ppt/slides/_rels/slide168.xml.rels" ContentType="application/vnd.openxmlformats-package.relationships+xml"/>
  <Override PartName="/ppt/slides/_rels/slide2.xml.rels" ContentType="application/vnd.openxmlformats-package.relationships+xml"/>
  <Override PartName="/ppt/slides/_rels/slide75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153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148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54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155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74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73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72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17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75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170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43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37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66.xml" ContentType="application/vnd.openxmlformats-officedocument.presentationml.slide+xml"/>
  <Override PartName="/ppt/slides/slide128.xml" ContentType="application/vnd.openxmlformats-officedocument.presentationml.slide+xml"/>
  <Override PartName="/ppt/slides/slide152.xml" ContentType="application/vnd.openxmlformats-officedocument.presentationml.slide+xml"/>
  <Override PartName="/ppt/slides/slide56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69.xml" ContentType="application/vnd.openxmlformats-officedocument.presentationml.slide+xml"/>
  <Override PartName="/ppt/slides/slide7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168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67.xml" ContentType="application/vnd.openxmlformats-officedocument.presentationml.slide+xml"/>
  <Override PartName="/ppt/slides/slide1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164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165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  <p:sldId id="401" r:id="rId149"/>
    <p:sldId id="402" r:id="rId150"/>
    <p:sldId id="403" r:id="rId151"/>
    <p:sldId id="404" r:id="rId152"/>
    <p:sldId id="405" r:id="rId153"/>
    <p:sldId id="406" r:id="rId154"/>
    <p:sldId id="407" r:id="rId155"/>
    <p:sldId id="408" r:id="rId156"/>
    <p:sldId id="409" r:id="rId157"/>
    <p:sldId id="410" r:id="rId158"/>
    <p:sldId id="411" r:id="rId159"/>
    <p:sldId id="412" r:id="rId160"/>
    <p:sldId id="413" r:id="rId161"/>
    <p:sldId id="414" r:id="rId162"/>
    <p:sldId id="415" r:id="rId163"/>
    <p:sldId id="416" r:id="rId164"/>
    <p:sldId id="417" r:id="rId165"/>
    <p:sldId id="418" r:id="rId166"/>
    <p:sldId id="419" r:id="rId167"/>
    <p:sldId id="420" r:id="rId168"/>
    <p:sldId id="421" r:id="rId169"/>
    <p:sldId id="422" r:id="rId170"/>
    <p:sldId id="423" r:id="rId171"/>
    <p:sldId id="424" r:id="rId172"/>
    <p:sldId id="425" r:id="rId173"/>
    <p:sldId id="426" r:id="rId174"/>
    <p:sldId id="427" r:id="rId175"/>
    <p:sldId id="428" r:id="rId176"/>
    <p:sldId id="429" r:id="rId177"/>
    <p:sldId id="430" r:id="rId1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slide" Target="slides/slide146.xml"/><Relationship Id="rId150" Type="http://schemas.openxmlformats.org/officeDocument/2006/relationships/slide" Target="slides/slide147.xml"/><Relationship Id="rId151" Type="http://schemas.openxmlformats.org/officeDocument/2006/relationships/slide" Target="slides/slide148.xml"/><Relationship Id="rId152" Type="http://schemas.openxmlformats.org/officeDocument/2006/relationships/slide" Target="slides/slide149.xml"/><Relationship Id="rId153" Type="http://schemas.openxmlformats.org/officeDocument/2006/relationships/slide" Target="slides/slide150.xml"/><Relationship Id="rId154" Type="http://schemas.openxmlformats.org/officeDocument/2006/relationships/slide" Target="slides/slide151.xml"/><Relationship Id="rId155" Type="http://schemas.openxmlformats.org/officeDocument/2006/relationships/slide" Target="slides/slide152.xml"/><Relationship Id="rId156" Type="http://schemas.openxmlformats.org/officeDocument/2006/relationships/slide" Target="slides/slide153.xml"/><Relationship Id="rId157" Type="http://schemas.openxmlformats.org/officeDocument/2006/relationships/slide" Target="slides/slide154.xml"/><Relationship Id="rId158" Type="http://schemas.openxmlformats.org/officeDocument/2006/relationships/slide" Target="slides/slide155.xml"/><Relationship Id="rId159" Type="http://schemas.openxmlformats.org/officeDocument/2006/relationships/slide" Target="slides/slide156.xml"/><Relationship Id="rId160" Type="http://schemas.openxmlformats.org/officeDocument/2006/relationships/slide" Target="slides/slide157.xml"/><Relationship Id="rId161" Type="http://schemas.openxmlformats.org/officeDocument/2006/relationships/slide" Target="slides/slide158.xml"/><Relationship Id="rId162" Type="http://schemas.openxmlformats.org/officeDocument/2006/relationships/slide" Target="slides/slide159.xml"/><Relationship Id="rId163" Type="http://schemas.openxmlformats.org/officeDocument/2006/relationships/slide" Target="slides/slide160.xml"/><Relationship Id="rId164" Type="http://schemas.openxmlformats.org/officeDocument/2006/relationships/slide" Target="slides/slide161.xml"/><Relationship Id="rId165" Type="http://schemas.openxmlformats.org/officeDocument/2006/relationships/slide" Target="slides/slide162.xml"/><Relationship Id="rId166" Type="http://schemas.openxmlformats.org/officeDocument/2006/relationships/slide" Target="slides/slide163.xml"/><Relationship Id="rId167" Type="http://schemas.openxmlformats.org/officeDocument/2006/relationships/slide" Target="slides/slide164.xml"/><Relationship Id="rId168" Type="http://schemas.openxmlformats.org/officeDocument/2006/relationships/slide" Target="slides/slide165.xml"/><Relationship Id="rId169" Type="http://schemas.openxmlformats.org/officeDocument/2006/relationships/slide" Target="slides/slide166.xml"/><Relationship Id="rId170" Type="http://schemas.openxmlformats.org/officeDocument/2006/relationships/slide" Target="slides/slide167.xml"/><Relationship Id="rId171" Type="http://schemas.openxmlformats.org/officeDocument/2006/relationships/slide" Target="slides/slide168.xml"/><Relationship Id="rId172" Type="http://schemas.openxmlformats.org/officeDocument/2006/relationships/slide" Target="slides/slide169.xml"/><Relationship Id="rId173" Type="http://schemas.openxmlformats.org/officeDocument/2006/relationships/slide" Target="slides/slide170.xml"/><Relationship Id="rId174" Type="http://schemas.openxmlformats.org/officeDocument/2006/relationships/slide" Target="slides/slide171.xml"/><Relationship Id="rId175" Type="http://schemas.openxmlformats.org/officeDocument/2006/relationships/slide" Target="slides/slide172.xml"/><Relationship Id="rId176" Type="http://schemas.openxmlformats.org/officeDocument/2006/relationships/slide" Target="slides/slide173.xml"/><Relationship Id="rId177" Type="http://schemas.openxmlformats.org/officeDocument/2006/relationships/slide" Target="slides/slide174.xml"/><Relationship Id="rId178" Type="http://schemas.openxmlformats.org/officeDocument/2006/relationships/slide" Target="slides/slide175.xml"/><Relationship Id="rId17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15994-B345-4A4E-BEB3-9D79DF667F3B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1 -mitja setma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2 -2 setmanes i mitj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47 per setma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9F3E-B8FD-4C57-A2B8-AC789ABBE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990360" y="4130640"/>
            <a:ext cx="7467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AAAF-958A-4059-B564-318089381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816800" y="19810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990360" y="413064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816800" y="413064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2EA3-2536-40B0-862E-0931CED77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15400" y="198108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40440" y="198108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990360" y="413064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15400" y="413064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40440" y="413064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81F5-262C-4509-878D-A993F8A95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0D98-FE2E-4774-AA87-3AA43494D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0D69-D6A5-4092-9DE4-9C01A64CF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364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16800" y="1981080"/>
            <a:ext cx="364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97C2-4B79-425A-94BA-CC7C8A2E9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00D2-5940-46A6-AE32-DF15EEC68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2133720" y="228240"/>
            <a:ext cx="632448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6D5A-954D-43E0-9787-ACA2E9CDE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16800" y="1981080"/>
            <a:ext cx="364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90360" y="413064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4B13-27A4-4DB2-8695-A79ACC2C8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364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16800" y="19810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816800" y="413064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077F-DA8A-40EB-8CE0-476EAC41E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16800" y="19810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90360" y="4130640"/>
            <a:ext cx="7467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7B1F-CB1F-4C5E-AF7D-5E1F3AC2B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332F6-B2C2-4BFC-B625-2555A6B3121B}" type="slidenum"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695600" y="977760"/>
            <a:ext cx="29880" cy="24120"/>
          </a:xfrm>
          <a:custGeom>
            <a:avLst/>
            <a:gdLst/>
            <a:ahLst/>
            <a:rect l="l" t="t" r="r" b="b"/>
            <a:pathLst>
              <a:path w="74" h="61">
                <a:moveTo>
                  <a:pt x="74" y="33"/>
                </a:moveTo>
                <a:lnTo>
                  <a:pt x="74" y="33"/>
                </a:lnTo>
                <a:lnTo>
                  <a:pt x="60" y="0"/>
                </a:lnTo>
                <a:lnTo>
                  <a:pt x="0" y="61"/>
                </a:lnTo>
                <a:lnTo>
                  <a:pt x="30" y="30"/>
                </a:lnTo>
                <a:lnTo>
                  <a:pt x="74" y="33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695600" y="977760"/>
            <a:ext cx="23760" cy="24120"/>
          </a:xfrm>
          <a:custGeom>
            <a:avLst/>
            <a:gdLst/>
            <a:ahLst/>
            <a:rect l="l" t="t" r="r" b="b"/>
            <a:pathLst>
              <a:path w="62" h="62">
                <a:moveTo>
                  <a:pt x="62" y="1"/>
                </a:moveTo>
                <a:lnTo>
                  <a:pt x="61" y="0"/>
                </a:lnTo>
                <a:lnTo>
                  <a:pt x="0" y="61"/>
                </a:lnTo>
                <a:lnTo>
                  <a:pt x="2" y="62"/>
                </a:lnTo>
                <a:lnTo>
                  <a:pt x="62" y="1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695600" y="977760"/>
            <a:ext cx="23760" cy="24120"/>
          </a:xfrm>
          <a:custGeom>
            <a:avLst/>
            <a:gdLst/>
            <a:ahLst/>
            <a:rect l="l" t="t" r="r" b="b"/>
            <a:pathLst>
              <a:path w="62" h="61">
                <a:moveTo>
                  <a:pt x="0" y="60"/>
                </a:moveTo>
                <a:lnTo>
                  <a:pt x="2" y="61"/>
                </a:lnTo>
                <a:lnTo>
                  <a:pt x="32" y="30"/>
                </a:lnTo>
                <a:lnTo>
                  <a:pt x="62" y="0"/>
                </a:lnTo>
                <a:lnTo>
                  <a:pt x="2" y="61"/>
                </a:lnTo>
                <a:lnTo>
                  <a:pt x="0" y="6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1695600" y="988920"/>
            <a:ext cx="29880" cy="12960"/>
          </a:xfrm>
          <a:custGeom>
            <a:avLst/>
            <a:gdLst/>
            <a:ahLst/>
            <a:rect l="l" t="t" r="r" b="b"/>
            <a:pathLst>
              <a:path w="74" h="33">
                <a:moveTo>
                  <a:pt x="0" y="33"/>
                </a:moveTo>
                <a:lnTo>
                  <a:pt x="0" y="33"/>
                </a:lnTo>
                <a:lnTo>
                  <a:pt x="74" y="0"/>
                </a:lnTo>
                <a:lnTo>
                  <a:pt x="30" y="2"/>
                </a:lnTo>
                <a:lnTo>
                  <a:pt x="0" y="33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2841200" y="1843200"/>
            <a:ext cx="60480" cy="48960"/>
          </a:xfrm>
          <a:custGeom>
            <a:avLst/>
            <a:gdLst/>
            <a:ahLst/>
            <a:rect l="l" t="t" r="r" b="b"/>
            <a:pathLst>
              <a:path w="76" h="63">
                <a:moveTo>
                  <a:pt x="76" y="34"/>
                </a:moveTo>
                <a:lnTo>
                  <a:pt x="76" y="34"/>
                </a:lnTo>
                <a:lnTo>
                  <a:pt x="62" y="0"/>
                </a:lnTo>
                <a:lnTo>
                  <a:pt x="0" y="63"/>
                </a:lnTo>
                <a:lnTo>
                  <a:pt x="31" y="31"/>
                </a:lnTo>
                <a:lnTo>
                  <a:pt x="76" y="34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12839760" y="1841400"/>
            <a:ext cx="50760" cy="50760"/>
          </a:xfrm>
          <a:custGeom>
            <a:avLst/>
            <a:gdLst/>
            <a:ahLst/>
            <a:rect l="l" t="t" r="r" b="b"/>
            <a:pathLst>
              <a:path w="63" h="64">
                <a:moveTo>
                  <a:pt x="63" y="1"/>
                </a:moveTo>
                <a:lnTo>
                  <a:pt x="62" y="0"/>
                </a:lnTo>
                <a:lnTo>
                  <a:pt x="0" y="62"/>
                </a:lnTo>
                <a:lnTo>
                  <a:pt x="1" y="64"/>
                </a:lnTo>
                <a:lnTo>
                  <a:pt x="63" y="1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12839760" y="1843200"/>
            <a:ext cx="50760" cy="48960"/>
          </a:xfrm>
          <a:custGeom>
            <a:avLst/>
            <a:gdLst/>
            <a:ahLst/>
            <a:rect l="l" t="t" r="r" b="b"/>
            <a:pathLst>
              <a:path w="63" h="63">
                <a:moveTo>
                  <a:pt x="0" y="61"/>
                </a:moveTo>
                <a:lnTo>
                  <a:pt x="1" y="63"/>
                </a:lnTo>
                <a:lnTo>
                  <a:pt x="32" y="31"/>
                </a:lnTo>
                <a:lnTo>
                  <a:pt x="63" y="0"/>
                </a:lnTo>
                <a:lnTo>
                  <a:pt x="1" y="63"/>
                </a:lnTo>
                <a:lnTo>
                  <a:pt x="0" y="61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12841200" y="1865160"/>
            <a:ext cx="60480" cy="27000"/>
          </a:xfrm>
          <a:custGeom>
            <a:avLst/>
            <a:gdLst/>
            <a:ahLst/>
            <a:rect l="l" t="t" r="r" b="b"/>
            <a:pathLst>
              <a:path w="76" h="34">
                <a:moveTo>
                  <a:pt x="0" y="34"/>
                </a:moveTo>
                <a:lnTo>
                  <a:pt x="0" y="34"/>
                </a:lnTo>
                <a:lnTo>
                  <a:pt x="76" y="0"/>
                </a:lnTo>
                <a:lnTo>
                  <a:pt x="31" y="2"/>
                </a:lnTo>
                <a:lnTo>
                  <a:pt x="0" y="34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Programación de Computadoras I</a:t>
            </a:r>
            <a:br>
              <a:rPr sz="4400"/>
            </a:b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(temas 1 y 2)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cent-Ramon Palasí Lalla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C093-30D6-48E7-827C-A34F1605316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La computadora es una máquina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s máquinas resuelven problemas. Ascensor, tostadora, coch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o la computadora resuelve MUCHOS problem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2F86-46A0-40C2-8407-3BD002AD3B3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Pregunta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¿Qué pasaría con este program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gram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mpuest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v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VA: 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VA:=0.13*200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(preci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0576-861A-4181-9865-4565146917EB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Respuesta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ría error. La computadora no lo aceptarí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computadora razona así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o precio no está entre comillas, entonces es una expresión que debo calcu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o no es un número, debe ser una var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o es una variable, debe estar declarada donde pone “var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o no está declarada. Por tanto: Error. Variable no declar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8407-11F2-4589-8BCA-89D55FF37F3A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Conclusión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ben declararse TODAS las variables que intervienen en el progra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92EE-5831-4627-A051-D4FCAD574307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Pregunta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¿Es correcto el siguiente programa? ¿Por qué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gram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ecio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v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ecio1: 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ecio2: integ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ecio1:=precio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DD81-A2C2-4EA4-A17C-29C2C9AAC311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Respuesta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. “precio1” no le hemos puesto valor. Por tanto, puede tener cualquier valor que quiera la computador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o “precio2” recibe el valor de “precio1”,  tanbién puede tener cualquier val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 general, antes de utilizar cualquier variable le hemos de asignar un valor. A esto se le llama “inicializar la variable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0517-3067-4452-AFF8-CB128017C13A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Pregunta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¿Es correcto el siguiente programa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gram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ecio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v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ecio1: 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ecio2: integ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ecio1:=500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ecio1:=precio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BFEA-3650-4029-81A0-B6D23CBDF46B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Respuesta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í, para que sea correcto, todas las variables deben ser inicializadas (asignarles un valor antes de utilizarla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o aquí se inicializan las dos. Por tanto, correc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ón: TODAS LAS VARIABLES DEBEN SER INICIALIZADAS ANTES DE USARL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D3CD-8DC1-4C1C-ABB4-10D96B5CB1DC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Las dos reglas de oro de las variables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era regla de oro: Todas las variables que hay en un programa deben ser declarad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gunda regla de oro: Todas las variables deben ser inicializadas (asignarles un valor) antes de utilizarl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C2DF-5DE5-4BCA-9F06-98C1C72C1DBE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Pregunta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¿Es correcto el siguiente programa? ¿Por qué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gram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egunto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v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ecio1: 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ecio1:=1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ecio1+1 :=precio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5821-01E0-4C48-A131-AF6E4308A380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Respuesta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No. La sintaxis de una asignación es &lt;nomvariable&gt;:=&lt;expresión&gt;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a expresión puede estar a la derecha, pero no a la izquierda, donde sólo puede haber el nombre de una vari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C97E-845D-4BBF-8D3B-8FFF344BA004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133360" y="228240"/>
            <a:ext cx="7010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Las computadoras resuelven muchos problemas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o hay qué decirle que problemas queremos que resuel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eso se le llama PROGRAM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FB80-80B7-409E-83D1-FBB6D9CC1CE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Resumen de las variables enteras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ben ser declaradas todas en la “zona” var como “nombre:integer”. Deben ser inicializadas (asignar un valor) todas antes de usarl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ara guardar un valor en ellas, &lt;nombre&gt;:=&lt;expresión&gt; (se guardará el valor calculado a partir de la expresió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ara escribir su valor por pantalla 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write(nomb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ara escribir una expresión que las contenga 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write(expresió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CD21-AAA6-4E4B-A6D4-DA1EF94C6BAF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Tantas variables como se quiera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Retomemos el ejemplo anteri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gram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mpuest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v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VA: 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VA:=0.13*200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(IV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7FBE-28EF-4EDE-8817-8997B7882920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Tantas variables como se quiera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 podría haber escrito así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gram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mpuesto_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v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ecio_sin_IVA: 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VA: 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ecio_sin_IVA:=200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VA:=0.13*precio_sin_IV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(‘El IVA de este producto es ‘, IV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 flipH="1">
            <a:off x="6477120" y="4343400"/>
            <a:ext cx="914400" cy="1295280"/>
          </a:xfrm>
          <a:prstGeom prst="line">
            <a:avLst/>
          </a:prstGeom>
          <a:ln w="127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8AAE-583B-44E2-916F-CFC5E43BB562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Ventajas de esta nueva forma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l programa queda más claro (IMPORTANT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l problema queda más fácil de modificar (IMPORTANT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or ejemplo, (mirar diapo posterio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F386-B3D9-4C11-A041-D10122A87A14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El programa es fácil de modificar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gram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mpuesto_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v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ecio_sin_IVA: 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VA: 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ecio_sin_IVA:=3000;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VA:=0.13*precio_sin_IV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(‘El IVA de este producto es ‘, IV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 flipH="1">
            <a:off x="4648320" y="3505320"/>
            <a:ext cx="914400" cy="1295280"/>
          </a:xfrm>
          <a:prstGeom prst="line">
            <a:avLst/>
          </a:prstGeom>
          <a:ln w="127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5330520" y="2819520"/>
            <a:ext cx="300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Muy fácil de modificar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3137-3FB1-47BE-BC3D-F414F1E69249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El programa es difícil de modificar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Retomemos el ejemplo anteri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gram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mpuest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v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VA: 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VA:=0.13*300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(IV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flipH="1">
            <a:off x="3886200" y="3048120"/>
            <a:ext cx="914400" cy="1295280"/>
          </a:xfrm>
          <a:prstGeom prst="line">
            <a:avLst/>
          </a:prstGeom>
          <a:ln w="127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4795920" y="3124080"/>
            <a:ext cx="314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Más difícil de modificar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956E-FD04-4CB0-8A0A-A2BA4B0C8DDC}" type="slidenum">
              <a:t>1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Conclusión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n uso inteligente de las variables permite modificar fácilmente el programa de forma que podamos ejecutarlo con diferentes valo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r ejemplo, el programa anterior podemos cambiar fácilmente el valor del IVA y así poder calcular el IVA de diferentes preci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18BA-EA7F-418A-B20A-F0C2E3852FCE}" type="slidenum">
              <a:t>1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Pregunta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¿Por qué no hemos hecho que el porcentaje de IVA sea una variable, es deci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program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impuesto_3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v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ecio_sin_IVA: integer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orcentaje: integer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IVA: integer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orcentaje:=0.13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ecio_sin_IVA:=3000;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IVA:=porcentaje*precio_sin_IV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write(‘El IVA de este producto es ‘, IV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62C5-CF8A-4D87-A0FB-CDF191E7C77A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Respuesta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que 0.13 no es un número enter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5EEA-821B-4303-B60C-3C7ED46E71D4}" type="slidenum">
              <a:t>1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Ejercicio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criban un programa que calcule el precio con IVA de un producto a partir de su precio sin IVA. (Haciendo que sea fácil de modifica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05D1-5471-44BC-A7CE-31A228335C8A}" type="slidenum">
              <a:t>1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Primera definición de programa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a de decirle a la computadora qué problema queremos que resuelva (qué queremos que haga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4C30-3D0D-4FE0-B45C-34F02041FAB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Solución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gram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mpuesto_IV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v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ecio_sin_IVA: 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ecio_con_IVA: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VA: 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ecio_sin_IVA:=3000;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VA:=0.13*precio_sin_IV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ecio_con_IVA:=precio_sin_IVA+IV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(‘El precio con IVA de este producto es ‘, precio_con_IV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8B54-978B-45F3-833A-383E4043A165}" type="slidenum">
              <a:t>1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¿Se acuerdan de esto?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a a resolver: saber el precio con IVA de un produc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tener el precio sin I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cular el 13% de este prec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mar esto último al precio sin I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 resultado es el precio con I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LGORITMO (en español) vs. PROGRAMA (en Pasc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71C8-C150-4BD8-846F-D29E73BB5E1C}" type="slidenum">
              <a:t>1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Pregunta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467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¿Qué hubiera pasado si yo hubiera puesto 3001 en vez de 3000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puesta: la expresión daría un número no entero y al intentar asignarla a una variable entera, daría err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s variables tienen que ser del mismo tipo que los valores que se le asign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en una cajita triangular sólo caben triángulos, en una variable entera, sólo entero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1D78-DFFA-4854-B8BB-E204491E4CB9}" type="slidenum">
              <a:t>1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Ejercicio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criban un programa que dada una longitud en pies calcule la longitud en metros. (Haciendo que sea fácil de modificar) Nota: 1 metro son 3.28 p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B2C5-DC4F-463A-9457-645B539AA9E8}" type="slidenum">
              <a:t>1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Solución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gram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ies_a_metro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v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ies: 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etros: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ies:=300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etros:=pies/3.28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(‘La altitud en metros es ‘, metr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D5C4-46A2-4223-A21C-A5306831A552}" type="slidenum">
              <a:t>1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Ejercicio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criban un programa que dada una capacidad en galones calcule la capacidad en litros (Haciendo que sea fácil de modificar) Nota: 1 galón son 3.78 litr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F154-9D18-44AB-A45A-04A94DE4C058}" type="slidenum">
              <a:t>1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Solución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gram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galones_a_litro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v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galones: 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itros: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galones:=300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itros:=galones*3.78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(‘La capacidad en litros es ‘, litr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247C-3994-46D6-9D69-A8ADA8FFCC76}" type="slidenum">
              <a:t>1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Ejercicio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criban un programa que dada una temperatura en grados farenheit, la convierta en grados centígrados (Haciendo que sea fácil de modificar) Nota: Se restan 92 y se multiplica por 5/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82C8-7FC2-4731-9353-2B85D0833887}" type="slidenum">
              <a:t>1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Solución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gram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arenheit_a_celsiu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v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arenheit: 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elsius: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arenheit:=903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elsius:=(farenheit-32)*5/9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(‘La temperatura en grados celsius es ‘, celsiu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C4F5-12B4-482A-9D70-059F4EA9A763}" type="slidenum">
              <a:t>1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Dos problemas en los últimos programas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ero, no todos los valores se pueden poner de entrada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r ejemplo, si ponemos 32 grados Celsius, nos da un número con decimales (no entero) y, como trabajamos con variables enteras, ERROR. La solución es fácil y la veremos en el tema siguiente. Por ahora, obviamos el tem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 segundo problema es que hay que modificar el programa constantemen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AA76-FF5F-4178-9CCF-24A9DEC1390B}" type="slidenum">
              <a:t>1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Segunda definición de programa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computadora es estúpid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 hemos de decir CÓMO se resuelve el probl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GRAMA: Forma de decirle a la computadora qué problema debe resolver y CÓMO lo ha de resol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E690-05C2-463E-9012-A83F0BFD46D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Resumen de las variables enteras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ben ser declaradas todas en la “zona” var como “nombre:integer”. Deben ser inicializadas (asignar un valor) todas antes de usarl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ara guardar un valor en ellas, &lt;nombre&gt;:=&lt;expresión&gt; (se guardará el valor calculado a partir de la expresió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ara escribir su valor por pantalla 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write(nomb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ara escribir una expresión que las contenga 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write(expresió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52C7-F9F1-49CB-A535-2EA63EB8D637}" type="slidenum">
              <a:t>1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Detalles sobre la declaración de variables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v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ar1:integer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ar2:integer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ar3:integer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v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ar1,var2:integer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ar3:integer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v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ar1,var2,var3: integer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2B49-D56D-4C5C-8C30-52D2F3CD0A49}" type="slidenum">
              <a:t>1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Nombre de los identificadores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9903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mbres de variables, constantes, funciones, procedimientos, program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dicion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be comenzar por una letra (sin tild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uede conte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37080" indent="-1872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etras (sin tild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37080" indent="-1872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íg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37080" indent="-1872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 carácter de subray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 puede ser ninguna de las palabras reservadas: begin, end, program, var, write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No distingue entre mayúsculas y minúsculas en los identificadores y palabras reserva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60E4-F26E-4CA3-ADF3-E0D3163F845E}" type="slidenum">
              <a:t>1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No se distingue entre mayúsculas y minúsculas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i una variable se llama “precio” es igual que se escriba PRECIO, pReCiO o pREC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Igualmente con palabras reservadas eNd, end, END, 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ero se considera un pésimo estilo de programación escribir de distinta manera a lo largo del progra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C41B-CC1E-475C-8FB3-FD9EA53E4701}" type="slidenum">
              <a:t>1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Ejercicio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¿Qué salida produce el siguiente program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ogram variables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v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x,y:integer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x:=5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y:=8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writeln(‘ es ‘,x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writeln(x,y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writeln(x, ‘es x’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2A11-2C0B-42E5-BF54-FA106639ECE0}" type="slidenum">
              <a:t>1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Solución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09120" y="40381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egunta: ¿Qué podríamos hacer para que el 5 y el 8 aparecieran separados en la 2ª lín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9680" indent="-2296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olución: writeln(x,’ ‘,y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752480" y="1828800"/>
            <a:ext cx="2819520" cy="1905120"/>
          </a:xfrm>
          <a:prstGeom prst="flowChartAlternateProcess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738080" y="1793880"/>
            <a:ext cx="892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s 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5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5 es x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9A3E-74FE-431D-B89A-7ACD9AEB46F8}" type="slidenum">
              <a:t>1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Ejercicio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¿Qué salida produce el siguiente program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ogram variables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v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x,Y:integer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x:=4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Y:=6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Y:=Y+x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x:=x+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writeln(‘x = ‘, x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writeln(‘Y =‘, 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B226-7CD7-43C8-86DE-DF35F26FB93E}" type="slidenum">
              <a:t>1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Solución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609120" y="40381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-1954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GUIR EL PROGRAMA PASO A PASO CON VALORES DE LAS VARIAB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5480" indent="-1954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ARCAR LAS INSTRUCCIONES 3 Y 4 (las expresiones de asignación pueden tener variable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1752480" y="1828800"/>
            <a:ext cx="2819520" cy="1905120"/>
          </a:xfrm>
          <a:prstGeom prst="flowChartAlternateProcess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1738440" y="1793880"/>
            <a:ext cx="95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x= 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Y= 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8746-5410-4435-93E8-6787CB097893}" type="slidenum">
              <a:t>1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La misma variable a ambos lados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a variable colocada a la izquierda en una asignación puede aparecer en la expresión de la derech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l valor antiguo de la variable se usa para calcular el resultado de la expresión y este resultado es el valor nuev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jemplos: x:=x+1 (incrementa x en 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51480" indent="-20556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uma:=suma+x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(incrementa suma en el valor de 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51480" indent="-20556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num:=3*num (triplica el valor de nu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0418-9C13-4997-B183-832B983EB63D}" type="slidenum">
              <a:t>1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Ejercicio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¿Qué salida produce el siguiente program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ogram variables3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v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num1, num2:integer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num1:=5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num2:=9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num1:=num1+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num2:=num2+num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writeln(‘num1 = ‘, num1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writeln(‘num2 =‘, num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3AD9-2DDF-4061-8938-9D5BDF73C2CD}" type="slidenum">
              <a:t>1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Ejemplo de “programa”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a a resolver: saber el precio con IVA de un produc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tener el precio sin I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cular el 13% de este prec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mar esto último al precio sin I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 resultado es el precio con I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6DCA-3039-44AD-B1E2-EB8EF52D98D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Solución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09120" y="40381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-1954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GUIR EL PROGRAMA PASO A PASO CON VALORES DE LAS VARIAB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5480" indent="-1954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ARCAR LAS INSTRUCCIONES 3 Y 4 (las expresiones de asignación pueden tener variable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1752480" y="1828800"/>
            <a:ext cx="2819520" cy="1905120"/>
          </a:xfrm>
          <a:prstGeom prst="flowChartAlternateProcess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738440" y="1793880"/>
            <a:ext cx="1480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um1= 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um2= 1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F735-BF21-45F6-B226-3F8F192A6F39}" type="slidenum">
              <a:t>1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Ejercicio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990360" y="160020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¿Qué salida produce el siguiente program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ogram variables4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v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68680" indent="-17352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Horas, SueldoHoras, Pago:integer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68680" indent="-17352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Horas:=4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68680" indent="-17352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ueldoHora:=5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68680" indent="-17352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ago:= Horas* SueldoHor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68680" indent="-17352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writeln(Horas, ‘ ‘, SueldoHora, ‘ ‘, Pago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68680" indent="-17352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ueldoHora:=SueldoHora+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68680" indent="-17352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writeln(Horas, ‘ ‘, SueldoHora, ‘ ‘, Pago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68680" indent="-17352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ago:=Horas*SueldoHor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68680" indent="-17352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writeln(Horas, ‘ ‘, SueldoHora, ‘ ‘, Pago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11EC-5D4B-4460-87B3-228EC12D42E6}" type="slidenum">
              <a:t>1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Solución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609120" y="40381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marL="209160" indent="-20916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GUIR EL PROGRAMA PASO A PASO CON VALORES DE LAS VARIAB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09160" indent="-20916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arcar el hecho de que las expresiones de asignación pueden tener variab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1752480" y="1828800"/>
            <a:ext cx="2819520" cy="1905120"/>
          </a:xfrm>
          <a:prstGeom prst="flowChartAlternateProcess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1738440" y="1793880"/>
            <a:ext cx="1247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0 5 20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0 6 20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0 6 24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C55C-B6C5-42AE-8989-3FA611D34040}" type="slidenum">
              <a:t>1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Resumen de las variables enteras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ben ser declaradas todas en la “zona” var como “nombre:integer”. Deben ser inicializadas (asignar un valor) todas antes de usarl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ara guardar un valor en ellas, &lt;nombre&gt;:=&lt;expresión&gt; (se guardará el valor calculado a partir de la expresió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ara escribir su valor por pantalla 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write(nomb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ara escribir una expresión que las contenga 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write(expresió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ED50-94A2-44CA-AED0-7F0D4746F9B8}" type="slidenum">
              <a:t>1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Bolsa de preguntas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BA17-A90A-4C01-8065-536DE12C65B9}" type="slidenum">
              <a:t>1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Retomemos el programa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gram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mpuesto_IV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v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ecio_sin_IVA: 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ecio_con_IVA: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VA: 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ecio_sin_IVA:=3000;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VA:=0.13*precio_sin_IV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ecio_con_IVA:=precio_sin_IVA+IV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(‘El precio con IVA de este producto es ‘, precio_con_IV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8F77-3F08-409E-A77B-8F75308749A5}" type="slidenum">
              <a:t>1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Si queremos modificarlo...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gram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mpuesto_IV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v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ecio_sin_IVA: 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ecio_con_IVA: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VA: 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ecio_sin_IVA:= 4000;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VA:=0.13*precio_sin_IV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ecio_con_IVA:=precio_sin_IVA+IV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(‘El precio con IVA de este producto es ‘, precio_con_IV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4800600" y="3048120"/>
            <a:ext cx="914400" cy="1295280"/>
          </a:xfrm>
          <a:prstGeom prst="line">
            <a:avLst/>
          </a:prstGeom>
          <a:ln w="127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49F8-29B5-4B42-B70E-E5FF963172C4}" type="slidenum">
              <a:t>1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Inconvenientes de este sistema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da vez que queremos calcular diferentes valores, tenemos que modificar el program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o es incómodo y no pasa en los programas comerciales. Ejemplo: Calculadora, Exce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 que necesitamos es que el programa nos pida (pregunte) los datos y que los introduzcamos por pantalla (que pida el precio sin IVA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9EF5-FE38-412B-BE3C-A471CF2C75F2}" type="slidenum">
              <a:t>1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cc"/>
                </a:solidFill>
                <a:latin typeface="Times New Roman"/>
              </a:rPr>
              <a:t>La solución: readln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 una instrucción que sirve para pedir datos por pantall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a sintaxis es readln(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&lt;variable&gt;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uando se ejecuta, espera a que le entremos un dato por pantalla y el dato lo guarda en la variable especificad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7951-D74C-45FC-92D6-DB10F6999855}" type="slidenum">
              <a:t>1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Ejemplo de “readln”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readln(precio_sin_IV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uando el programa llega a esta instrucción, se para y pide un da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uando el usuario escribe el dato, este se guarda en la variable “precio_sin_IVA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DBDC-6050-4D56-A819-AC0F2AA9FF7E}" type="slidenum">
              <a:t>1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Observaciones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 programa no puede tomar cualquier form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 IVA es el 13% del valor del producto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 obtener el precio con IVA sumale el 13% al precio antes del IVA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385D-82AD-4094-BE54-2A15DBAFE15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Ejemplo de “readln” (2)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990360" y="137160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45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gram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mpuesto_IVA_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v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ecio_sin_IVA: 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ecio_con_IVA: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VA: 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adln(precio_sin_IVA);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VA:=0.13*precio_sin_IV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ecio_con_IVA:=precio_sin_IVA+IV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(‘El precio con IVA de este producto es ‘, precio_con_IV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594A-4B21-4C4C-93B4-2B505301FFA4}" type="slidenum">
              <a:t>1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Ejecución del anterior programa (hacerla con el programa al lado)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- El programa llega al “readln”. Muestra un cursor y espera indefinidamente hasta que el usuario introduzca un núme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286000" y="3657600"/>
            <a:ext cx="4648320" cy="2514600"/>
          </a:xfrm>
          <a:prstGeom prst="flowChartAlternateProcess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257652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_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E6D5-72BE-48E8-BE03-A4F6AB6AAF43}" type="slidenum">
              <a:t>1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Ejecución del anterior programa (2)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- El usuario introduce (escribe) un número y pulsa la tecla RETUR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2286000" y="3657600"/>
            <a:ext cx="4648320" cy="2514600"/>
          </a:xfrm>
          <a:prstGeom prst="flowChartAlternateProcess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576520" y="36990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000_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7173-B9CE-43BE-A01A-5CFB9B7B9463}" type="slidenum">
              <a:t>1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Ejecución del anterior programa (3)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- El programa pone el número en la variable “precio_sin_IVA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576520" y="36990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000_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1828800" y="3920760"/>
            <a:ext cx="1066680" cy="914760"/>
            <a:chOff x="1828800" y="3920760"/>
            <a:chExt cx="1066680" cy="914760"/>
          </a:xfrm>
        </p:grpSpPr>
        <p:sp>
          <p:nvSpPr>
            <p:cNvPr id="619" name=""/>
            <p:cNvSpPr/>
            <p:nvPr/>
          </p:nvSpPr>
          <p:spPr>
            <a:xfrm>
              <a:off x="1828800" y="4149720"/>
              <a:ext cx="762120" cy="68580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 flipV="1">
              <a:off x="1828800" y="3920760"/>
              <a:ext cx="457200" cy="2286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 flipV="1">
              <a:off x="2590920" y="3920760"/>
              <a:ext cx="304560" cy="2286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 flipV="1">
              <a:off x="2590920" y="4530240"/>
              <a:ext cx="304560" cy="30492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2286000" y="3921120"/>
              <a:ext cx="60948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2895480" y="3921120"/>
              <a:ext cx="0" cy="6858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625" name=""/>
          <p:cNvSpPr/>
          <p:nvPr/>
        </p:nvSpPr>
        <p:spPr>
          <a:xfrm>
            <a:off x="1585800" y="34704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precio_sin_IVA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1814760" y="423216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500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50EC-F03B-4B36-8C97-84B8D5B560DE}" type="slidenum">
              <a:t>1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Ejecución del anterior programa (4)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gram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mpuesto_IVA_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v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ecio_sin_IVA: 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ecio_con_IVA: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VA: 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adln(precio_sin_IVA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VA:=0.13*precio_sin_IV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ecio_con_IVA:=precio_sin_IVA+IV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(‘El precio con IVA de este producto es ‘, precio_con_IV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5791320" y="4343400"/>
            <a:ext cx="838080" cy="3808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6705720" y="4800600"/>
            <a:ext cx="838080" cy="3808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65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7238880" y="5257800"/>
            <a:ext cx="838440" cy="3808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565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6706080" y="426708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precio_sin_IVA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5717520" y="480060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IVA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6912000" y="548640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precio_con_IVA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793120" y="43434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500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C648-33D6-4A61-877C-22F04EF77468}" type="slidenum">
              <a:t>1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Ejecución del anterior programa (5)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.- El programa escribe en pantalla el valor de “precio_con_IVA”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286000" y="3657600"/>
            <a:ext cx="4648320" cy="2514600"/>
          </a:xfrm>
          <a:prstGeom prst="flowChartAlternateProcess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2575080" y="3699000"/>
            <a:ext cx="344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00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l precio con IVA es 565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A890-5F85-4C56-8291-6F78D7279538}" type="slidenum">
              <a:t>1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Ejercicio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cribir un programa que te pida un número por el teclado y te escriba por pantalla el do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FB7E-76F1-4D46-812B-59E343023CD3}" type="slidenum">
              <a:t>1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Solución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gram doble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umero: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(‘Escribe el número que quieras doblar ’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adln(numero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(‘El doble de’, numero, ‘ es ‘, 2*numer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ECB9-E4CB-4781-9832-8704E78EDEF1}" type="slidenum">
              <a:t>1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Ejercicio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licar que produce el anterior programa por pantalla. Solució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2286000" y="3657600"/>
            <a:ext cx="5410080" cy="2514600"/>
          </a:xfrm>
          <a:prstGeom prst="flowChartAlternateProcess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2280960" y="3886200"/>
            <a:ext cx="4962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scribe el número que quieras doblar 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l doble de 5 es 10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DDE9-68C7-460F-A494-555821148EBD}" type="slidenum">
              <a:t>1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Ejercicio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¿Y si quitamos el “write” que va antes del “readln”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No se incluye la solució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C8CE-F9B6-433E-B10C-248128B4B715}" type="slidenum">
              <a:t>1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Observaciones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 programa tiene que se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licado con todo deta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licado en orden secuencial: PASO a PA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esta forma de explicar las cosas se llama forma ALGORÍTM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F2DE-C419-487A-AEAC-15CEBCD2E5F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Ventajas y desventajas del “readln”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ntaja: Nos permite ejecutar el programa con distintos valores: hace el programa más úti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ventaja: Cuando se detiene, no nos dice qué valor quiere que le escribamos. POR ESO NECESITA UN WRITE DELA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56D7-C5F2-482F-AD13-B2856B17A3FD}" type="slidenum">
              <a:t>1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Ejercicio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cribir un programa que te pida por pantalla una capacidad en galones y escriba el equivalente en litros (Nota: 1 galón son 3.78 litr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7796-4D7D-49D6-BD77-0EC3C5792E34}" type="slidenum">
              <a:t>1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Solución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gram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galones_a_litros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v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galones: 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itros: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(‘Introduce la capacidad en galones ‘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adln(galon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itros:=galones*3.78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(‘La capacidad en litros es ‘, litr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EED1-D0B6-46D2-BAF3-0B8BD74345D0}" type="slidenum">
              <a:t>1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Ejercicio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grama que pida dos números por teclado y escriba su producto por pantall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C2E1-5A09-47AA-84E7-69112F84748E}" type="slidenum">
              <a:t>1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Solución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gram producto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actor1: 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actor2: 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(‘Escribe el primer factor ‘); readln(factor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(‘Escribe el segundo factor ‘); readln(factor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(‘El producto de ‘, factor1, ‘ por ‘, factor2, ‘ es ‘, factor1*factor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FA31-2C7D-454E-BFBE-0C7B69AA0D79}" type="slidenum">
              <a:t>1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Pregunta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¿Qué produce el anterior programa por pantalla? Solució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2286000" y="3657600"/>
            <a:ext cx="5410080" cy="2514600"/>
          </a:xfrm>
          <a:prstGeom prst="flowChartAlternateProcess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2422440" y="3165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2435400" y="3733920"/>
            <a:ext cx="350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scribe el primer factor 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scribe el segundo factor 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l producto de 2 por 3 es 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57AF-DA6A-443E-9018-5EEB7646665E}" type="slidenum">
              <a:t>1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Ejercicio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cribir un programa que pida una longitud en kilometros y metros y que escriba la longitud usando sólo centímetr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07F7-83D8-44C8-A54B-978BB2DDD525}" type="slidenum">
              <a:t>1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Solución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gram longitud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kilometros, metros: 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(‘Escribe el numero de kilómetros ‘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adln(kilometro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(‘Escribe el número de metros ‘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adln(metro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(‘La longitud en metros es ‘, 1000*kilometros+metro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D8C4-F620-421A-B6FD-9372E0686F1E}" type="slidenum">
              <a:t>1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Necesidad de comentarios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 importante que el programa sea leg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 programa largo es difícil de entender y modific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 incluyen comentarios para indicar que hacen las diferentes partes del códig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4170-6958-4FAB-8B8A-AED71AF67B12}" type="slidenum">
              <a:t>1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Primera sesión de laboratorio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39BD-B28C-400E-BF99-318866374FBA}" type="slidenum">
              <a:t>1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Algoritmo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cripción DETALLADA Y SECUENCIAL de cómo resolver un problem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 que hemos visto era un algoritmo y no un program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B96F-5625-45BE-B087-037252CE647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Bolsa de preguntas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67BE-2E94-449D-BB48-79F0C2874FEA}" type="slidenum">
              <a:t>1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Comentarios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763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n “notas” que el programador va dejando en el código para que se sepa que es lo que hace éste en cada momen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 Pascal las ignora: sólo para el que lee el program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ntaxis: {&lt;comentario&gt;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O NO FORMAN PARTE DEL PROGRAMA, NO LLEVAN PUNTO Y CO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9A8F-BEF9-494D-9693-8F7E3CA5E990}" type="slidenum">
              <a:t>1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Ejemplo de programa con comentarios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ogram product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v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actor1: integer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actor2: integer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spcBef>
                <a:spcPts val="45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{Programa que calcula el producto de dos números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spcBef>
                <a:spcPts val="45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{Entrada de datos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spcBef>
                <a:spcPts val="45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write(‘Escribe el primer factor ‘); readln(factor1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spcBef>
                <a:spcPts val="45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write(‘Escribe el segundo factor ‘); readln(factor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spcBef>
                <a:spcPts val="45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{Salida de datos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spcBef>
                <a:spcPts val="45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write(‘El producto de ‘, factor1, ‘ por ‘, factor2, ‘ es ‘, factor1*factor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29CA-1903-4787-AF89-3006BEF126DA}" type="slidenum">
              <a:t>1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Observaciones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 una buena práctica poner al principio de un programa un comentario que diga lo que hace el program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 programa anterior tiene demasiados comentarios: conviene hallar el justo med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artir de ahora, todos los programas llevarán comentari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0B22-8381-47AE-AD8D-7D01AD2425E0}" type="slidenum">
              <a:t>1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Ejercicio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cribir (bien comentado) un programa que dada una altura en pies, te escriba la altura en pulgadas (1 pie tiene 12 pulgada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7489-EEA2-4FB9-872B-C6764363EE80}" type="slidenum">
              <a:t>1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Solución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gram pies_a_pulgad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a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ies, pulgadas: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{Convierte pies en pulgadas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(‘Escribe la altura en pies ‘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adln(pi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ulgadas:=pies*1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(‘La altura en pulgadas es ‘, pulgad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22C9-19EE-46F4-80B8-8A9B3CC3F168}" type="slidenum">
              <a:t>1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Algoritmos y programas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goritmo: Descripción DETALLADA Y SECUENCIAL de cómo resolver un problema (EN CUALQUIER LENGUAJ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grama: Algoritmo escrito en un lenguaje comprensible por la computadora (en UN LENGUAJE DE PROGRAMACIÓN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E909-D51E-4C4B-B305-457CAB175A7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ENTREVISTA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e escriban sus dudas y preguntas en un pape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 las entregan y yo las resuelv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576A-BF68-40EA-867B-9524187FF12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Presentación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enveni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entació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mb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ud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ba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¿Por qué estudia esta carrer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B88A-CB46-4588-B88E-D678B9AECDE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Ejercicios de creación de algoritmos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 saber programar bien, hay que saber hacer algoritmos para resolver problem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 una forma de pensar específic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 eso, haremos unos ejercici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0373-61A8-4FCD-A46B-8D72E2DEFD2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Ejercicios de creación de algoritmos (por alumnos)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915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o sacar la carr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o aprobar el curso de PR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o votar (enseñar carte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o uno llega a la Univers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o uno se desplaza a la Univers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o uno se desplaza en b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o se llega a Presidente de la Repúbli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ontrastar como serían no algorítmicamente y que es una forma de pens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265B-F2E8-4B9E-AF63-B25D4C3EF9D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Ejercicios de creación de algoritmos por alumnos (2)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915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o leer un lib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o hacer un huevo fri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o hacer una tortil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o hacer una pupu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o sacar dinero de un cajero automát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ontrastar como serían no algorítmicamente y que es una forma de pens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397C-E165-49D2-BEA9-4ECDED11724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Bolsa de preguntas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da uno saca un papel y responde la pregunta que hay en é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 acierta, se le da un pun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8757-5E50-4840-937B-EA4BC49087A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Conceptos básicos de la programación en Pascal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gundo t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D5EF-74AE-4925-87E1-E84EB6FFA36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El lenguaje Pascal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enguaje de programación creado por Nikklaus Wirth alrededor de 1970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Objetivo: lenguaje que hiciera program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ás cómo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ás elegante (sin vicio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ás modu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l nombre lo debe a Blaise Pascal. Calculado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CE20-9E30-43F7-B902-14D68A90307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816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Influencias de y sobre Pascal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95480" y="1523880"/>
            <a:ext cx="1752840" cy="38124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imes New Roman"/>
              </a:rPr>
              <a:t>Leng. 1ª gen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895480" y="2286000"/>
            <a:ext cx="1752840" cy="3808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OBO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2286000"/>
            <a:ext cx="1752480" cy="3808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FORTRA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181480" y="2286000"/>
            <a:ext cx="1752840" cy="3808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PL/I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280" y="3276720"/>
            <a:ext cx="1752840" cy="3808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133720" y="3276720"/>
            <a:ext cx="1752480" cy="3808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imes New Roman"/>
              </a:rPr>
              <a:t>Smalltalk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191120" y="3276720"/>
            <a:ext cx="1752480" cy="3808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Basic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553080" y="3276720"/>
            <a:ext cx="1752840" cy="3808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Pasca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553080" y="4800600"/>
            <a:ext cx="1752840" cy="3808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Modula-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553080" y="5562720"/>
            <a:ext cx="1752840" cy="3808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imes New Roman"/>
              </a:rPr>
              <a:t>Ober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191120" y="4800600"/>
            <a:ext cx="1752480" cy="3808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Visual Basic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52280" y="4191120"/>
            <a:ext cx="1752840" cy="3808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++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133720" y="6095880"/>
            <a:ext cx="1752480" cy="38124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Java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52280" y="5181480"/>
            <a:ext cx="1752840" cy="38124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Visual C++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315200" y="4038480"/>
            <a:ext cx="1752480" cy="38124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ADA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0" y="2666880"/>
            <a:ext cx="0" cy="609840"/>
          </a:xfrm>
          <a:prstGeom prst="line">
            <a:avLst/>
          </a:prstGeom>
          <a:ln w="12600">
            <a:solidFill>
              <a:srgbClr val="0000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886200" y="2666880"/>
            <a:ext cx="0" cy="22860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886200" y="2895480"/>
            <a:ext cx="266688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553080" y="2895480"/>
            <a:ext cx="0" cy="381240"/>
          </a:xfrm>
          <a:prstGeom prst="line">
            <a:avLst/>
          </a:prstGeom>
          <a:ln w="12600">
            <a:solidFill>
              <a:srgbClr val="0000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657600" y="1905120"/>
            <a:ext cx="0" cy="380880"/>
          </a:xfrm>
          <a:prstGeom prst="line">
            <a:avLst/>
          </a:prstGeom>
          <a:ln w="12600">
            <a:solidFill>
              <a:srgbClr val="0000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752120" y="1676520"/>
            <a:ext cx="1143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752480" y="1676520"/>
            <a:ext cx="0" cy="609480"/>
          </a:xfrm>
          <a:prstGeom prst="line">
            <a:avLst/>
          </a:prstGeom>
          <a:ln w="12600">
            <a:solidFill>
              <a:srgbClr val="0000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648320" y="1676520"/>
            <a:ext cx="129528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943600" y="1676520"/>
            <a:ext cx="0" cy="609480"/>
          </a:xfrm>
          <a:prstGeom prst="line">
            <a:avLst/>
          </a:prstGeom>
          <a:ln w="12600">
            <a:solidFill>
              <a:srgbClr val="0000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924680" y="3657600"/>
            <a:ext cx="762120" cy="380880"/>
          </a:xfrm>
          <a:prstGeom prst="line">
            <a:avLst/>
          </a:prstGeom>
          <a:ln w="12600">
            <a:solidFill>
              <a:srgbClr val="0000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086600" y="3657600"/>
            <a:ext cx="0" cy="1143000"/>
          </a:xfrm>
          <a:prstGeom prst="line">
            <a:avLst/>
          </a:prstGeom>
          <a:ln w="12600">
            <a:solidFill>
              <a:srgbClr val="0000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086600" y="5181480"/>
            <a:ext cx="0" cy="381240"/>
          </a:xfrm>
          <a:prstGeom prst="line">
            <a:avLst/>
          </a:prstGeom>
          <a:ln w="12600">
            <a:solidFill>
              <a:srgbClr val="0000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029200" y="3657600"/>
            <a:ext cx="0" cy="1143000"/>
          </a:xfrm>
          <a:prstGeom prst="line">
            <a:avLst/>
          </a:prstGeom>
          <a:ln w="12600">
            <a:solidFill>
              <a:srgbClr val="0000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866920" y="3657600"/>
            <a:ext cx="762120" cy="274320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3885840" y="6400800"/>
            <a:ext cx="198108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5562360" y="3505320"/>
            <a:ext cx="990360" cy="1295280"/>
          </a:xfrm>
          <a:prstGeom prst="line">
            <a:avLst/>
          </a:prstGeom>
          <a:ln w="12600">
            <a:solidFill>
              <a:srgbClr val="0000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4343400"/>
            <a:ext cx="1218960" cy="1752480"/>
          </a:xfrm>
          <a:prstGeom prst="line">
            <a:avLst/>
          </a:prstGeom>
          <a:ln w="12600">
            <a:solidFill>
              <a:srgbClr val="0000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1905120" y="3657600"/>
            <a:ext cx="838080" cy="609480"/>
          </a:xfrm>
          <a:prstGeom prst="line">
            <a:avLst/>
          </a:prstGeom>
          <a:ln w="12600">
            <a:solidFill>
              <a:srgbClr val="0000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429000" y="3657600"/>
            <a:ext cx="1295280" cy="1143000"/>
          </a:xfrm>
          <a:prstGeom prst="line">
            <a:avLst/>
          </a:prstGeom>
          <a:ln w="12600">
            <a:solidFill>
              <a:srgbClr val="0000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990720" y="3657600"/>
            <a:ext cx="0" cy="533520"/>
          </a:xfrm>
          <a:prstGeom prst="line">
            <a:avLst/>
          </a:prstGeom>
          <a:ln w="12600">
            <a:solidFill>
              <a:srgbClr val="0000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990720" y="4572000"/>
            <a:ext cx="0" cy="609480"/>
          </a:xfrm>
          <a:prstGeom prst="line">
            <a:avLst/>
          </a:prstGeom>
          <a:ln w="12600">
            <a:solidFill>
              <a:srgbClr val="0000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0D74-E73E-4CD2-841C-50FEE742225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Características de Pascal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enguaje imperativ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Introduce la programación estructurad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nfatiza la modularización del códig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decuado para la enseñanza de la program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00F5-0CCA-4FC5-983A-17780E57BF7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Un primer programa en Pascal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42640" y="2362320"/>
            <a:ext cx="74674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program </a:t>
            </a: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Saludos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write ('Hola a todos’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7126-69B2-4D16-8766-A1EE41262E9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Qué hace este programa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 programa es la forma de decirle a la computadora lo que tiene que hac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e programa le dice que escriba en pantalla la frase “Hola a todo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124080" y="4343400"/>
            <a:ext cx="2438640" cy="1676520"/>
          </a:xfrm>
          <a:prstGeom prst="flowChartAlternateProcess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1120" y="4495680"/>
            <a:ext cx="180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ola a todo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4E71-DEA6-4996-BC7A-DB6A1BC6E82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Objetivos del curso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jercicio: ¿Qué es lo que espero de este curs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 escriben las respuestas en un pape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 recog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 escriben las respuestas en la pizarr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 votan las respues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da alumno rehace el docum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5066-65A6-4731-ADC1-ADD668DE618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Analizando el programa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y características que parecen específicas del programas. Como “Hola a todos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y otras características que parecen generales a cualquier programa. Por ejemplo “program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mos a distinguir entre unas y otr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7A0A-7BB0-4289-B9FE-540816CCC2C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Estructura de un programa en Pascal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877040" y="2422440"/>
            <a:ext cx="6795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program </a:t>
            </a:r>
            <a:r>
              <a:rPr b="0" i="1" lang="es-ES_tradnl" sz="4000" spc="-1" strike="noStrike">
                <a:solidFill>
                  <a:srgbClr val="000000"/>
                </a:solidFill>
                <a:latin typeface="Times New Roman"/>
              </a:rPr>
              <a:t>&lt;nombre programa&gt;;</a:t>
            </a: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000000"/>
                </a:solidFill>
                <a:latin typeface="Times New Roman"/>
              </a:rPr>
              <a:t>&lt;instrucciones&gt;</a:t>
            </a: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7BA7-CB9B-4FB6-B947-999F5E31F65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Estructura de un programa en Pascal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877040" y="2422440"/>
            <a:ext cx="6795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program </a:t>
            </a:r>
            <a:r>
              <a:rPr b="0" i="1" lang="es-ES_tradnl" sz="4000" spc="-1" strike="noStrike">
                <a:solidFill>
                  <a:srgbClr val="000000"/>
                </a:solidFill>
                <a:latin typeface="Times New Roman"/>
              </a:rPr>
              <a:t>&lt;nombre programa&gt;;</a:t>
            </a: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000000"/>
                </a:solidFill>
                <a:latin typeface="Times New Roman"/>
              </a:rPr>
              <a:t>&lt;instrucciones&gt;</a:t>
            </a: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end</a:t>
            </a: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AB03-04F9-4BF6-A9F8-6F0A8F48FA8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Observaciones sobre la estructura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scal, como cualquier LP, es muy riguroso y estricto con la forma de escribir las cosas (SINTAXI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s instrucciones son la forma de decirle al programa lo que queremos que hag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2796-C97E-4122-BD9A-19EFF705B17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Una instrucción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42640" y="2362320"/>
            <a:ext cx="74674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program </a:t>
            </a: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Saludos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0000"/>
                </a:solidFill>
                <a:latin typeface="Times New Roman"/>
              </a:rPr>
              <a:t>write ('Hola a todos’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340A-1BFF-400E-845F-32E8A63B978C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La instrucción “write”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write( ' Hola a todos ') escribe la frase “Hola a todos” en la pantal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124080" y="3733920"/>
            <a:ext cx="2438640" cy="1676160"/>
          </a:xfrm>
          <a:prstGeom prst="flowChartAlternateProcess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201120" y="3886200"/>
            <a:ext cx="180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ola a todo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F893-6D3F-4402-8A8F-A2ED00694025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La instrucción “write”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write( ' Hola a todos ') escribe la frase “Hola a todos” en la pantal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n general, “write” escribe la frase ente paréntesis en la pantall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uidado con las comill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E992-022C-434B-910F-84C2681B2FB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Ejercicio por grupos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cribir un programa que escriba por pantalla “Somos el mejor grupo de la Universidad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3299-797F-4284-AAB2-0202428A0E70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Solución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28600" y="2362320"/>
            <a:ext cx="86868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ogram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erdad_incuestionable;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write ('Somos el mejor grupo de la Universidad')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9E4B-45B9-46E8-8FDF-599C10EBC464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Pregunta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¿Qué hubiera pasado si hubiéramos prescindido de las comilla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¿Y si hubiéramos puesto comillas dobl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ución: Que no hubiera funcionado (error de sintaxi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52CD-704F-4738-A51B-96423FDDD20C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Formación de grupos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 reparten los pape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 recogen los pape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D2C5-4C69-4156-8887-3A1A48D4482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Pregunta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57200" y="1828800"/>
            <a:ext cx="86868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¿Qué hubiera pasado si hubiéramos escrito el siguiente programa?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ogram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erdad_incuestionable;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write ('Somos el mejor grupo ');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write ('de la Universidad')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Solución: lo mismo que el anterior programa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C044-1AD6-4DEB-B5AE-B5AA702BAC7C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Observaciones sobre la pregunta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gla: cuando hay dos “write”, el uno escribe donde ha acabado de escribir el otr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mos puesto un punto y coma detrás del primer “write” ¿Cuándo se pone el punto y com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2377-406C-45D4-BC97-DCE15BDAFFC5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Reglas para el punto y coma en Pascal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 pone al final de todas las instrucciones excep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 “begin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 último “end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s comentari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línea anterior a cualquier “end” (en este caso es opcion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06F2-5B72-46B7-8F77-CC2F81644E8D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Pregunta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57200" y="1828800"/>
            <a:ext cx="86868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¿Qué hubiera pasado si hubiéramos escrito el siguiente programa?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gram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erdad_incuestionable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 ('Somos el mejor grupo'); write ('de la Universidad'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Solución: lo mismo que el anterior programa. ES EL PUNTO Y COMA EL QUE SEPARA LAS INSTRUCCIONES, NO LAS LÍNEA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E63C-46F7-47BA-9F80-624CD0FCAACB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Ejercicio para grupos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cribir un programa que escriba el nombre (pero no los apellidos) de los integrantes  del grupo con tantos “write” como integran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896A-3C9C-4F1D-9C32-B1E71FE96F46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Solución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57200" y="1828800"/>
            <a:ext cx="86868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gram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grupo_1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 (’Fulano ');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 (’Mengano ’);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 (‘Zutano’)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 (‘Berengano’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EMFATIZAR USO DEL PUNTO Y COMA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C7C8-1C61-4B0D-9D00-947660458C6E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Pregunta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¿Qué escribiría por pantalla el anterior program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ució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057400" y="3733920"/>
            <a:ext cx="5181480" cy="2819160"/>
          </a:xfrm>
          <a:prstGeom prst="flowChartAlternateProcess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4560" y="3774960"/>
            <a:ext cx="459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Fulano Mengano Zutano Berengano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3039-F51D-48F6-9BD7-AFEA922B274D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Observación sobre la pregunta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 antiestético que se escriba todo en la misma líne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s gustaría colocar cada nombre en una línea diferen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 eso utilizaremos el “writeln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C251-8896-4099-9E58-193868995573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La instrucción “writeln”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cribe algo y salta de líne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 deci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 usamos un “write”, la siguiente palabra que se escriba irá a continu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 usamos un “writeln”, la siguiente palabra que se escriba irá en la línea siguie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5521-58C7-426F-88E0-362D2F68B32F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Ejemplo de “writeln”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e(‘1’); write (‘2’)” produ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eln(‘1’); write(‘2’)” produ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095880" y="2514600"/>
            <a:ext cx="2438640" cy="1676520"/>
          </a:xfrm>
          <a:prstGeom prst="flowChartAlternateProcess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5880" y="4952880"/>
            <a:ext cx="2438640" cy="1676520"/>
          </a:xfrm>
          <a:prstGeom prst="flowChartAlternateProcess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157440" y="250524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081480" y="4943520"/>
            <a:ext cx="358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94FE-77AF-4640-833E-D6DC40BC65DC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Forma de evaluación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aluación continua: en cl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o no prescindiremos de exámenes parciales para mejorar no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941C-C5B6-42F6-B801-C1D3F416D2F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Ejercicio por grupos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cer el ejercicio anterior, pero ahora cada uno de los nombres de los integrantes del grupo debe salir en una línea diferen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1E6E-C24F-406F-B5F2-E111DFAC5143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Solución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57200" y="1828800"/>
            <a:ext cx="86868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gram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grupo_1_bis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ln (’Fulano ');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ln (’Mengano ’);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ln (‘Zutano’)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 (‘Berengano’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EMFATIZAR USO DEL PUNTO Y COMA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419720" y="1905120"/>
            <a:ext cx="4114800" cy="2895480"/>
          </a:xfrm>
          <a:prstGeom prst="flowChartAlternateProcess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496760" y="2235240"/>
            <a:ext cx="1720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Fulano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Mengano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Zutano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Berengano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579C-5D52-41FD-84F4-57D34B77A9A6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Pregunta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¿Qué pasaría si el último “write” hubiera sido un “writeln”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ución: Nada, pues no hay nada que se escriba despué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B674-EEA9-45C2-9328-D01EB5F58111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Uso de “writeln” solo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writeln se puede utilizar solo y entonces lo que hace es saltar de líne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or ejemp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rogram ejempl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-19656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5920" indent="-19656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write(‘Primera línea’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5920" indent="-19656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writeln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5920" indent="-19656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write(‘Segunda línea’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-19656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3604-03EE-4D7F-809C-4ABF7D849C24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Uso de “writeln” solo (2)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l anterior programa produ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Igual que el siguien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rogram ejempl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4080" indent="-21456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writeln(‘Primera línea’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4080" indent="-21456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write(‘Segunda línea’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638680" y="2590920"/>
            <a:ext cx="2819520" cy="1904760"/>
          </a:xfrm>
          <a:prstGeom prst="flowChartAlternateProcess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776920" y="2556000"/>
            <a:ext cx="200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imera línea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egunda línea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27F0-0208-4274-BACA-AD5082525905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Ejercicio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anviar el ejercicio de los nombres de los integrantes para que los “writeln” que haya sean todos “writeln” sol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18E2-7D44-4B5A-BA74-3FB0F05BEC26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Solución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7200" y="1828800"/>
            <a:ext cx="86868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gram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grupo_1_tris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 (’Fulano ')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ln;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 (’Mengano ’);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ln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 (‘Zutano’)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ln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 (‘Berengano’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419720" y="1905120"/>
            <a:ext cx="4114800" cy="2895480"/>
          </a:xfrm>
          <a:prstGeom prst="flowChartAlternateProcess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496760" y="2235240"/>
            <a:ext cx="1720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Fulano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Mengano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Zutano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Berengano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64D1-5C4D-4BF7-80FD-19992F71DCE5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Pregunta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¿Qué produciría el siguiente program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gram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in_intere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 (’3*5 '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olución: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581280" y="4648320"/>
            <a:ext cx="2819520" cy="1904760"/>
          </a:xfrm>
          <a:prstGeom prst="flowChartAlternateProcess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719520" y="468936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*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11C9-64E3-4DC7-86F2-4AA7B8DB3FCD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Pregunta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¿Qué produciría el siguiente program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gram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in_interes_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 (3*5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olución: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581280" y="4648320"/>
            <a:ext cx="2819520" cy="1904760"/>
          </a:xfrm>
          <a:prstGeom prst="flowChartAlternateProcess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719520" y="46893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BEE1-FF90-44C4-B8AA-C3B0BC75E4B9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Conclusión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l “write” escribe exactamente lo que hay entre comill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sí, write (‘3*5’) produce “3*5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l “write” escribe el resultado de calcular lo que no lleva comill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sí, write (‘3*5’) produce “15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F447-8D52-4237-9FBF-FE4463AA8B03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Explicación del programa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F89F-4AC9-4823-953F-C0B40503615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Pregunta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¿Qué produciría el siguiente program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gram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ritmetic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 (’3*5 ='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 (3*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olución: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581280" y="4648320"/>
            <a:ext cx="2819520" cy="1904760"/>
          </a:xfrm>
          <a:prstGeom prst="flowChartAlternateProcess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719160" y="4689360"/>
            <a:ext cx="11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*5=1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C527-3A71-44C1-B56B-EE62CA8E0F49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Ejercicio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cribir un programa que escriba “2*2=4” sin utilizar ningún “4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olució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gram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ritmetica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 (’2*2 ='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 (2*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934A-AFD8-4FA8-A702-D952012CBB91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Observación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n el programa anterior, hay dos “write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no escribe “2*2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l otro escribe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¿Podríamos hacer que se produjera el mismo resultado con un único write? ¿Cómo se harí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B276-B355-416D-8565-98463419A4BE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Solución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gram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ritmetica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 (’2*2 =’,2*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tención: La coma significa “a continuación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BC0C-939A-4822-8347-6C0D7A970323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Norma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uando dentro de un “write” hay varias “cosas” separadas por una coma, unas se escriben a continuación de otr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a coma dentro de un write significa “a continuación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ueden mezclarse “cosas” con comillas y sin comill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79D2-05F6-46E8-B43E-1F9F5DE2A979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Pregunta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¿Qué generará el siguiente program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gram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ritmetica4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ln (’2+2 =’,2+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(‘3+3=‘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ln(3+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olució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íjense que es lo mismo escribir en una línea que en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800600" y="3657600"/>
            <a:ext cx="2819520" cy="1905120"/>
          </a:xfrm>
          <a:prstGeom prst="flowChartAlternateProcess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861800" y="3699000"/>
            <a:ext cx="98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+2=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+3=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AB36-5D2B-4D94-82C9-59A0A7C87B37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Ejercicio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cribir un programa que haga aparecer por pantal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s y dos son 4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atro y dos son 6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is y dos son 8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 ocho 16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o los números con cifra deben ser resultado de suma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5806-0C7E-408E-9623-F57719B932BF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Solución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gram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nció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 (’Dos y dos son ’, 2+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ln(’,’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(‘cuatro y dos son ‘, 4+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ln(’,’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(‘seis y dos son ‘, 6+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ln(’,’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(‘y ocho,’, 8+8,’.’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8124-2AA8-4BF6-8DB6-35B54927C881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Otra solución más legible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gram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nció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ln (’Dos y dos son ’,2+2,’,’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ln(‘cuatro y dos son ‘, 4+2,’,’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ln(‘seis y dos son ‘, 6+2,’,’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(‘y ocho, ‘, 8+8,’.’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REMARCAR EL USO DE LA CO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170A-1C2E-4816-B3E3-454F9189C8FF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Resumen del “write”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l “write” hace que algo aparezca por pantall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u sintaxis 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write(expresión1, expresión2,....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as expresiones pueden i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tre comillas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se escriben tal c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in comillas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se hace un cálculo con ellas y se escribe el resultad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writeln” es lo mismo que “write” pero salta de líne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o siguiente que se escribe, va en la línea de aba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3643-9B27-464B-87E0-13E98802D8C5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Objetivo de la asignatura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licar los conceptos básicos de la program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s basamos en Pasc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o los conceptos aplicables a cualquier lenguaje imperativ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A71A-AFC3-4C95-8222-F9B0081DC65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Bolsa de preguntas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9987-F507-4B04-A166-9A6878F5AC4B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Necesidad de las variables y el “read”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s programas anteriores siempre se comportan igual. Hacen lo mismo. No varían. Ejempl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 mejor que se comporten de forma diferente según lo quiera el usuario. Ejempl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 ello, hemos de introducir dos conceptos: “las variables” y el “read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74EB-D98D-4C42-9182-E20379424F10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Las variables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aginen que una variable es una cajita que guarda alg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y variables de diferentes tipos como hay cajitas de diferentes tip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 ahora, sólo veremos variables de un sólo tipo: el entero. Variables enter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1828800" y="5562360"/>
            <a:ext cx="1066680" cy="914760"/>
            <a:chOff x="1828800" y="5562360"/>
            <a:chExt cx="1066680" cy="914760"/>
          </a:xfrm>
        </p:grpSpPr>
        <p:sp>
          <p:nvSpPr>
            <p:cNvPr id="259" name=""/>
            <p:cNvSpPr/>
            <p:nvPr/>
          </p:nvSpPr>
          <p:spPr>
            <a:xfrm>
              <a:off x="1828800" y="5791320"/>
              <a:ext cx="762120" cy="68580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>
              <a:off x="1828800" y="5562360"/>
              <a:ext cx="457200" cy="2286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>
              <a:off x="2590920" y="5562360"/>
              <a:ext cx="304560" cy="2286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>
              <a:off x="2590920" y="6171840"/>
              <a:ext cx="304560" cy="30492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86000" y="5562720"/>
              <a:ext cx="60948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895480" y="5562720"/>
              <a:ext cx="0" cy="6858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4114800" y="5562720"/>
            <a:ext cx="1143000" cy="914400"/>
            <a:chOff x="4114800" y="5562720"/>
            <a:chExt cx="1143000" cy="914400"/>
          </a:xfrm>
        </p:grpSpPr>
        <p:sp>
          <p:nvSpPr>
            <p:cNvPr id="266" name=""/>
            <p:cNvSpPr/>
            <p:nvPr/>
          </p:nvSpPr>
          <p:spPr>
            <a:xfrm flipH="1">
              <a:off x="4114800" y="5715360"/>
              <a:ext cx="380880" cy="76176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114800" y="6477120"/>
              <a:ext cx="76212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495680" y="5715360"/>
              <a:ext cx="381240" cy="76176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>
              <a:off x="4495680" y="5562720"/>
              <a:ext cx="381240" cy="15264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4876920" y="6324480"/>
              <a:ext cx="380880" cy="15228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800600" y="5562720"/>
              <a:ext cx="380880" cy="83844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8C34-A675-4866-A611-4F551721031A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Variables enteras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o hemos dicho, son cajitas que guardan alg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 este caso, guardan un número entero (“exacto, sin decimales”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1828800" y="5562360"/>
            <a:ext cx="1066680" cy="914760"/>
            <a:chOff x="1828800" y="5562360"/>
            <a:chExt cx="1066680" cy="914760"/>
          </a:xfrm>
        </p:grpSpPr>
        <p:sp>
          <p:nvSpPr>
            <p:cNvPr id="275" name=""/>
            <p:cNvSpPr/>
            <p:nvPr/>
          </p:nvSpPr>
          <p:spPr>
            <a:xfrm>
              <a:off x="1828800" y="5791320"/>
              <a:ext cx="762120" cy="68580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1828800" y="5562360"/>
              <a:ext cx="457200" cy="2286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V="1">
              <a:off x="2590920" y="5562360"/>
              <a:ext cx="304560" cy="2286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2590920" y="6171840"/>
              <a:ext cx="304560" cy="30492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286000" y="5562720"/>
              <a:ext cx="60948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895480" y="5562720"/>
              <a:ext cx="0" cy="6858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3809880" y="5562360"/>
            <a:ext cx="1066680" cy="914760"/>
            <a:chOff x="3809880" y="5562360"/>
            <a:chExt cx="1066680" cy="914760"/>
          </a:xfrm>
        </p:grpSpPr>
        <p:sp>
          <p:nvSpPr>
            <p:cNvPr id="282" name=""/>
            <p:cNvSpPr/>
            <p:nvPr/>
          </p:nvSpPr>
          <p:spPr>
            <a:xfrm>
              <a:off x="3809880" y="5791320"/>
              <a:ext cx="762120" cy="68580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3809880" y="5562360"/>
              <a:ext cx="457200" cy="2286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4572000" y="5562360"/>
              <a:ext cx="304560" cy="2286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4572000" y="6171840"/>
              <a:ext cx="304560" cy="30492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267080" y="5562720"/>
              <a:ext cx="60948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876560" y="5562720"/>
              <a:ext cx="0" cy="6858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6172200" y="5562360"/>
            <a:ext cx="1066680" cy="914760"/>
            <a:chOff x="6172200" y="5562360"/>
            <a:chExt cx="1066680" cy="914760"/>
          </a:xfrm>
        </p:grpSpPr>
        <p:sp>
          <p:nvSpPr>
            <p:cNvPr id="289" name=""/>
            <p:cNvSpPr/>
            <p:nvPr/>
          </p:nvSpPr>
          <p:spPr>
            <a:xfrm>
              <a:off x="6172200" y="5791320"/>
              <a:ext cx="762120" cy="68580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6172200" y="5562360"/>
              <a:ext cx="457200" cy="2286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6934320" y="5562360"/>
              <a:ext cx="304560" cy="2286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V="1">
              <a:off x="6934320" y="6171840"/>
              <a:ext cx="304560" cy="30492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629400" y="5562720"/>
              <a:ext cx="60948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238880" y="5562720"/>
              <a:ext cx="0" cy="6858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1967040" y="590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811680" y="57913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113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310440" y="583236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25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C3C8-A457-4450-936C-D367875F324B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Variables enteras (2)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da variable tiene un nomb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 cada variable, nos interesan dos cos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 nomb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 contenido (lo que guard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1828800" y="5562360"/>
            <a:ext cx="1066680" cy="914760"/>
            <a:chOff x="1828800" y="5562360"/>
            <a:chExt cx="1066680" cy="914760"/>
          </a:xfrm>
        </p:grpSpPr>
        <p:sp>
          <p:nvSpPr>
            <p:cNvPr id="301" name=""/>
            <p:cNvSpPr/>
            <p:nvPr/>
          </p:nvSpPr>
          <p:spPr>
            <a:xfrm>
              <a:off x="1828800" y="5791320"/>
              <a:ext cx="762120" cy="68580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1828800" y="5562360"/>
              <a:ext cx="457200" cy="2286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5562360"/>
              <a:ext cx="304560" cy="2286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V="1">
              <a:off x="2590920" y="6171840"/>
              <a:ext cx="304560" cy="30492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286000" y="5562720"/>
              <a:ext cx="60948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895480" y="5562720"/>
              <a:ext cx="0" cy="6858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3809880" y="5562360"/>
            <a:ext cx="1066680" cy="914760"/>
            <a:chOff x="3809880" y="5562360"/>
            <a:chExt cx="1066680" cy="914760"/>
          </a:xfrm>
        </p:grpSpPr>
        <p:sp>
          <p:nvSpPr>
            <p:cNvPr id="308" name=""/>
            <p:cNvSpPr/>
            <p:nvPr/>
          </p:nvSpPr>
          <p:spPr>
            <a:xfrm>
              <a:off x="3809880" y="5791320"/>
              <a:ext cx="762120" cy="68580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V="1">
              <a:off x="3809880" y="5562360"/>
              <a:ext cx="457200" cy="2286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V="1">
              <a:off x="4572000" y="5562360"/>
              <a:ext cx="304560" cy="2286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V="1">
              <a:off x="4572000" y="6171840"/>
              <a:ext cx="304560" cy="30492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267080" y="5562720"/>
              <a:ext cx="60948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876560" y="5562720"/>
              <a:ext cx="0" cy="6858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6172200" y="5562360"/>
            <a:ext cx="1066680" cy="914760"/>
            <a:chOff x="6172200" y="5562360"/>
            <a:chExt cx="1066680" cy="914760"/>
          </a:xfrm>
        </p:grpSpPr>
        <p:sp>
          <p:nvSpPr>
            <p:cNvPr id="315" name=""/>
            <p:cNvSpPr/>
            <p:nvPr/>
          </p:nvSpPr>
          <p:spPr>
            <a:xfrm>
              <a:off x="6172200" y="5791320"/>
              <a:ext cx="762120" cy="68580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6172200" y="5562360"/>
              <a:ext cx="457200" cy="2286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6934320" y="5562360"/>
              <a:ext cx="304560" cy="2286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6934320" y="6171840"/>
              <a:ext cx="304560" cy="30492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629400" y="5562720"/>
              <a:ext cx="60948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238880" y="5562720"/>
              <a:ext cx="0" cy="6858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21" name=""/>
          <p:cNvSpPr/>
          <p:nvPr/>
        </p:nvSpPr>
        <p:spPr>
          <a:xfrm>
            <a:off x="1967040" y="590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811680" y="57913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113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0440" y="583236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25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660680" y="4917960"/>
            <a:ext cx="14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variable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870720" y="491796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precio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080040" y="4876920"/>
            <a:ext cx="12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cocient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412C-150C-4C3E-BBBF-FC2F946B766E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Operaciones con variables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emos hacer dos acciones diferentes con las variables (por ahora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uardar un número dentro de ell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cribir el número que guardan por pantal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1828800" y="5562360"/>
            <a:ext cx="1066680" cy="914760"/>
            <a:chOff x="1828800" y="5562360"/>
            <a:chExt cx="1066680" cy="914760"/>
          </a:xfrm>
        </p:grpSpPr>
        <p:sp>
          <p:nvSpPr>
            <p:cNvPr id="330" name=""/>
            <p:cNvSpPr/>
            <p:nvPr/>
          </p:nvSpPr>
          <p:spPr>
            <a:xfrm>
              <a:off x="1828800" y="5791320"/>
              <a:ext cx="762120" cy="68580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V="1">
              <a:off x="1828800" y="5562360"/>
              <a:ext cx="457200" cy="2286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V="1">
              <a:off x="2590920" y="5562360"/>
              <a:ext cx="304560" cy="2286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V="1">
              <a:off x="2590920" y="6171840"/>
              <a:ext cx="304560" cy="30492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286000" y="5562720"/>
              <a:ext cx="60948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895480" y="5562720"/>
              <a:ext cx="0" cy="6858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36" name=""/>
          <p:cNvGrpSpPr/>
          <p:nvPr/>
        </p:nvGrpSpPr>
        <p:grpSpPr>
          <a:xfrm>
            <a:off x="3809880" y="5562360"/>
            <a:ext cx="1066680" cy="914760"/>
            <a:chOff x="3809880" y="5562360"/>
            <a:chExt cx="1066680" cy="914760"/>
          </a:xfrm>
        </p:grpSpPr>
        <p:sp>
          <p:nvSpPr>
            <p:cNvPr id="337" name=""/>
            <p:cNvSpPr/>
            <p:nvPr/>
          </p:nvSpPr>
          <p:spPr>
            <a:xfrm>
              <a:off x="3809880" y="5791320"/>
              <a:ext cx="762120" cy="68580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3809880" y="5562360"/>
              <a:ext cx="457200" cy="2286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V="1">
              <a:off x="4572000" y="5562360"/>
              <a:ext cx="304560" cy="2286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4572000" y="6171840"/>
              <a:ext cx="304560" cy="30492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267080" y="5562720"/>
              <a:ext cx="60948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76560" y="5562720"/>
              <a:ext cx="0" cy="6858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6172200" y="5562360"/>
            <a:ext cx="1066680" cy="914760"/>
            <a:chOff x="6172200" y="5562360"/>
            <a:chExt cx="1066680" cy="914760"/>
          </a:xfrm>
        </p:grpSpPr>
        <p:sp>
          <p:nvSpPr>
            <p:cNvPr id="344" name=""/>
            <p:cNvSpPr/>
            <p:nvPr/>
          </p:nvSpPr>
          <p:spPr>
            <a:xfrm>
              <a:off x="6172200" y="5791320"/>
              <a:ext cx="762120" cy="68580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V="1">
              <a:off x="6172200" y="5562360"/>
              <a:ext cx="457200" cy="2286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6934320" y="5562360"/>
              <a:ext cx="304560" cy="2286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V="1">
              <a:off x="6934320" y="6171840"/>
              <a:ext cx="304560" cy="30492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629400" y="5562720"/>
              <a:ext cx="60948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238880" y="5562720"/>
              <a:ext cx="0" cy="6858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50" name=""/>
          <p:cNvSpPr/>
          <p:nvPr/>
        </p:nvSpPr>
        <p:spPr>
          <a:xfrm>
            <a:off x="1967040" y="590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811680" y="57913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113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310440" y="583236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25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660680" y="4917960"/>
            <a:ext cx="14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variable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870720" y="491796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precio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080040" y="4876920"/>
            <a:ext cx="12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cocient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8636-A976-4838-9158-C33EF2D361D8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Estructura de un programa con variables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874160" y="2422440"/>
            <a:ext cx="68389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program </a:t>
            </a:r>
            <a:r>
              <a:rPr b="0" i="1" lang="es-ES_tradnl" sz="4000" spc="-1" strike="noStrike">
                <a:solidFill>
                  <a:srgbClr val="000000"/>
                </a:solidFill>
                <a:latin typeface="Times New Roman"/>
              </a:rPr>
              <a:t>&lt;nombre programa&gt;;</a:t>
            </a: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var</a:t>
            </a: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4000" spc="-1" strike="noStrike">
                <a:solidFill>
                  <a:srgbClr val="000000"/>
                </a:solidFill>
                <a:latin typeface="Times New Roman"/>
              </a:rPr>
              <a:t>&lt;declaración de variables&gt;</a:t>
            </a: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000000"/>
                </a:solidFill>
                <a:latin typeface="Times New Roman"/>
              </a:rPr>
              <a:t>&lt;instrucciones&gt;</a:t>
            </a: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67DE-0F4A-42E4-B732-9D55249653C9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Declaración de variables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 una lista de nombres de TODAS las variables del programa con sus tip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DAS las variables que hay en el programa deben ser declaradas en esta declar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ntaxi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mbrevar1:tipovar1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mbrevar2:tipovar2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531C-7C77-4252-9423-230E3BD1C3D4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Declaración de variables enteras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mo solo tenemos variables enteras, el único tipo, será entero, es decir, 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integer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sí la declaración (lista) de variab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nombrevar1:integer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nombrevar2:integer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D9C5-00BD-40C6-AF44-E1D72D09AF45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Pregunta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¿Qué hace el siguiente program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gram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ue_hac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¿Es correcto? ¿Daría un erro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FBF4-C25A-42A4-8CA5-EA920F24D81C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Asignatura básica y fundamental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nque se enseña Pascal, es lo mismo en otros lenguaj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e con la que construirán su conocimiento informático. Analogía del edific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0699-7DD1-4000-9CB0-0A95D19B371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Primer programa con variables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gram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oca_cos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ariable1: 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egunta: ¿Hace este programa alg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29DC-D92A-4689-BB71-5B90423C303F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Solución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í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re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una variable de nombre “variable1”, aunque no la veam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TODO LO QUE PASA EN UN PROGRAMA TIENE PORQUÉ SER VISTO POR PANTAL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1828800" y="3920760"/>
            <a:ext cx="1066680" cy="914760"/>
            <a:chOff x="1828800" y="3920760"/>
            <a:chExt cx="1066680" cy="914760"/>
          </a:xfrm>
        </p:grpSpPr>
        <p:sp>
          <p:nvSpPr>
            <p:cNvPr id="369" name=""/>
            <p:cNvSpPr/>
            <p:nvPr/>
          </p:nvSpPr>
          <p:spPr>
            <a:xfrm>
              <a:off x="1828800" y="4149720"/>
              <a:ext cx="762120" cy="68580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1828800" y="3920760"/>
              <a:ext cx="457200" cy="2286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2590920" y="3920760"/>
              <a:ext cx="304560" cy="2286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2590920" y="4530240"/>
              <a:ext cx="304560" cy="30492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286000" y="3921120"/>
              <a:ext cx="60948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895480" y="3921120"/>
              <a:ext cx="0" cy="6858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75" name=""/>
          <p:cNvSpPr/>
          <p:nvPr/>
        </p:nvSpPr>
        <p:spPr>
          <a:xfrm>
            <a:off x="1660680" y="3276720"/>
            <a:ext cx="14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variable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838F-C583-47A9-9A69-A91FE1E4DFE3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Pregunta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¿Escribe algo el anterior program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puesta: 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¿Por qué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puesta: Porque no tiene ningún “writ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0B07-672A-468F-BCC8-77D8C1B61189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Segundo programa con variables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gram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oca_cosa_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var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ariable1: 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ariable1:=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nigma: ¿Qué es esa instrucció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1F9F-F959-4529-AC41-DFCC94CD3920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Respuesta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1:=5” quiere decir “guarda el número 5 en la variable que se llama “variable1”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 una instrucción, no un signo de igualdad. Se llama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ign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2422440" y="3733920"/>
            <a:ext cx="4511160" cy="1600200"/>
            <a:chOff x="2422440" y="3733920"/>
            <a:chExt cx="4511160" cy="1600200"/>
          </a:xfrm>
        </p:grpSpPr>
        <p:grpSp>
          <p:nvGrpSpPr>
            <p:cNvPr id="383" name=""/>
            <p:cNvGrpSpPr/>
            <p:nvPr/>
          </p:nvGrpSpPr>
          <p:grpSpPr>
            <a:xfrm>
              <a:off x="2590560" y="4419360"/>
              <a:ext cx="1066680" cy="914760"/>
              <a:chOff x="2590560" y="4419360"/>
              <a:chExt cx="1066680" cy="914760"/>
            </a:xfrm>
          </p:grpSpPr>
          <p:sp>
            <p:nvSpPr>
              <p:cNvPr id="384" name=""/>
              <p:cNvSpPr/>
              <p:nvPr/>
            </p:nvSpPr>
            <p:spPr>
              <a:xfrm>
                <a:off x="2590560" y="4648320"/>
                <a:ext cx="762120" cy="68580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flipV="1">
                <a:off x="2590560" y="4419360"/>
                <a:ext cx="457200" cy="2286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 flipV="1">
                <a:off x="3352680" y="4419360"/>
                <a:ext cx="304560" cy="2286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flipV="1">
                <a:off x="3352680" y="5028840"/>
                <a:ext cx="304560" cy="30492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3047760" y="4419720"/>
                <a:ext cx="609480" cy="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3657240" y="4419720"/>
                <a:ext cx="0" cy="6858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390" name=""/>
            <p:cNvSpPr/>
            <p:nvPr/>
          </p:nvSpPr>
          <p:spPr>
            <a:xfrm>
              <a:off x="2727000" y="476568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422440" y="3774960"/>
              <a:ext cx="1401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variable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392" name=""/>
            <p:cNvGrpSpPr/>
            <p:nvPr/>
          </p:nvGrpSpPr>
          <p:grpSpPr>
            <a:xfrm>
              <a:off x="5700600" y="4377960"/>
              <a:ext cx="1066680" cy="914760"/>
              <a:chOff x="5700600" y="4377960"/>
              <a:chExt cx="1066680" cy="914760"/>
            </a:xfrm>
          </p:grpSpPr>
          <p:sp>
            <p:nvSpPr>
              <p:cNvPr id="393" name=""/>
              <p:cNvSpPr/>
              <p:nvPr/>
            </p:nvSpPr>
            <p:spPr>
              <a:xfrm>
                <a:off x="5700600" y="4606920"/>
                <a:ext cx="762120" cy="68580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flipV="1">
                <a:off x="5700600" y="4377960"/>
                <a:ext cx="457200" cy="2286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flipV="1">
                <a:off x="6462720" y="4377960"/>
                <a:ext cx="304560" cy="2286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flipV="1">
                <a:off x="6462720" y="4987440"/>
                <a:ext cx="304560" cy="30492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157800" y="4378320"/>
                <a:ext cx="609480" cy="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6767280" y="4378320"/>
                <a:ext cx="0" cy="6858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399" name=""/>
            <p:cNvSpPr/>
            <p:nvPr/>
          </p:nvSpPr>
          <p:spPr>
            <a:xfrm>
              <a:off x="5838840" y="4724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532120" y="3733920"/>
              <a:ext cx="1401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variable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160" y="4876920"/>
              <a:ext cx="1066680" cy="0"/>
            </a:xfrm>
            <a:prstGeom prst="line">
              <a:avLst/>
            </a:prstGeom>
            <a:ln w="7632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3E08-AA6C-46C9-A9E9-9701B7AB8B0A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La instrucción de asignación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intaxis: 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&lt;nombrevariable&gt;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:= 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&lt;expresión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Quiere decir: “Guarda en la variable el valor de la expresión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jempl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ariable1:=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ecio:=2*2 (Alerta, cualquier expresió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VA=0.1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No confundir con la igualdad 5=5, 2+2=4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993B-0597-430C-81DF-7B132AC60DBA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Ejemplos de asignación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lvl="1" marL="668520" indent="-2570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ble1:=5 (Guarda 5 en la variable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cio:=2*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JENSE EN QUE SI ES UNA EXPRESIÓN SE GUARDA SU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SULT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2422440" y="2567160"/>
            <a:ext cx="4049640" cy="1242360"/>
            <a:chOff x="2422440" y="2567160"/>
            <a:chExt cx="4049640" cy="1242360"/>
          </a:xfrm>
        </p:grpSpPr>
        <p:grpSp>
          <p:nvGrpSpPr>
            <p:cNvPr id="407" name=""/>
            <p:cNvGrpSpPr/>
            <p:nvPr/>
          </p:nvGrpSpPr>
          <p:grpSpPr>
            <a:xfrm>
              <a:off x="2565360" y="3088800"/>
              <a:ext cx="908640" cy="696240"/>
              <a:chOff x="2565360" y="3088800"/>
              <a:chExt cx="908640" cy="696240"/>
            </a:xfrm>
          </p:grpSpPr>
          <p:sp>
            <p:nvSpPr>
              <p:cNvPr id="408" name=""/>
              <p:cNvSpPr/>
              <p:nvPr/>
            </p:nvSpPr>
            <p:spPr>
              <a:xfrm>
                <a:off x="2565360" y="3263040"/>
                <a:ext cx="649080" cy="52200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flipV="1">
                <a:off x="2565360" y="3088800"/>
                <a:ext cx="389160" cy="17388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flipV="1">
                <a:off x="3214440" y="3088800"/>
                <a:ext cx="259200" cy="17388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flipV="1">
                <a:off x="3214440" y="3552840"/>
                <a:ext cx="259200" cy="232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2954520" y="3089160"/>
                <a:ext cx="519120" cy="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3474000" y="3089160"/>
                <a:ext cx="0" cy="5220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414" name=""/>
            <p:cNvSpPr/>
            <p:nvPr/>
          </p:nvSpPr>
          <p:spPr>
            <a:xfrm>
              <a:off x="2673720" y="3352680"/>
              <a:ext cx="17424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422440" y="2598120"/>
              <a:ext cx="1401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variable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416" name=""/>
            <p:cNvGrpSpPr/>
            <p:nvPr/>
          </p:nvGrpSpPr>
          <p:grpSpPr>
            <a:xfrm>
              <a:off x="5215680" y="3057480"/>
              <a:ext cx="908640" cy="696240"/>
              <a:chOff x="5215680" y="3057480"/>
              <a:chExt cx="908640" cy="696240"/>
            </a:xfrm>
          </p:grpSpPr>
          <p:sp>
            <p:nvSpPr>
              <p:cNvPr id="417" name=""/>
              <p:cNvSpPr/>
              <p:nvPr/>
            </p:nvSpPr>
            <p:spPr>
              <a:xfrm>
                <a:off x="5215680" y="3231720"/>
                <a:ext cx="649080" cy="52200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 flipV="1">
                <a:off x="5215680" y="3057480"/>
                <a:ext cx="389160" cy="17388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 flipV="1">
                <a:off x="5864760" y="3057480"/>
                <a:ext cx="259200" cy="17388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 flipV="1">
                <a:off x="5864760" y="3521520"/>
                <a:ext cx="259200" cy="232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5604840" y="3057840"/>
                <a:ext cx="519120" cy="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6124320" y="3057840"/>
                <a:ext cx="0" cy="5220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423" name=""/>
            <p:cNvSpPr/>
            <p:nvPr/>
          </p:nvSpPr>
          <p:spPr>
            <a:xfrm>
              <a:off x="5333400" y="33213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070600" y="2567160"/>
              <a:ext cx="1401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variable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734280" y="3437640"/>
              <a:ext cx="908640" cy="0"/>
            </a:xfrm>
            <a:prstGeom prst="line">
              <a:avLst/>
            </a:prstGeom>
            <a:ln w="7632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2428920" y="4765680"/>
            <a:ext cx="909720" cy="696960"/>
            <a:chOff x="2428920" y="4765680"/>
            <a:chExt cx="909720" cy="696960"/>
          </a:xfrm>
        </p:grpSpPr>
        <p:sp>
          <p:nvSpPr>
            <p:cNvPr id="427" name=""/>
            <p:cNvSpPr/>
            <p:nvPr/>
          </p:nvSpPr>
          <p:spPr>
            <a:xfrm>
              <a:off x="2428920" y="4939920"/>
              <a:ext cx="649800" cy="52272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flipV="1">
              <a:off x="2428920" y="4765680"/>
              <a:ext cx="389880" cy="17424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V="1">
              <a:off x="3078720" y="4765680"/>
              <a:ext cx="259560" cy="17424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V="1">
              <a:off x="3078720" y="5229720"/>
              <a:ext cx="259560" cy="2322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818800" y="4765680"/>
              <a:ext cx="51948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338640" y="4765680"/>
              <a:ext cx="0" cy="52272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33" name=""/>
          <p:cNvSpPr/>
          <p:nvPr/>
        </p:nvSpPr>
        <p:spPr>
          <a:xfrm>
            <a:off x="2538360" y="5029200"/>
            <a:ext cx="17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286360" y="427500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precio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079960" y="4908600"/>
            <a:ext cx="649440" cy="52236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V="1">
            <a:off x="5079960" y="4733640"/>
            <a:ext cx="390600" cy="17460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flipV="1">
            <a:off x="5729400" y="4733640"/>
            <a:ext cx="260280" cy="17460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V="1">
            <a:off x="5729400" y="5199120"/>
            <a:ext cx="260280" cy="23184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470560" y="4734000"/>
            <a:ext cx="51912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989680" y="4734000"/>
            <a:ext cx="0" cy="52236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5197680" y="4997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4160" y="424332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precio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598920" y="5113440"/>
            <a:ext cx="909720" cy="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8AB1-CE3C-4F77-9D45-E701846AE205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Pregunta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¿Qué hace este program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gram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oca_cosa_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v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ariable1: 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ariable1:=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7B90-90F9-437D-BA79-06BD3408B7C4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Solución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s cos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- Crea una variable de nombre “variable1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- Guarda en ella el valor “5” (“le asigna el valor 5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8" name=""/>
          <p:cNvGrpSpPr/>
          <p:nvPr/>
        </p:nvGrpSpPr>
        <p:grpSpPr>
          <a:xfrm>
            <a:off x="1828800" y="3920760"/>
            <a:ext cx="1066680" cy="914760"/>
            <a:chOff x="1828800" y="3920760"/>
            <a:chExt cx="1066680" cy="914760"/>
          </a:xfrm>
        </p:grpSpPr>
        <p:sp>
          <p:nvSpPr>
            <p:cNvPr id="449" name=""/>
            <p:cNvSpPr/>
            <p:nvPr/>
          </p:nvSpPr>
          <p:spPr>
            <a:xfrm>
              <a:off x="1828800" y="4149720"/>
              <a:ext cx="762120" cy="68580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flipV="1">
              <a:off x="1828800" y="3920760"/>
              <a:ext cx="457200" cy="2286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V="1">
              <a:off x="2590920" y="3920760"/>
              <a:ext cx="304560" cy="2286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V="1">
              <a:off x="2590920" y="4530240"/>
              <a:ext cx="304560" cy="30492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286000" y="3921120"/>
              <a:ext cx="60948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895480" y="3921120"/>
              <a:ext cx="0" cy="6858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1660680" y="3276720"/>
            <a:ext cx="14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variable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4816440" y="5673240"/>
            <a:ext cx="1066680" cy="914760"/>
            <a:chOff x="4816440" y="5673240"/>
            <a:chExt cx="1066680" cy="914760"/>
          </a:xfrm>
        </p:grpSpPr>
        <p:sp>
          <p:nvSpPr>
            <p:cNvPr id="457" name=""/>
            <p:cNvSpPr/>
            <p:nvPr/>
          </p:nvSpPr>
          <p:spPr>
            <a:xfrm>
              <a:off x="4816440" y="5902200"/>
              <a:ext cx="762120" cy="68580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flipV="1">
              <a:off x="4816440" y="5673240"/>
              <a:ext cx="457200" cy="2286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flipV="1">
              <a:off x="5578560" y="5673240"/>
              <a:ext cx="304560" cy="2286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 flipV="1">
              <a:off x="5578560" y="6282720"/>
              <a:ext cx="304560" cy="30492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273640" y="5673600"/>
              <a:ext cx="60948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883120" y="5673600"/>
              <a:ext cx="0" cy="6858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63" name=""/>
          <p:cNvSpPr/>
          <p:nvPr/>
        </p:nvSpPr>
        <p:spPr>
          <a:xfrm>
            <a:off x="6172200" y="6019920"/>
            <a:ext cx="14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variable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015160" y="590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DC0D-8BB4-4284-A6EA-62065C76E5B6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Pregunta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¿Qué escribe en pantalla el anterior program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puesta: Nada, porque no tiene “write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O ESO NO QUIERE DECIR QUE NO HAGA N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B303-2153-48A0-A47B-1F2A7534F5AF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Introducción a la algorítmica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er t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5216-6264-49B2-B888-FC131A08233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Ejercicio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cribir un programa que cree una variable que se llame “IVA” y que guarde en ella el resultado de multiplicar 0.13 por 2000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6DB5-B889-4B36-9E09-9CDAD4F14736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Solución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gram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mpuest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v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VA: 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VA:=0.13*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88E9-4115-408F-887C-9928B8E0DB5B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Pregunta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¿Qué es lo que haría este program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Respuesta: Guardar 26 en la variable “IVA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¿Qué escribiría por pantall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Respuesta: Nada, pues no hay un wri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ERO SERÍA CONVENIENTE QUE EL VALOR DE LA VARIABLE SALIERA POR PANTAL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A642-22DC-4726-9980-E161D943C0F8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Ejercicio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cribir un programa que haga lo mismo que el anterior (guardar en la variable IVA el resultado de multiplicar 0.13*2000) pero además que escriba el valor de la variable IVA por pantall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D29E-572A-451E-8216-76E9B8B81E01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Solución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gram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mpuest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v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VA: 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VA:=0.13*200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(IV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8CB0-69EE-447D-9D61-B9282CCE0AC7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Escribir el valor de una variable por pantalla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write(&lt;nombre de la variable&gt;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sí, write (IV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TENCIÓN: No confundir con write(‘IVA’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as expresiones del write pueden i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tre comillas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se escriben tal c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in comillas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se hace un cálculo con ellas y se escribe el resultad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3285-508D-490A-B817-599BE53E8F61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Pregunta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¿Qué produciría el siguiente programa por pantall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gram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mpuest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v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VA: 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VA:=0.13*200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(IV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Respuesta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581280" y="4800600"/>
            <a:ext cx="2819520" cy="1905120"/>
          </a:xfrm>
          <a:prstGeom prst="flowChartAlternateProcess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719520" y="49179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D284-EE88-4B96-8B56-9FFDDF7ECC9E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Escribir el valor de una expresión con variable por pantalla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gunta: ¿Es válida la instrucción “write(3*IVA)”? ¿Qué signific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puesta: Sí. Significa “Escribe el resultado de multiplicar el valor de la variable “IVA” por 3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4CFE-53D4-46E9-8DF6-99B2CE0A7E71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Ejercicio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-360" y="2742840"/>
            <a:ext cx="3429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gram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mpuesto_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v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VA: 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VA:=0.13*200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(3*IV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971800" y="2743200"/>
            <a:ext cx="3429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gram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mpuesto_B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var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VA: integer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VA:=0.13*2000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(‘3*IVA’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791320" y="2743200"/>
            <a:ext cx="3429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gram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mpuesto_C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var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VA: integer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VA:=0.13*2000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(‘3*’;IVA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12760" y="1971720"/>
            <a:ext cx="84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¿Qué escriben en la pantalla los siguientes programas?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5224-2A67-47B9-BAEC-90FB7B5E2F2B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Solución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 programa A escribe “78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 programa B escribe “3*IVA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 programa C escribe “3*26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ORDAR: Todo lo que va en comillas se escribe literalmente y lo que no, se calcula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3B5D-D552-4650-997D-CC6B9712442D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16T18:20:52Z</dcterms:created>
  <dc:creator>BLANCA CECILIA</dc:creator>
  <dc:description/>
  <dc:language>en-US</dc:language>
  <cp:lastModifiedBy> </cp:lastModifiedBy>
  <cp:lastPrinted>1999-04-12T00:41:47Z</cp:lastPrinted>
  <dcterms:modified xsi:type="dcterms:W3CDTF">2008-02-10T09:37:31Z</dcterms:modified>
  <cp:revision>110</cp:revision>
  <dc:subject/>
  <dc:title>Programación de Computadoras I</dc:title>
</cp:coreProperties>
</file>